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75A4-720A-4F92-9937-8AC8598B5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63CB-8027-4778-9662-DF8357A80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Visual novel" to teach middle school students about different forms of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layer, as a presidental hopeful in the land of Din-Robo, must learn about and win over the 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lished by talking with many characters in interactive dialogue scene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one has their own personality and political 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32B2-08E2-46A8-80D0-ABD8E4386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ing story depending on thes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 can improve or wor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s affect / can be affected by story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timate result lies in player's h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novel allows for player 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just controling but -becoming- the candi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ntrol their own des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novels are sca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engine is easy, adding content is infi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 dinosaurs are awesom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0964-FA0F-4D54-9126-F6FC30F7A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d in Ren'py, a Python-based langu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ilor-made to our genre of ga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sy to get started with, and scripting is intu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ython modules written and integrated into Ren'p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7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ows for better coding practi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98E0-6FD5-4829-99E8-5A50ACF7E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122-AA5E-4ECC-AA1F-3255EF91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A67-3811-4FA7-816F-339D9B3F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28F-5F92-43A4-8502-64769628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874-A042-498B-B4B7-4F48C733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4BE-4AB1-49DD-AFE0-AAA67DB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A36-7169-43A2-931D-58805A90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5AA-97FE-406E-9E4E-4BEA6032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D13-23A9-41A4-93FB-F17EC4D2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2E7-3C31-4AC7-9D92-169B3152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9F3-8081-458E-B620-6913936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5ED-3373-4A37-8267-18C3407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582-219E-453B-93AA-AEBD004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F4FA-FFE5-4F45-A388-5202F3CE5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08200" y="6098760"/>
            <a:ext cx="4413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am B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Benson, Alexa, Kimberly, Er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54120" y="6502320"/>
            <a:ext cx="518328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he Only Robot-Dinosaur Government Simulat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Dinocracy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Visual novel" as a teaching t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er interacts with characters to learn about the nation and win the 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352680" y="4495680"/>
            <a:ext cx="34545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" y="304920"/>
            <a:ext cx="9650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eatures of Dinocra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er chooses their daily campaign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06440" y="3200400"/>
            <a:ext cx="9144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eatures of Dinocra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er decides the fate of the natio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711360" y="3543480"/>
            <a:ext cx="8597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000" y="301680"/>
            <a:ext cx="9650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Dinocracy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4440" y="1816200"/>
            <a:ext cx="96472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ual novel allows for player imm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ual novels are scal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bot dinosaurs are awesome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:\Users\Benson\Documents\cs121\placeholder\gramps\confused.png"/>
          <p:cNvPicPr/>
          <p:nvPr/>
        </p:nvPicPr>
        <p:blipFill>
          <a:blip r:embed="rId2"/>
          <a:stretch/>
        </p:blipFill>
        <p:spPr>
          <a:xfrm>
            <a:off x="6070680" y="2392200"/>
            <a:ext cx="304956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000" y="301320"/>
            <a:ext cx="96501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of Dinocra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440" y="1816200"/>
            <a:ext cx="765504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d in Ren'py, a Python-based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ython modules written and integrated into Ren'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574640" y="3048120"/>
            <a:ext cx="618516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7899480" y="228600"/>
            <a:ext cx="1538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6160" y="3454560"/>
            <a:ext cx="964728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Gameplay Dem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000" y="301680"/>
            <a:ext cx="9650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Future of Dinocra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er storyline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(unlockable) characters /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ic / sound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070680" y="609480"/>
            <a:ext cx="400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nosau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689440" y="76212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enson Khau</cp:lastModifiedBy>
  <dcterms:modified xsi:type="dcterms:W3CDTF">2011-03-29T07:33:35Z</dcterms:modified>
  <cp:revision>5</cp:revision>
  <dc:subject/>
  <dc:title>PowerPoint Presentation</dc:title>
</cp:coreProperties>
</file>