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2CCA-4884-4470-B07B-031A5DAB3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E426-E2C7-4A1A-94A0-1CCD85126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Visual novel" to teach middle school students about different forms of gover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layer, as a presidental hopeful in the land of Din-Robo, must learn about and win over the 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lished by talking with many characters in interactive dialogue scenes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one has their own personality and political vi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E8BB-8B13-42BC-875E-311911C6A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ching story depending on these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s can improve or wor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s affect / can be affected by story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ltimate result lies in player's h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34272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novel allows for player imm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7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just controling but -becoming- the candi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7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ntrol their own dest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novels are sca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7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engine is easy, adding content is infin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ot dinosaurs are awesome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FC5D-C075-4CC0-80EB-D98EEAC18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34272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reated in Ren'py, a Python-based langu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7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ailor-made to our genre of ga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7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sy to get started with, and scripting is intui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ython modules written and integrated into Ren'p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7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lows for better coding practi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6353-1E36-4595-BDB2-9245AAB64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DBC-3F4F-4868-BC5A-16F52F6D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8C0D-C9AC-43BF-9D92-92FAA19E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415E-E3E3-48EE-9BF7-1791A0A0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CDDD-D182-45AD-93C2-97E78DD3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3EFB-97FB-42F7-9B7C-5264EE0E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088-8F95-48AC-A8EE-B0AC9F1A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C1E2-A97B-4EE5-A70E-AFC2EB21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596D-BC34-4922-8042-11DACB16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205-E6F4-4FEB-BC10-648D6FF1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A642-FF2D-41B5-A57C-5C79DA16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542-405C-4E97-B422-2FF7FC47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D566-F533-47B5-A771-47CFE472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9F5C-F4CF-40AE-9331-6025E8226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08200" y="6098760"/>
            <a:ext cx="4413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eam BAK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Benson, Alexa, Kimberly, Er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54120" y="6502320"/>
            <a:ext cx="518328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he Only Robot-Dinosaur Government Simulat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is Dinocracy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"Visual novel" as a teaching to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yer interacts with characters to learn about the nation and win the 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3352680" y="4495680"/>
            <a:ext cx="34545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000" y="304920"/>
            <a:ext cx="9650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eatures of Dinocrac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yer chooses their daily campaign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406440" y="3200400"/>
            <a:ext cx="914400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eatures of Dinocrac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yer decides the fate of the natio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711360" y="3543480"/>
            <a:ext cx="85978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000" y="301680"/>
            <a:ext cx="9650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y Dinocracy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4440" y="1816200"/>
            <a:ext cx="9647280" cy="54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sual novel allows for player immer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sual novels are scal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bot dinosaurs are awesome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C:\Users\Benson\Documents\cs121\placeholder\gramps\confused.png"/>
          <p:cNvPicPr/>
          <p:nvPr/>
        </p:nvPicPr>
        <p:blipFill>
          <a:blip r:embed="rId2"/>
          <a:stretch/>
        </p:blipFill>
        <p:spPr>
          <a:xfrm>
            <a:off x="6070680" y="2392200"/>
            <a:ext cx="304956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000" y="301320"/>
            <a:ext cx="9650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of Dinocrac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4440" y="1816200"/>
            <a:ext cx="7655040" cy="54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d in Ren'py, a Python-based langu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ython modules written and integrated into Ren'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1574640" y="3048120"/>
            <a:ext cx="6185160" cy="12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7899480" y="228600"/>
            <a:ext cx="15382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6160" y="3454560"/>
            <a:ext cx="964728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Gameplay Dem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000" y="301680"/>
            <a:ext cx="9650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e Future of Dinocrac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er storyline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(unlockable) characters /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sic / sound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6070680" y="609480"/>
            <a:ext cx="400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r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nosau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5689440" y="762120"/>
            <a:ext cx="400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Benson Khau</cp:lastModifiedBy>
  <dcterms:modified xsi:type="dcterms:W3CDTF">2011-03-29T07:33:35Z</dcterms:modified>
  <cp:revision>5</cp:revision>
  <dc:subject/>
  <dc:title>PowerPoint Presentation</dc:title>
</cp:coreProperties>
</file>