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know if this really 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know if this really 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know if this really 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PERL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use in AC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creating scri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kia"/>
              </a:rPr>
              <a:t>- LTS, B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c5be9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000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8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a21"/>
              </a:buClr>
              <a:buSzPct val="45000"/>
              <a:buFont typeface="Monotype Sort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2364840" y="139680"/>
            <a:ext cx="2583000" cy="21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1600200" y="1218960"/>
            <a:ext cx="312408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066320" y="2666880"/>
            <a:ext cx="312444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019920" y="1515960"/>
            <a:ext cx="1150920" cy="79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019920" y="1307880"/>
            <a:ext cx="239400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228600"/>
            <a:ext cx="8383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come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rogramming Practic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360" y="1676520"/>
            <a:ext cx="8218440" cy="180360"/>
            <a:chOff x="468360" y="1676520"/>
            <a:chExt cx="8218440" cy="180360"/>
          </a:xfrm>
        </p:grpSpPr>
        <p:sp>
          <p:nvSpPr>
            <p:cNvPr id="48" name=""/>
            <p:cNvSpPr/>
            <p:nvPr/>
          </p:nvSpPr>
          <p:spPr>
            <a:xfrm>
              <a:off x="468360" y="16765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360" y="17809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19520" y="9907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the C into C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9718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971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20932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5638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5638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655308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65530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429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51814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3429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142640" y="34290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97180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601992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876920" y="29714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95480" y="297180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297180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6019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43800" y="29714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715000" y="2971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2286000"/>
            <a:ext cx="182880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You aren’t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633840"/>
            <a:ext cx="198144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4724280"/>
            <a:ext cx="16765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733920"/>
            <a:ext cx="7621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304812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4495680"/>
            <a:ext cx="7621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6880" y="5562720"/>
            <a:ext cx="5270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5562720"/>
            <a:ext cx="568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642920" y="2674800"/>
            <a:ext cx="233640" cy="4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24360" y="2673360"/>
            <a:ext cx="371520" cy="11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05480" y="2676600"/>
            <a:ext cx="588960" cy="19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62560" y="2674800"/>
            <a:ext cx="625320" cy="279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3040" y="2674800"/>
            <a:ext cx="717480" cy="296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3240" y="307656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riting clinic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80160" y="5425920"/>
            <a:ext cx="77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nic liaison phon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02200" y="4545000"/>
            <a:ext cx="49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ding chunky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3772080"/>
            <a:ext cx="6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booting knuth (or turing or…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1960" y="559116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talling Debian 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6576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8098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9625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4114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1371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gineering dep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67480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8720" y="660564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dump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99072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niversity of St. Petersbu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676160" y="2285640"/>
            <a:ext cx="2514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480" y="208584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the 405, in traffic, being chased by police (and TV) helicopt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3691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ling something at the Claremont Post Off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99072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iting for the snow enveloping you on Route 5 N to m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3440" y="2603520"/>
            <a:ext cx="225432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45440" y="2776680"/>
            <a:ext cx="84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rispy Kreme’s drive-throu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952880"/>
            <a:ext cx="228600" cy="22860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16680" y="2552400"/>
            <a:ext cx="21924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31520" y="2522520"/>
            <a:ext cx="345924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579132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aching Honors English for Janice Barbee at Pomona High Sch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4280" y="2684520"/>
            <a:ext cx="2103480" cy="308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77040" y="2401920"/>
            <a:ext cx="73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orldcom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400" y="5791320"/>
            <a:ext cx="1219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ing a  Gray Davis / Gary Coleman / Arnold “T-800” Schwarzenegger gubernatorial fundrai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257800" y="213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4600" y="1851120"/>
            <a:ext cx="84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loring martian s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572000"/>
            <a:ext cx="1293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ing dragged off-course 18 miles into a marathon race by a crazed spect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08760" y="2670120"/>
            <a:ext cx="176364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9320" y="61228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ssey University Palmerston North, NZ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666520" y="2666880"/>
            <a:ext cx="175284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638680" y="1106640"/>
            <a:ext cx="1150920" cy="116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24800" y="9637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itts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4080" y="73080"/>
            <a:ext cx="31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iving N on the Dalton Highway… (though it feels like it!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78360" y="990720"/>
            <a:ext cx="176544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838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ctorville, for DARPA's Urban Granc Challe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26040" y="2624040"/>
            <a:ext cx="205128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98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iting in line to vote in the Florida primaries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216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3716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 189 is graded individually..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t’s possible to take it P/F, to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376360"/>
            <a:ext cx="365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ing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2971800"/>
            <a:ext cx="51339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s can be do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y 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uring the sem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ion of algorithms always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ng should b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in t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may use any referen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 existing solution or partial soluti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person should take the lead on each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/cs/ACM/acmSubmit &lt;file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sub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 things out 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560320" y="5994000"/>
            <a:ext cx="1173240" cy="33012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612468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reason for AC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2395800" cy="28191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226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ultipl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9680" y="1452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are worth double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133720"/>
            <a:ext cx="513396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solve them during the 4:15 - 5:30 lab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are the first person to use a particular languag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though there is an additional responsibility here: to set up the testing system to handle that languag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's one of the "extra difficult" problems, which will be determined as we go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43578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anguages already u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51604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team gets credit, up to 3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1880" y="4800600"/>
            <a:ext cx="1600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ython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ruby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java  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4800600"/>
            <a:ext cx="16002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++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erl        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ostscript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4800600"/>
            <a:ext cx="16002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#           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haskell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rolog 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803840"/>
            <a:ext cx="1600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hp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8040" y="6215040"/>
            <a:ext cx="188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These multipliers may be accumulated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9612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468360" y="1038240"/>
            <a:ext cx="8218440" cy="181080"/>
            <a:chOff x="468360" y="1038240"/>
            <a:chExt cx="8218440" cy="181080"/>
          </a:xfrm>
        </p:grpSpPr>
        <p:sp>
          <p:nvSpPr>
            <p:cNvPr id="240" name=""/>
            <p:cNvSpPr/>
            <p:nvPr/>
          </p:nvSpPr>
          <p:spPr>
            <a:xfrm>
              <a:off x="46836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836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5560" y="137304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When a seemingly intractable problem has large amounts of repeated or redundant substructure, DP can sometimes provide an efficient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22860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table of partial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228744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 computation with table look-up whe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5440" y="351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468360" y="1038240"/>
            <a:ext cx="8218440" cy="181080"/>
            <a:chOff x="468360" y="1038240"/>
            <a:chExt cx="8218440" cy="181080"/>
          </a:xfrm>
        </p:grpSpPr>
        <p:sp>
          <p:nvSpPr>
            <p:cNvPr id="248" name=""/>
            <p:cNvSpPr/>
            <p:nvPr/>
          </p:nvSpPr>
          <p:spPr>
            <a:xfrm>
              <a:off x="46836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36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5560" y="137304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When a seemingly intractable problem has large amounts of repeated or redundant substructure, DP can sometimes provide an efficient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22860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table of partial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228744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 computation with table look-up whe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440" y="351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4267080"/>
            <a:ext cx="68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373040" y="5758920"/>
            <a:ext cx="363600" cy="381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97080" y="4829040"/>
            <a:ext cx="138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Numbers,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, up to 10</a:t>
            </a:r>
            <a:r>
              <a:rPr b="0" lang="en-US" sz="1600" spc="-1" strike="noStrike" baseline="42000">
                <a:solidFill>
                  <a:srgbClr val="008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426708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22560" y="617220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0 marks the end of th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661760" y="4905000"/>
            <a:ext cx="515880" cy="198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671480" y="5159520"/>
            <a:ext cx="508320" cy="145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419720"/>
            <a:ext cx="111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4572000"/>
            <a:ext cx="2396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smallest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decimal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multiple of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with only the digi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24280" y="380988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48720" y="624852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de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095800" cy="579132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4908600" y="1038240"/>
            <a:ext cx="3778200" cy="181080"/>
            <a:chOff x="4908600" y="1038240"/>
            <a:chExt cx="3778200" cy="181080"/>
          </a:xfrm>
        </p:grpSpPr>
        <p:sp>
          <p:nvSpPr>
            <p:cNvPr id="268" name=""/>
            <p:cNvSpPr/>
            <p:nvPr/>
          </p:nvSpPr>
          <p:spPr>
            <a:xfrm>
              <a:off x="4908600" y="1038240"/>
              <a:ext cx="37782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08600" y="1143000"/>
              <a:ext cx="37782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141880" y="152280"/>
            <a:ext cx="34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327672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unt up to the solution, starting from 1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57440" y="3282840"/>
            <a:ext cx="301680" cy="133560"/>
          </a:xfrm>
          <a:custGeom>
            <a:avLst/>
            <a:gdLst/>
            <a:ahLst/>
            <a:rect l="l" t="t" r="r" b="b"/>
            <a:pathLst>
              <a:path w="837" h="370">
                <a:moveTo>
                  <a:pt x="4605" y="9155"/>
                </a:moveTo>
                <a:cubicBezTo>
                  <a:pt x="4626" y="9140"/>
                  <a:pt x="4635" y="9126"/>
                  <a:pt x="4683" y="9158"/>
                </a:cubicBezTo>
                <a:cubicBezTo>
                  <a:pt x="4728" y="9188"/>
                  <a:pt x="4748" y="9235"/>
                  <a:pt x="4758" y="9287"/>
                </a:cubicBezTo>
                <a:cubicBezTo>
                  <a:pt x="4768" y="9336"/>
                  <a:pt x="4767" y="9391"/>
                  <a:pt x="4760" y="9440"/>
                </a:cubicBezTo>
                <a:cubicBezTo>
                  <a:pt x="4759" y="9448"/>
                  <a:pt x="4757" y="9457"/>
                  <a:pt x="4756" y="9465"/>
                </a:cubicBezTo>
                <a:cubicBezTo>
                  <a:pt x="4758" y="9417"/>
                  <a:pt x="4772" y="9375"/>
                  <a:pt x="4792" y="9331"/>
                </a:cubicBezTo>
                <a:cubicBezTo>
                  <a:pt x="4821" y="9266"/>
                  <a:pt x="4871" y="9182"/>
                  <a:pt x="4933" y="9143"/>
                </a:cubicBezTo>
                <a:cubicBezTo>
                  <a:pt x="4968" y="9121"/>
                  <a:pt x="5011" y="9114"/>
                  <a:pt x="5050" y="9132"/>
                </a:cubicBezTo>
                <a:cubicBezTo>
                  <a:pt x="5141" y="9174"/>
                  <a:pt x="5197" y="9291"/>
                  <a:pt x="5234" y="9378"/>
                </a:cubicBezTo>
                <a:cubicBezTo>
                  <a:pt x="5247" y="9408"/>
                  <a:pt x="5254" y="9445"/>
                  <a:pt x="5280" y="9467"/>
                </a:cubicBezTo>
                <a:cubicBezTo>
                  <a:pt x="5314" y="9497"/>
                  <a:pt x="5355" y="9491"/>
                  <a:pt x="5396" y="9483"/>
                </a:cubicBezTo>
                <a:cubicBezTo>
                  <a:pt x="5411" y="9479"/>
                  <a:pt x="5425" y="9476"/>
                  <a:pt x="5440" y="94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92320" y="4219560"/>
            <a:ext cx="1361880" cy="249120"/>
          </a:xfrm>
          <a:custGeom>
            <a:avLst/>
            <a:gdLst/>
            <a:ahLst/>
            <a:rect l="l" t="t" r="r" b="b"/>
            <a:pathLst>
              <a:path w="3782" h="689">
                <a:moveTo>
                  <a:pt x="3312" y="12406"/>
                </a:moveTo>
                <a:cubicBezTo>
                  <a:pt x="3366" y="12400"/>
                  <a:pt x="3415" y="12386"/>
                  <a:pt x="3470" y="12374"/>
                </a:cubicBezTo>
                <a:cubicBezTo>
                  <a:pt x="3547" y="12357"/>
                  <a:pt x="3629" y="12346"/>
                  <a:pt x="3708" y="12340"/>
                </a:cubicBezTo>
                <a:cubicBezTo>
                  <a:pt x="3838" y="12330"/>
                  <a:pt x="3970" y="12330"/>
                  <a:pt x="4100" y="12330"/>
                </a:cubicBezTo>
                <a:cubicBezTo>
                  <a:pt x="5003" y="12329"/>
                  <a:pt x="5912" y="12300"/>
                  <a:pt x="6814" y="12331"/>
                </a:cubicBezTo>
                <a:cubicBezTo>
                  <a:pt x="6895" y="12334"/>
                  <a:pt x="6956" y="12324"/>
                  <a:pt x="7032" y="12306"/>
                </a:cubicBezTo>
              </a:path>
              <a:path w="3782" h="689">
                <a:moveTo>
                  <a:pt x="6208" y="11772"/>
                </a:moveTo>
                <a:cubicBezTo>
                  <a:pt x="6250" y="11750"/>
                  <a:pt x="6275" y="11765"/>
                  <a:pt x="6313" y="11799"/>
                </a:cubicBezTo>
                <a:cubicBezTo>
                  <a:pt x="6338" y="11821"/>
                  <a:pt x="6355" y="11854"/>
                  <a:pt x="6371" y="11883"/>
                </a:cubicBezTo>
                <a:cubicBezTo>
                  <a:pt x="6389" y="11915"/>
                  <a:pt x="6403" y="11948"/>
                  <a:pt x="6416" y="11982"/>
                </a:cubicBezTo>
                <a:cubicBezTo>
                  <a:pt x="6428" y="12014"/>
                  <a:pt x="6441" y="12048"/>
                  <a:pt x="6449" y="12082"/>
                </a:cubicBezTo>
                <a:cubicBezTo>
                  <a:pt x="6455" y="12110"/>
                  <a:pt x="6453" y="12102"/>
                  <a:pt x="6455" y="12131"/>
                </a:cubicBezTo>
                <a:cubicBezTo>
                  <a:pt x="6461" y="12025"/>
                  <a:pt x="6479" y="11922"/>
                  <a:pt x="6554" y="11842"/>
                </a:cubicBezTo>
                <a:cubicBezTo>
                  <a:pt x="6591" y="11803"/>
                  <a:pt x="6639" y="11766"/>
                  <a:pt x="6688" y="11743"/>
                </a:cubicBezTo>
                <a:cubicBezTo>
                  <a:pt x="6726" y="11725"/>
                  <a:pt x="6768" y="11720"/>
                  <a:pt x="6809" y="11727"/>
                </a:cubicBezTo>
                <a:cubicBezTo>
                  <a:pt x="6851" y="11734"/>
                  <a:pt x="6887" y="11758"/>
                  <a:pt x="6914" y="11791"/>
                </a:cubicBezTo>
                <a:cubicBezTo>
                  <a:pt x="6941" y="11824"/>
                  <a:pt x="6960" y="11867"/>
                  <a:pt x="6974" y="11908"/>
                </a:cubicBezTo>
                <a:cubicBezTo>
                  <a:pt x="6984" y="11937"/>
                  <a:pt x="6989" y="12031"/>
                  <a:pt x="7017" y="12049"/>
                </a:cubicBezTo>
                <a:cubicBezTo>
                  <a:pt x="7049" y="12070"/>
                  <a:pt x="7068" y="12047"/>
                  <a:pt x="7093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38880" y="1387440"/>
            <a:ext cx="622080" cy="1900440"/>
          </a:xfrm>
          <a:custGeom>
            <a:avLst/>
            <a:gdLst/>
            <a:ahLst/>
            <a:rect l="l" t="t" r="r" b="b"/>
            <a:pathLst>
              <a:path w="1727" h="5280">
                <a:moveTo>
                  <a:pt x="15935" y="3928"/>
                </a:moveTo>
                <a:cubicBezTo>
                  <a:pt x="15913" y="3883"/>
                  <a:pt x="15938" y="3842"/>
                  <a:pt x="15863" y="3853"/>
                </a:cubicBezTo>
                <a:cubicBezTo>
                  <a:pt x="15791" y="3863"/>
                  <a:pt x="15725" y="3933"/>
                  <a:pt x="15677" y="3981"/>
                </a:cubicBezTo>
                <a:cubicBezTo>
                  <a:pt x="15610" y="4047"/>
                  <a:pt x="15554" y="4123"/>
                  <a:pt x="15498" y="4199"/>
                </a:cubicBezTo>
                <a:cubicBezTo>
                  <a:pt x="15406" y="4325"/>
                  <a:pt x="15303" y="4473"/>
                  <a:pt x="15304" y="4636"/>
                </a:cubicBezTo>
                <a:cubicBezTo>
                  <a:pt x="15304" y="4716"/>
                  <a:pt x="15334" y="4788"/>
                  <a:pt x="15386" y="4847"/>
                </a:cubicBezTo>
                <a:cubicBezTo>
                  <a:pt x="15508" y="4985"/>
                  <a:pt x="15711" y="5018"/>
                  <a:pt x="15885" y="5017"/>
                </a:cubicBezTo>
                <a:cubicBezTo>
                  <a:pt x="15975" y="5016"/>
                  <a:pt x="16065" y="5003"/>
                  <a:pt x="16149" y="4971"/>
                </a:cubicBezTo>
                <a:cubicBezTo>
                  <a:pt x="16230" y="4941"/>
                  <a:pt x="16293" y="4889"/>
                  <a:pt x="16345" y="4821"/>
                </a:cubicBezTo>
                <a:cubicBezTo>
                  <a:pt x="16397" y="4753"/>
                  <a:pt x="16423" y="4671"/>
                  <a:pt x="16438" y="4588"/>
                </a:cubicBezTo>
                <a:cubicBezTo>
                  <a:pt x="16458" y="4480"/>
                  <a:pt x="16454" y="4362"/>
                  <a:pt x="16432" y="4255"/>
                </a:cubicBezTo>
                <a:cubicBezTo>
                  <a:pt x="16409" y="4139"/>
                  <a:pt x="16364" y="4025"/>
                  <a:pt x="16251" y="3972"/>
                </a:cubicBezTo>
                <a:cubicBezTo>
                  <a:pt x="16099" y="3900"/>
                  <a:pt x="15916" y="3941"/>
                  <a:pt x="15788" y="4038"/>
                </a:cubicBezTo>
              </a:path>
              <a:path w="1727" h="5280">
                <a:moveTo>
                  <a:pt x="15561" y="5664"/>
                </a:moveTo>
                <a:cubicBezTo>
                  <a:pt x="15579" y="5690"/>
                  <a:pt x="15607" y="5662"/>
                  <a:pt x="15639" y="5638"/>
                </a:cubicBezTo>
                <a:cubicBezTo>
                  <a:pt x="15670" y="5615"/>
                  <a:pt x="15705" y="5590"/>
                  <a:pt x="15733" y="5564"/>
                </a:cubicBezTo>
                <a:cubicBezTo>
                  <a:pt x="15761" y="5538"/>
                  <a:pt x="15788" y="5507"/>
                  <a:pt x="15811" y="5476"/>
                </a:cubicBezTo>
                <a:cubicBezTo>
                  <a:pt x="15832" y="5448"/>
                  <a:pt x="15846" y="5415"/>
                  <a:pt x="15857" y="5382"/>
                </a:cubicBezTo>
                <a:cubicBezTo>
                  <a:pt x="15852" y="5420"/>
                  <a:pt x="15846" y="5459"/>
                  <a:pt x="15843" y="5497"/>
                </a:cubicBezTo>
                <a:cubicBezTo>
                  <a:pt x="15839" y="5552"/>
                  <a:pt x="15837" y="5608"/>
                  <a:pt x="15836" y="5663"/>
                </a:cubicBezTo>
                <a:cubicBezTo>
                  <a:pt x="15835" y="5733"/>
                  <a:pt x="15834" y="5803"/>
                  <a:pt x="15831" y="5873"/>
                </a:cubicBezTo>
                <a:cubicBezTo>
                  <a:pt x="15828" y="5937"/>
                  <a:pt x="15824" y="6001"/>
                  <a:pt x="15817" y="6065"/>
                </a:cubicBezTo>
                <a:cubicBezTo>
                  <a:pt x="15811" y="6122"/>
                  <a:pt x="15803" y="6180"/>
                  <a:pt x="15798" y="6237"/>
                </a:cubicBezTo>
                <a:cubicBezTo>
                  <a:pt x="15795" y="6275"/>
                  <a:pt x="15808" y="6276"/>
                  <a:pt x="15774" y="6271"/>
                </a:cubicBezTo>
              </a:path>
              <a:path w="1727" h="5280">
                <a:moveTo>
                  <a:pt x="15391" y="6479"/>
                </a:moveTo>
                <a:cubicBezTo>
                  <a:pt x="15393" y="6435"/>
                  <a:pt x="15410" y="6404"/>
                  <a:pt x="15459" y="6386"/>
                </a:cubicBezTo>
                <a:cubicBezTo>
                  <a:pt x="15509" y="6368"/>
                  <a:pt x="15572" y="6368"/>
                  <a:pt x="15624" y="6370"/>
                </a:cubicBezTo>
                <a:cubicBezTo>
                  <a:pt x="15707" y="6374"/>
                  <a:pt x="15792" y="6387"/>
                  <a:pt x="15874" y="6400"/>
                </a:cubicBezTo>
                <a:cubicBezTo>
                  <a:pt x="15944" y="6411"/>
                  <a:pt x="16012" y="6426"/>
                  <a:pt x="16080" y="6446"/>
                </a:cubicBezTo>
                <a:cubicBezTo>
                  <a:pt x="16113" y="6456"/>
                  <a:pt x="16154" y="6484"/>
                  <a:pt x="16186" y="6489"/>
                </a:cubicBezTo>
                <a:cubicBezTo>
                  <a:pt x="16193" y="6488"/>
                  <a:pt x="16200" y="6487"/>
                  <a:pt x="16207" y="6486"/>
                </a:cubicBezTo>
              </a:path>
              <a:path w="1727" h="5280">
                <a:moveTo>
                  <a:pt x="15135" y="7230"/>
                </a:moveTo>
                <a:cubicBezTo>
                  <a:pt x="15153" y="7233"/>
                  <a:pt x="15153" y="7245"/>
                  <a:pt x="15195" y="7223"/>
                </a:cubicBezTo>
                <a:cubicBezTo>
                  <a:pt x="15248" y="7195"/>
                  <a:pt x="15292" y="7156"/>
                  <a:pt x="15337" y="7117"/>
                </a:cubicBezTo>
                <a:cubicBezTo>
                  <a:pt x="15394" y="7067"/>
                  <a:pt x="15445" y="7012"/>
                  <a:pt x="15498" y="6958"/>
                </a:cubicBezTo>
                <a:cubicBezTo>
                  <a:pt x="15528" y="6927"/>
                  <a:pt x="15554" y="6894"/>
                  <a:pt x="15587" y="6865"/>
                </a:cubicBezTo>
                <a:cubicBezTo>
                  <a:pt x="15583" y="6920"/>
                  <a:pt x="15572" y="6974"/>
                  <a:pt x="15563" y="7029"/>
                </a:cubicBezTo>
                <a:cubicBezTo>
                  <a:pt x="15547" y="7125"/>
                  <a:pt x="15532" y="7221"/>
                  <a:pt x="15517" y="7317"/>
                </a:cubicBezTo>
                <a:cubicBezTo>
                  <a:pt x="15503" y="7408"/>
                  <a:pt x="15497" y="7500"/>
                  <a:pt x="15485" y="7591"/>
                </a:cubicBezTo>
                <a:cubicBezTo>
                  <a:pt x="15478" y="7639"/>
                  <a:pt x="15483" y="7700"/>
                  <a:pt x="15458" y="7743"/>
                </a:cubicBezTo>
                <a:cubicBezTo>
                  <a:pt x="15444" y="7761"/>
                  <a:pt x="15440" y="7767"/>
                  <a:pt x="15423" y="7766"/>
                </a:cubicBezTo>
              </a:path>
              <a:path w="1727" h="5280">
                <a:moveTo>
                  <a:pt x="15211" y="7784"/>
                </a:moveTo>
                <a:cubicBezTo>
                  <a:pt x="15178" y="7792"/>
                  <a:pt x="15119" y="7802"/>
                  <a:pt x="15109" y="7844"/>
                </a:cubicBezTo>
                <a:cubicBezTo>
                  <a:pt x="15098" y="7887"/>
                  <a:pt x="15153" y="7916"/>
                  <a:pt x="15183" y="7930"/>
                </a:cubicBezTo>
                <a:cubicBezTo>
                  <a:pt x="15255" y="7963"/>
                  <a:pt x="15336" y="7973"/>
                  <a:pt x="15414" y="7975"/>
                </a:cubicBezTo>
                <a:cubicBezTo>
                  <a:pt x="15512" y="7978"/>
                  <a:pt x="15600" y="7947"/>
                  <a:pt x="15691" y="7914"/>
                </a:cubicBezTo>
              </a:path>
              <a:path w="1727" h="5280">
                <a:moveTo>
                  <a:pt x="16321" y="7138"/>
                </a:moveTo>
                <a:cubicBezTo>
                  <a:pt x="16334" y="7085"/>
                  <a:pt x="16339" y="7089"/>
                  <a:pt x="16305" y="7050"/>
                </a:cubicBezTo>
                <a:cubicBezTo>
                  <a:pt x="16241" y="7070"/>
                  <a:pt x="16204" y="7104"/>
                  <a:pt x="16157" y="7152"/>
                </a:cubicBezTo>
                <a:cubicBezTo>
                  <a:pt x="16077" y="7234"/>
                  <a:pt x="16019" y="7330"/>
                  <a:pt x="15970" y="7434"/>
                </a:cubicBezTo>
                <a:cubicBezTo>
                  <a:pt x="15931" y="7516"/>
                  <a:pt x="15892" y="7622"/>
                  <a:pt x="15923" y="7713"/>
                </a:cubicBezTo>
                <a:cubicBezTo>
                  <a:pt x="15952" y="7798"/>
                  <a:pt x="16053" y="7801"/>
                  <a:pt x="16127" y="7788"/>
                </a:cubicBezTo>
                <a:cubicBezTo>
                  <a:pt x="16246" y="7767"/>
                  <a:pt x="16370" y="7701"/>
                  <a:pt x="16465" y="7628"/>
                </a:cubicBezTo>
                <a:cubicBezTo>
                  <a:pt x="16556" y="7559"/>
                  <a:pt x="16645" y="7463"/>
                  <a:pt x="16674" y="7350"/>
                </a:cubicBezTo>
                <a:cubicBezTo>
                  <a:pt x="16697" y="7260"/>
                  <a:pt x="16666" y="7165"/>
                  <a:pt x="16596" y="7105"/>
                </a:cubicBezTo>
                <a:cubicBezTo>
                  <a:pt x="16528" y="7047"/>
                  <a:pt x="16426" y="7020"/>
                  <a:pt x="16338" y="7023"/>
                </a:cubicBezTo>
                <a:cubicBezTo>
                  <a:pt x="16252" y="7026"/>
                  <a:pt x="16199" y="7069"/>
                  <a:pt x="16139" y="7124"/>
                </a:cubicBezTo>
              </a:path>
              <a:path w="1727" h="5280">
                <a:moveTo>
                  <a:pt x="15159" y="8707"/>
                </a:moveTo>
                <a:cubicBezTo>
                  <a:pt x="15152" y="8732"/>
                  <a:pt x="15149" y="8738"/>
                  <a:pt x="15154" y="8755"/>
                </a:cubicBezTo>
                <a:cubicBezTo>
                  <a:pt x="15190" y="8702"/>
                  <a:pt x="15236" y="8662"/>
                  <a:pt x="15281" y="8615"/>
                </a:cubicBezTo>
                <a:cubicBezTo>
                  <a:pt x="15352" y="8541"/>
                  <a:pt x="15424" y="8468"/>
                  <a:pt x="15496" y="8395"/>
                </a:cubicBezTo>
                <a:cubicBezTo>
                  <a:pt x="15553" y="8337"/>
                  <a:pt x="15612" y="8281"/>
                  <a:pt x="15670" y="8224"/>
                </a:cubicBezTo>
                <a:cubicBezTo>
                  <a:pt x="15693" y="8201"/>
                  <a:pt x="15699" y="8194"/>
                  <a:pt x="15720" y="8188"/>
                </a:cubicBezTo>
                <a:cubicBezTo>
                  <a:pt x="15714" y="8259"/>
                  <a:pt x="15699" y="8325"/>
                  <a:pt x="15686" y="8395"/>
                </a:cubicBezTo>
                <a:cubicBezTo>
                  <a:pt x="15663" y="8516"/>
                  <a:pt x="15677" y="8981"/>
                  <a:pt x="15583" y="9059"/>
                </a:cubicBezTo>
                <a:cubicBezTo>
                  <a:pt x="15577" y="9060"/>
                  <a:pt x="15571" y="9061"/>
                  <a:pt x="15565" y="9062"/>
                </a:cubicBezTo>
              </a:path>
              <a:path w="1727" h="5280">
                <a:moveTo>
                  <a:pt x="15299" y="9040"/>
                </a:moveTo>
                <a:cubicBezTo>
                  <a:pt x="15292" y="9043"/>
                  <a:pt x="15285" y="9047"/>
                  <a:pt x="15278" y="9050"/>
                </a:cubicBezTo>
                <a:cubicBezTo>
                  <a:pt x="15294" y="9102"/>
                  <a:pt x="15343" y="9105"/>
                  <a:pt x="15405" y="9114"/>
                </a:cubicBezTo>
                <a:cubicBezTo>
                  <a:pt x="15473" y="9124"/>
                  <a:pt x="15541" y="9130"/>
                  <a:pt x="15610" y="9131"/>
                </a:cubicBezTo>
                <a:cubicBezTo>
                  <a:pt x="15666" y="9132"/>
                  <a:pt x="15722" y="9126"/>
                  <a:pt x="15774" y="9102"/>
                </a:cubicBezTo>
                <a:cubicBezTo>
                  <a:pt x="15810" y="9081"/>
                  <a:pt x="15823" y="9073"/>
                  <a:pt x="15848" y="9060"/>
                </a:cubicBezTo>
              </a:path>
              <a:path w="1727" h="5280">
                <a:moveTo>
                  <a:pt x="16267" y="8351"/>
                </a:moveTo>
                <a:cubicBezTo>
                  <a:pt x="16252" y="8284"/>
                  <a:pt x="16229" y="8308"/>
                  <a:pt x="16270" y="8242"/>
                </a:cubicBezTo>
                <a:cubicBezTo>
                  <a:pt x="16303" y="8190"/>
                  <a:pt x="16350" y="8141"/>
                  <a:pt x="16391" y="8096"/>
                </a:cubicBezTo>
                <a:cubicBezTo>
                  <a:pt x="16435" y="8048"/>
                  <a:pt x="16480" y="8000"/>
                  <a:pt x="16527" y="7955"/>
                </a:cubicBezTo>
                <a:cubicBezTo>
                  <a:pt x="16549" y="7935"/>
                  <a:pt x="16556" y="7928"/>
                  <a:pt x="16578" y="7927"/>
                </a:cubicBezTo>
                <a:cubicBezTo>
                  <a:pt x="16578" y="8011"/>
                  <a:pt x="16561" y="8087"/>
                  <a:pt x="16546" y="8170"/>
                </a:cubicBezTo>
                <a:cubicBezTo>
                  <a:pt x="16497" y="8433"/>
                  <a:pt x="16436" y="8695"/>
                  <a:pt x="16370" y="8954"/>
                </a:cubicBezTo>
                <a:cubicBezTo>
                  <a:pt x="16361" y="8988"/>
                  <a:pt x="16355" y="9040"/>
                  <a:pt x="16315" y="9044"/>
                </a:cubicBezTo>
                <a:cubicBezTo>
                  <a:pt x="16268" y="9049"/>
                  <a:pt x="16216" y="8994"/>
                  <a:pt x="16182" y="8970"/>
                </a:cubicBezTo>
                <a:cubicBezTo>
                  <a:pt x="16157" y="8952"/>
                  <a:pt x="16131" y="8937"/>
                  <a:pt x="16105" y="8921"/>
                </a:cubicBezTo>
                <a:cubicBezTo>
                  <a:pt x="16169" y="8934"/>
                  <a:pt x="16229" y="8957"/>
                  <a:pt x="16293" y="8973"/>
                </a:cubicBezTo>
                <a:cubicBezTo>
                  <a:pt x="16385" y="8995"/>
                  <a:pt x="16479" y="9017"/>
                  <a:pt x="16574" y="9025"/>
                </a:cubicBezTo>
                <a:cubicBezTo>
                  <a:pt x="16639" y="9031"/>
                  <a:pt x="16710" y="9033"/>
                  <a:pt x="16775" y="9023"/>
                </a:cubicBezTo>
                <a:cubicBezTo>
                  <a:pt x="16807" y="9016"/>
                  <a:pt x="16816" y="9014"/>
                  <a:pt x="16835" y="90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276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ng intermediate results in a table for fast look-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put N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25146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ssible remainders upon dividing by N 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45943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# of digits in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209680" y="3352680"/>
          <a:ext cx="5715000" cy="325116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200"/>
                <a:gridCol w="952560"/>
                <a:gridCol w="952200"/>
                <a:gridCol w="9529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25207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7940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3988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036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6084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213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8600" y="435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8600" y="354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8600" y="516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8600" y="598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295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ng intermediate results in a table for fast look-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put N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25146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ssible remainders upon dividing by N 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45943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# of digits in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09680" y="3352680"/>
          <a:ext cx="5715000" cy="325116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200"/>
                <a:gridCol w="952560"/>
                <a:gridCol w="952200"/>
                <a:gridCol w="9529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25207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7940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988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0036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6084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213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8600" y="435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8600" y="354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8600" y="516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8600" y="598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37640" y="342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4397400"/>
            <a:ext cx="355680" cy="365040"/>
          </a:xfrm>
          <a:custGeom>
            <a:avLst/>
            <a:gdLst/>
            <a:ahLst/>
            <a:rect l="l" t="t" r="r" b="b"/>
            <a:pathLst>
              <a:path w="986" h="1016">
                <a:moveTo>
                  <a:pt x="17149" y="12354"/>
                </a:moveTo>
                <a:cubicBezTo>
                  <a:pt x="17167" y="12303"/>
                  <a:pt x="17180" y="12408"/>
                  <a:pt x="17184" y="12432"/>
                </a:cubicBezTo>
                <a:cubicBezTo>
                  <a:pt x="17225" y="12670"/>
                  <a:pt x="17230" y="12913"/>
                  <a:pt x="17217" y="13154"/>
                </a:cubicBezTo>
                <a:cubicBezTo>
                  <a:pt x="17216" y="13181"/>
                  <a:pt x="17189" y="13278"/>
                  <a:pt x="17223" y="13189"/>
                </a:cubicBezTo>
              </a:path>
              <a:path w="986" h="1016">
                <a:moveTo>
                  <a:pt x="17616" y="12474"/>
                </a:moveTo>
                <a:cubicBezTo>
                  <a:pt x="17633" y="12447"/>
                  <a:pt x="17638" y="12441"/>
                  <a:pt x="17643" y="12422"/>
                </a:cubicBezTo>
                <a:cubicBezTo>
                  <a:pt x="17603" y="12479"/>
                  <a:pt x="17577" y="12527"/>
                  <a:pt x="17553" y="12594"/>
                </a:cubicBezTo>
                <a:cubicBezTo>
                  <a:pt x="17506" y="12726"/>
                  <a:pt x="17466" y="12871"/>
                  <a:pt x="17474" y="13013"/>
                </a:cubicBezTo>
                <a:cubicBezTo>
                  <a:pt x="17478" y="13081"/>
                  <a:pt x="17496" y="13184"/>
                  <a:pt x="17571" y="13210"/>
                </a:cubicBezTo>
                <a:cubicBezTo>
                  <a:pt x="17654" y="13239"/>
                  <a:pt x="17753" y="13175"/>
                  <a:pt x="17816" y="13130"/>
                </a:cubicBezTo>
                <a:cubicBezTo>
                  <a:pt x="18018" y="12985"/>
                  <a:pt x="18155" y="12726"/>
                  <a:pt x="18128" y="12475"/>
                </a:cubicBezTo>
                <a:cubicBezTo>
                  <a:pt x="18115" y="12352"/>
                  <a:pt x="18057" y="12255"/>
                  <a:pt x="17934" y="12224"/>
                </a:cubicBezTo>
                <a:cubicBezTo>
                  <a:pt x="17864" y="12206"/>
                  <a:pt x="17755" y="12222"/>
                  <a:pt x="17701" y="12277"/>
                </a:cubicBezTo>
                <a:cubicBezTo>
                  <a:pt x="17697" y="12284"/>
                  <a:pt x="17694" y="12291"/>
                  <a:pt x="17690" y="122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15120" y="4419720"/>
            <a:ext cx="15840" cy="301680"/>
          </a:xfrm>
          <a:custGeom>
            <a:avLst/>
            <a:gdLst/>
            <a:ahLst/>
            <a:rect l="l" t="t" r="r" b="b"/>
            <a:pathLst>
              <a:path w="44" h="841">
                <a:moveTo>
                  <a:pt x="20062" y="12275"/>
                </a:moveTo>
                <a:cubicBezTo>
                  <a:pt x="20038" y="12327"/>
                  <a:pt x="20045" y="12376"/>
                  <a:pt x="20047" y="12435"/>
                </a:cubicBezTo>
                <a:cubicBezTo>
                  <a:pt x="20055" y="12635"/>
                  <a:pt x="20063" y="12836"/>
                  <a:pt x="20075" y="13036"/>
                </a:cubicBezTo>
                <a:cubicBezTo>
                  <a:pt x="20076" y="13051"/>
                  <a:pt x="20070" y="13156"/>
                  <a:pt x="20080" y="13087"/>
                </a:cubicBezTo>
                <a:cubicBezTo>
                  <a:pt x="20082" y="13076"/>
                  <a:pt x="20085" y="13064"/>
                  <a:pt x="20087" y="130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69200" y="4317840"/>
            <a:ext cx="74520" cy="447840"/>
          </a:xfrm>
          <a:custGeom>
            <a:avLst/>
            <a:gdLst/>
            <a:ahLst/>
            <a:rect l="l" t="t" r="r" b="b"/>
            <a:pathLst>
              <a:path w="207" h="1246">
                <a:moveTo>
                  <a:pt x="20472" y="12053"/>
                </a:moveTo>
                <a:cubicBezTo>
                  <a:pt x="20496" y="12027"/>
                  <a:pt x="20539" y="11961"/>
                  <a:pt x="20578" y="12011"/>
                </a:cubicBezTo>
                <a:cubicBezTo>
                  <a:pt x="20625" y="12072"/>
                  <a:pt x="20610" y="12183"/>
                  <a:pt x="20609" y="12252"/>
                </a:cubicBezTo>
                <a:cubicBezTo>
                  <a:pt x="20606" y="12399"/>
                  <a:pt x="20589" y="12545"/>
                  <a:pt x="20585" y="12692"/>
                </a:cubicBezTo>
                <a:cubicBezTo>
                  <a:pt x="20581" y="12818"/>
                  <a:pt x="20580" y="12948"/>
                  <a:pt x="20605" y="13072"/>
                </a:cubicBezTo>
                <a:cubicBezTo>
                  <a:pt x="20618" y="13137"/>
                  <a:pt x="20632" y="13193"/>
                  <a:pt x="20678" y="132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00840" y="5011560"/>
            <a:ext cx="625320" cy="198720"/>
          </a:xfrm>
          <a:custGeom>
            <a:avLst/>
            <a:gdLst/>
            <a:ahLst/>
            <a:rect l="l" t="t" r="r" b="b"/>
            <a:pathLst>
              <a:path w="1739" h="554">
                <a:moveTo>
                  <a:pt x="16963" y="14039"/>
                </a:moveTo>
                <a:cubicBezTo>
                  <a:pt x="16953" y="14011"/>
                  <a:pt x="16943" y="13983"/>
                  <a:pt x="16931" y="13956"/>
                </a:cubicBezTo>
                <a:cubicBezTo>
                  <a:pt x="16923" y="13938"/>
                  <a:pt x="16921" y="13932"/>
                  <a:pt x="16917" y="13920"/>
                </a:cubicBezTo>
                <a:cubicBezTo>
                  <a:pt x="16901" y="13957"/>
                  <a:pt x="16892" y="13995"/>
                  <a:pt x="16883" y="14035"/>
                </a:cubicBezTo>
                <a:cubicBezTo>
                  <a:pt x="16865" y="14120"/>
                  <a:pt x="16851" y="14206"/>
                  <a:pt x="16844" y="14293"/>
                </a:cubicBezTo>
                <a:cubicBezTo>
                  <a:pt x="16841" y="14335"/>
                  <a:pt x="16843" y="14376"/>
                  <a:pt x="16840" y="14418"/>
                </a:cubicBezTo>
              </a:path>
              <a:path w="1739" h="554">
                <a:moveTo>
                  <a:pt x="17156" y="13983"/>
                </a:moveTo>
                <a:cubicBezTo>
                  <a:pt x="17127" y="13964"/>
                  <a:pt x="17094" y="13949"/>
                  <a:pt x="17062" y="13977"/>
                </a:cubicBezTo>
                <a:cubicBezTo>
                  <a:pt x="17023" y="14011"/>
                  <a:pt x="17003" y="14055"/>
                  <a:pt x="16994" y="14105"/>
                </a:cubicBezTo>
                <a:cubicBezTo>
                  <a:pt x="16984" y="14162"/>
                  <a:pt x="16986" y="14225"/>
                  <a:pt x="17000" y="14282"/>
                </a:cubicBezTo>
                <a:cubicBezTo>
                  <a:pt x="17012" y="14332"/>
                  <a:pt x="17040" y="14389"/>
                  <a:pt x="17088" y="14414"/>
                </a:cubicBezTo>
                <a:cubicBezTo>
                  <a:pt x="17140" y="14441"/>
                  <a:pt x="17198" y="14423"/>
                  <a:pt x="17246" y="14397"/>
                </a:cubicBezTo>
                <a:cubicBezTo>
                  <a:pt x="17318" y="14357"/>
                  <a:pt x="17384" y="14291"/>
                  <a:pt x="17420" y="14217"/>
                </a:cubicBezTo>
                <a:cubicBezTo>
                  <a:pt x="17446" y="14164"/>
                  <a:pt x="17450" y="14102"/>
                  <a:pt x="17402" y="14061"/>
                </a:cubicBezTo>
                <a:cubicBezTo>
                  <a:pt x="17367" y="14031"/>
                  <a:pt x="17315" y="14026"/>
                  <a:pt x="17271" y="14029"/>
                </a:cubicBezTo>
                <a:cubicBezTo>
                  <a:pt x="17221" y="14033"/>
                  <a:pt x="17189" y="14048"/>
                  <a:pt x="17149" y="14075"/>
                </a:cubicBezTo>
              </a:path>
              <a:path w="1739" h="554">
                <a:moveTo>
                  <a:pt x="17748" y="13971"/>
                </a:moveTo>
                <a:cubicBezTo>
                  <a:pt x="17708" y="13970"/>
                  <a:pt x="17675" y="13968"/>
                  <a:pt x="17636" y="13981"/>
                </a:cubicBezTo>
                <a:cubicBezTo>
                  <a:pt x="17592" y="13996"/>
                  <a:pt x="17554" y="14028"/>
                  <a:pt x="17524" y="14063"/>
                </a:cubicBezTo>
                <a:cubicBezTo>
                  <a:pt x="17488" y="14105"/>
                  <a:pt x="17464" y="14155"/>
                  <a:pt x="17456" y="14210"/>
                </a:cubicBezTo>
                <a:cubicBezTo>
                  <a:pt x="17448" y="14261"/>
                  <a:pt x="17452" y="14313"/>
                  <a:pt x="17485" y="14355"/>
                </a:cubicBezTo>
                <a:cubicBezTo>
                  <a:pt x="17520" y="14399"/>
                  <a:pt x="17577" y="14411"/>
                  <a:pt x="17630" y="14403"/>
                </a:cubicBezTo>
                <a:cubicBezTo>
                  <a:pt x="17736" y="14388"/>
                  <a:pt x="17852" y="14323"/>
                  <a:pt x="17921" y="14242"/>
                </a:cubicBezTo>
                <a:cubicBezTo>
                  <a:pt x="17956" y="14201"/>
                  <a:pt x="17977" y="14154"/>
                  <a:pt x="17945" y="14105"/>
                </a:cubicBezTo>
                <a:cubicBezTo>
                  <a:pt x="17913" y="14055"/>
                  <a:pt x="17846" y="14024"/>
                  <a:pt x="17794" y="14000"/>
                </a:cubicBezTo>
                <a:cubicBezTo>
                  <a:pt x="17762" y="13985"/>
                  <a:pt x="17727" y="13974"/>
                  <a:pt x="17694" y="13961"/>
                </a:cubicBezTo>
              </a:path>
              <a:path w="1739" h="554">
                <a:moveTo>
                  <a:pt x="18189" y="14029"/>
                </a:moveTo>
                <a:cubicBezTo>
                  <a:pt x="18214" y="13993"/>
                  <a:pt x="18239" y="13946"/>
                  <a:pt x="18282" y="13929"/>
                </a:cubicBezTo>
                <a:cubicBezTo>
                  <a:pt x="18323" y="13913"/>
                  <a:pt x="18350" y="13938"/>
                  <a:pt x="18349" y="13978"/>
                </a:cubicBezTo>
                <a:cubicBezTo>
                  <a:pt x="18348" y="14019"/>
                  <a:pt x="18325" y="14066"/>
                  <a:pt x="18307" y="14102"/>
                </a:cubicBezTo>
                <a:cubicBezTo>
                  <a:pt x="18286" y="14142"/>
                  <a:pt x="18257" y="14180"/>
                  <a:pt x="18241" y="14222"/>
                </a:cubicBezTo>
                <a:cubicBezTo>
                  <a:pt x="18239" y="14230"/>
                  <a:pt x="18237" y="14238"/>
                  <a:pt x="18235" y="14246"/>
                </a:cubicBezTo>
              </a:path>
              <a:path w="1739" h="554">
                <a:moveTo>
                  <a:pt x="18301" y="14455"/>
                </a:moveTo>
                <a:cubicBezTo>
                  <a:pt x="18302" y="14461"/>
                  <a:pt x="18303" y="14467"/>
                  <a:pt x="18304" y="14473"/>
                </a:cubicBezTo>
              </a:path>
              <a:path w="1739" h="554">
                <a:moveTo>
                  <a:pt x="16988" y="14020"/>
                </a:moveTo>
                <a:cubicBezTo>
                  <a:pt x="16951" y="14019"/>
                  <a:pt x="16917" y="14023"/>
                  <a:pt x="16879" y="14026"/>
                </a:cubicBezTo>
                <a:cubicBezTo>
                  <a:pt x="16850" y="14028"/>
                  <a:pt x="16821" y="14031"/>
                  <a:pt x="16792" y="14031"/>
                </a:cubicBezTo>
                <a:cubicBezTo>
                  <a:pt x="16723" y="14031"/>
                  <a:pt x="16710" y="14038"/>
                  <a:pt x="16669" y="14085"/>
                </a:cubicBezTo>
                <a:cubicBezTo>
                  <a:pt x="16706" y="14119"/>
                  <a:pt x="16729" y="14136"/>
                  <a:pt x="16783" y="14147"/>
                </a:cubicBezTo>
                <a:cubicBezTo>
                  <a:pt x="16875" y="14167"/>
                  <a:pt x="16969" y="14173"/>
                  <a:pt x="17063" y="14179"/>
                </a:cubicBezTo>
                <a:cubicBezTo>
                  <a:pt x="17384" y="14198"/>
                  <a:pt x="17705" y="14195"/>
                  <a:pt x="18026" y="14192"/>
                </a:cubicBezTo>
                <a:cubicBezTo>
                  <a:pt x="18130" y="14191"/>
                  <a:pt x="18236" y="14184"/>
                  <a:pt x="18339" y="14201"/>
                </a:cubicBezTo>
                <a:cubicBezTo>
                  <a:pt x="18423" y="14215"/>
                  <a:pt x="18391" y="14204"/>
                  <a:pt x="18375" y="142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6920" y="5019840"/>
            <a:ext cx="439560" cy="174600"/>
          </a:xfrm>
          <a:custGeom>
            <a:avLst/>
            <a:gdLst/>
            <a:ahLst/>
            <a:rect l="l" t="t" r="r" b="b"/>
            <a:pathLst>
              <a:path w="1220" h="486">
                <a:moveTo>
                  <a:pt x="19581" y="13964"/>
                </a:moveTo>
                <a:cubicBezTo>
                  <a:pt x="19593" y="13904"/>
                  <a:pt x="19570" y="14009"/>
                  <a:pt x="19568" y="14017"/>
                </a:cubicBezTo>
                <a:cubicBezTo>
                  <a:pt x="19558" y="14066"/>
                  <a:pt x="19549" y="14115"/>
                  <a:pt x="19542" y="14164"/>
                </a:cubicBezTo>
                <a:cubicBezTo>
                  <a:pt x="19536" y="14207"/>
                  <a:pt x="19527" y="14251"/>
                  <a:pt x="19529" y="14294"/>
                </a:cubicBezTo>
                <a:cubicBezTo>
                  <a:pt x="19532" y="14344"/>
                  <a:pt x="19546" y="14320"/>
                  <a:pt x="19563" y="14298"/>
                </a:cubicBezTo>
              </a:path>
              <a:path w="1220" h="486">
                <a:moveTo>
                  <a:pt x="19638" y="14155"/>
                </a:moveTo>
                <a:cubicBezTo>
                  <a:pt x="19622" y="14196"/>
                  <a:pt x="19619" y="14231"/>
                  <a:pt x="19627" y="14276"/>
                </a:cubicBezTo>
                <a:cubicBezTo>
                  <a:pt x="19636" y="14332"/>
                  <a:pt x="19666" y="14395"/>
                  <a:pt x="19724" y="14414"/>
                </a:cubicBezTo>
                <a:cubicBezTo>
                  <a:pt x="19769" y="14429"/>
                  <a:pt x="19824" y="14404"/>
                  <a:pt x="19860" y="14377"/>
                </a:cubicBezTo>
                <a:cubicBezTo>
                  <a:pt x="19909" y="14340"/>
                  <a:pt x="19938" y="14283"/>
                  <a:pt x="19951" y="14224"/>
                </a:cubicBezTo>
                <a:cubicBezTo>
                  <a:pt x="19964" y="14166"/>
                  <a:pt x="19951" y="14107"/>
                  <a:pt x="19919" y="14058"/>
                </a:cubicBezTo>
                <a:cubicBezTo>
                  <a:pt x="19893" y="14019"/>
                  <a:pt x="19851" y="13993"/>
                  <a:pt x="19808" y="13978"/>
                </a:cubicBezTo>
                <a:cubicBezTo>
                  <a:pt x="19781" y="13971"/>
                  <a:pt x="19771" y="13969"/>
                  <a:pt x="19753" y="13978"/>
                </a:cubicBezTo>
              </a:path>
              <a:path w="1220" h="486">
                <a:moveTo>
                  <a:pt x="20113" y="13993"/>
                </a:moveTo>
                <a:cubicBezTo>
                  <a:pt x="20155" y="14017"/>
                  <a:pt x="20143" y="14021"/>
                  <a:pt x="20136" y="14069"/>
                </a:cubicBezTo>
                <a:cubicBezTo>
                  <a:pt x="20129" y="14118"/>
                  <a:pt x="20126" y="14168"/>
                  <a:pt x="20126" y="14218"/>
                </a:cubicBezTo>
                <a:cubicBezTo>
                  <a:pt x="20126" y="14272"/>
                  <a:pt x="20128" y="14325"/>
                  <a:pt x="20132" y="14379"/>
                </a:cubicBezTo>
                <a:cubicBezTo>
                  <a:pt x="20134" y="14404"/>
                  <a:pt x="20134" y="14412"/>
                  <a:pt x="20137" y="14428"/>
                </a:cubicBezTo>
              </a:path>
              <a:path w="1220" h="486">
                <a:moveTo>
                  <a:pt x="19381" y="14131"/>
                </a:moveTo>
                <a:cubicBezTo>
                  <a:pt x="19353" y="14135"/>
                  <a:pt x="19325" y="14139"/>
                  <a:pt x="19297" y="14142"/>
                </a:cubicBezTo>
                <a:cubicBezTo>
                  <a:pt x="19352" y="14113"/>
                  <a:pt x="19397" y="14113"/>
                  <a:pt x="19461" y="14112"/>
                </a:cubicBezTo>
                <a:cubicBezTo>
                  <a:pt x="19577" y="14109"/>
                  <a:pt x="19692" y="14124"/>
                  <a:pt x="19808" y="14133"/>
                </a:cubicBezTo>
                <a:cubicBezTo>
                  <a:pt x="19945" y="14144"/>
                  <a:pt x="20082" y="14150"/>
                  <a:pt x="20219" y="14155"/>
                </a:cubicBezTo>
                <a:cubicBezTo>
                  <a:pt x="20301" y="14158"/>
                  <a:pt x="20385" y="14150"/>
                  <a:pt x="20466" y="14154"/>
                </a:cubicBezTo>
                <a:cubicBezTo>
                  <a:pt x="20513" y="14156"/>
                  <a:pt x="20527" y="14159"/>
                  <a:pt x="20476" y="141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75280" y="5040360"/>
            <a:ext cx="577800" cy="431640"/>
          </a:xfrm>
          <a:custGeom>
            <a:avLst/>
            <a:gdLst/>
            <a:ahLst/>
            <a:rect l="l" t="t" r="r" b="b"/>
            <a:pathLst>
              <a:path w="1606" h="1199">
                <a:moveTo>
                  <a:pt x="11645" y="14000"/>
                </a:moveTo>
                <a:cubicBezTo>
                  <a:pt x="11612" y="14015"/>
                  <a:pt x="11590" y="14016"/>
                  <a:pt x="11605" y="14056"/>
                </a:cubicBezTo>
                <a:cubicBezTo>
                  <a:pt x="11652" y="14186"/>
                  <a:pt x="11682" y="14305"/>
                  <a:pt x="11685" y="14445"/>
                </a:cubicBezTo>
                <a:cubicBezTo>
                  <a:pt x="11688" y="14617"/>
                  <a:pt x="11688" y="14789"/>
                  <a:pt x="11694" y="14961"/>
                </a:cubicBezTo>
                <a:cubicBezTo>
                  <a:pt x="11692" y="14986"/>
                  <a:pt x="11691" y="14994"/>
                  <a:pt x="11693" y="15011"/>
                </a:cubicBezTo>
              </a:path>
              <a:path w="1606" h="1199">
                <a:moveTo>
                  <a:pt x="12049" y="14106"/>
                </a:moveTo>
                <a:cubicBezTo>
                  <a:pt x="12092" y="14100"/>
                  <a:pt x="12084" y="14128"/>
                  <a:pt x="12087" y="14173"/>
                </a:cubicBezTo>
                <a:cubicBezTo>
                  <a:pt x="12093" y="14250"/>
                  <a:pt x="12103" y="14327"/>
                  <a:pt x="12114" y="14403"/>
                </a:cubicBezTo>
                <a:cubicBezTo>
                  <a:pt x="12130" y="14516"/>
                  <a:pt x="12146" y="14630"/>
                  <a:pt x="12158" y="14744"/>
                </a:cubicBezTo>
                <a:cubicBezTo>
                  <a:pt x="12168" y="14839"/>
                  <a:pt x="12172" y="14935"/>
                  <a:pt x="12177" y="15030"/>
                </a:cubicBezTo>
                <a:cubicBezTo>
                  <a:pt x="12177" y="15033"/>
                  <a:pt x="12172" y="15170"/>
                  <a:pt x="12203" y="15159"/>
                </a:cubicBezTo>
                <a:cubicBezTo>
                  <a:pt x="12215" y="15149"/>
                  <a:pt x="12228" y="15138"/>
                  <a:pt x="12240" y="15128"/>
                </a:cubicBezTo>
              </a:path>
              <a:path w="1606" h="1199">
                <a:moveTo>
                  <a:pt x="12718" y="14367"/>
                </a:moveTo>
                <a:cubicBezTo>
                  <a:pt x="12730" y="14340"/>
                  <a:pt x="12735" y="14333"/>
                  <a:pt x="12728" y="14314"/>
                </a:cubicBezTo>
                <a:cubicBezTo>
                  <a:pt x="12676" y="14284"/>
                  <a:pt x="12646" y="14282"/>
                  <a:pt x="12592" y="14319"/>
                </a:cubicBezTo>
                <a:cubicBezTo>
                  <a:pt x="12521" y="14368"/>
                  <a:pt x="12481" y="14455"/>
                  <a:pt x="12459" y="14536"/>
                </a:cubicBezTo>
                <a:cubicBezTo>
                  <a:pt x="12406" y="14729"/>
                  <a:pt x="12430" y="14972"/>
                  <a:pt x="12586" y="15113"/>
                </a:cubicBezTo>
                <a:cubicBezTo>
                  <a:pt x="12659" y="15179"/>
                  <a:pt x="12766" y="15207"/>
                  <a:pt x="12863" y="15198"/>
                </a:cubicBezTo>
                <a:cubicBezTo>
                  <a:pt x="12960" y="15189"/>
                  <a:pt x="13045" y="15136"/>
                  <a:pt x="13101" y="15057"/>
                </a:cubicBezTo>
                <a:cubicBezTo>
                  <a:pt x="13167" y="14964"/>
                  <a:pt x="13197" y="14848"/>
                  <a:pt x="13201" y="14735"/>
                </a:cubicBezTo>
                <a:cubicBezTo>
                  <a:pt x="13205" y="14610"/>
                  <a:pt x="13184" y="14475"/>
                  <a:pt x="13128" y="14362"/>
                </a:cubicBezTo>
                <a:cubicBezTo>
                  <a:pt x="13074" y="14254"/>
                  <a:pt x="12976" y="14165"/>
                  <a:pt x="12849" y="14189"/>
                </a:cubicBezTo>
                <a:cubicBezTo>
                  <a:pt x="12756" y="14207"/>
                  <a:pt x="12660" y="14262"/>
                  <a:pt x="12584" y="14316"/>
                </a:cubicBezTo>
                <a:cubicBezTo>
                  <a:pt x="12567" y="14330"/>
                  <a:pt x="12549" y="14344"/>
                  <a:pt x="12532" y="143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37200" y="5116680"/>
            <a:ext cx="88920" cy="474480"/>
          </a:xfrm>
          <a:custGeom>
            <a:avLst/>
            <a:gdLst/>
            <a:ahLst/>
            <a:rect l="l" t="t" r="r" b="b"/>
            <a:pathLst>
              <a:path w="246" h="1318">
                <a:moveTo>
                  <a:pt x="14270" y="14224"/>
                </a:moveTo>
                <a:cubicBezTo>
                  <a:pt x="14331" y="14224"/>
                  <a:pt x="14339" y="14255"/>
                  <a:pt x="14363" y="14316"/>
                </a:cubicBezTo>
                <a:cubicBezTo>
                  <a:pt x="14402" y="14415"/>
                  <a:pt x="14421" y="14518"/>
                  <a:pt x="14438" y="14623"/>
                </a:cubicBezTo>
                <a:cubicBezTo>
                  <a:pt x="14460" y="14763"/>
                  <a:pt x="14471" y="14903"/>
                  <a:pt x="14480" y="15044"/>
                </a:cubicBezTo>
                <a:cubicBezTo>
                  <a:pt x="14489" y="15196"/>
                  <a:pt x="14471" y="15362"/>
                  <a:pt x="14493" y="15512"/>
                </a:cubicBezTo>
                <a:cubicBezTo>
                  <a:pt x="14501" y="15565"/>
                  <a:pt x="14515" y="15434"/>
                  <a:pt x="14515" y="154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6560" y="5132520"/>
            <a:ext cx="295200" cy="469800"/>
          </a:xfrm>
          <a:custGeom>
            <a:avLst/>
            <a:gdLst/>
            <a:ahLst/>
            <a:rect l="l" t="t" r="r" b="b"/>
            <a:pathLst>
              <a:path w="819" h="1306">
                <a:moveTo>
                  <a:pt x="15045" y="14278"/>
                </a:moveTo>
                <a:cubicBezTo>
                  <a:pt x="15106" y="14272"/>
                  <a:pt x="15097" y="14300"/>
                  <a:pt x="15102" y="14356"/>
                </a:cubicBezTo>
                <a:cubicBezTo>
                  <a:pt x="15111" y="14465"/>
                  <a:pt x="15111" y="14574"/>
                  <a:pt x="15114" y="14683"/>
                </a:cubicBezTo>
                <a:cubicBezTo>
                  <a:pt x="15118" y="14826"/>
                  <a:pt x="15122" y="14968"/>
                  <a:pt x="15134" y="15110"/>
                </a:cubicBezTo>
                <a:cubicBezTo>
                  <a:pt x="15144" y="15219"/>
                  <a:pt x="15157" y="15330"/>
                  <a:pt x="15183" y="15437"/>
                </a:cubicBezTo>
                <a:cubicBezTo>
                  <a:pt x="15193" y="15478"/>
                  <a:pt x="15191" y="15496"/>
                  <a:pt x="15209" y="15450"/>
                </a:cubicBezTo>
              </a:path>
              <a:path w="819" h="1306">
                <a:moveTo>
                  <a:pt x="15649" y="14257"/>
                </a:moveTo>
                <a:cubicBezTo>
                  <a:pt x="15699" y="14296"/>
                  <a:pt x="15721" y="14337"/>
                  <a:pt x="15741" y="14400"/>
                </a:cubicBezTo>
                <a:cubicBezTo>
                  <a:pt x="15778" y="14517"/>
                  <a:pt x="15797" y="14641"/>
                  <a:pt x="15813" y="14762"/>
                </a:cubicBezTo>
                <a:cubicBezTo>
                  <a:pt x="15840" y="14957"/>
                  <a:pt x="15869" y="15161"/>
                  <a:pt x="15863" y="15359"/>
                </a:cubicBezTo>
                <a:cubicBezTo>
                  <a:pt x="15861" y="15435"/>
                  <a:pt x="15844" y="15492"/>
                  <a:pt x="15818" y="155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30640" y="5838840"/>
            <a:ext cx="1506600" cy="307800"/>
          </a:xfrm>
          <a:custGeom>
            <a:avLst/>
            <a:gdLst/>
            <a:ahLst/>
            <a:rect l="l" t="t" r="r" b="b"/>
            <a:pathLst>
              <a:path w="4184" h="855">
                <a:moveTo>
                  <a:pt x="11643" y="16506"/>
                </a:moveTo>
                <a:cubicBezTo>
                  <a:pt x="11609" y="16539"/>
                  <a:pt x="11605" y="16558"/>
                  <a:pt x="11613" y="16606"/>
                </a:cubicBezTo>
                <a:cubicBezTo>
                  <a:pt x="11623" y="16661"/>
                  <a:pt x="11641" y="16716"/>
                  <a:pt x="11658" y="16769"/>
                </a:cubicBezTo>
                <a:cubicBezTo>
                  <a:pt x="11675" y="16821"/>
                  <a:pt x="11691" y="16872"/>
                  <a:pt x="11704" y="16925"/>
                </a:cubicBezTo>
                <a:cubicBezTo>
                  <a:pt x="11709" y="16945"/>
                  <a:pt x="11711" y="16952"/>
                  <a:pt x="11718" y="16965"/>
                </a:cubicBezTo>
              </a:path>
              <a:path w="4184" h="855">
                <a:moveTo>
                  <a:pt x="11949" y="16448"/>
                </a:moveTo>
                <a:cubicBezTo>
                  <a:pt x="11969" y="16499"/>
                  <a:pt x="11968" y="16539"/>
                  <a:pt x="11965" y="16596"/>
                </a:cubicBezTo>
                <a:cubicBezTo>
                  <a:pt x="11961" y="16670"/>
                  <a:pt x="11951" y="16742"/>
                  <a:pt x="11944" y="16815"/>
                </a:cubicBezTo>
                <a:cubicBezTo>
                  <a:pt x="11943" y="16828"/>
                  <a:pt x="11922" y="16957"/>
                  <a:pt x="11934" y="16964"/>
                </a:cubicBezTo>
                <a:cubicBezTo>
                  <a:pt x="11943" y="16962"/>
                  <a:pt x="11953" y="16960"/>
                  <a:pt x="11962" y="16958"/>
                </a:cubicBezTo>
              </a:path>
              <a:path w="4184" h="855">
                <a:moveTo>
                  <a:pt x="12283" y="16412"/>
                </a:moveTo>
                <a:cubicBezTo>
                  <a:pt x="12263" y="16452"/>
                  <a:pt x="12254" y="16491"/>
                  <a:pt x="12245" y="16535"/>
                </a:cubicBezTo>
                <a:cubicBezTo>
                  <a:pt x="12227" y="16620"/>
                  <a:pt x="12211" y="16742"/>
                  <a:pt x="12280" y="16810"/>
                </a:cubicBezTo>
                <a:cubicBezTo>
                  <a:pt x="12321" y="16850"/>
                  <a:pt x="12385" y="16838"/>
                  <a:pt x="12431" y="16816"/>
                </a:cubicBezTo>
                <a:cubicBezTo>
                  <a:pt x="12530" y="16770"/>
                  <a:pt x="12602" y="16664"/>
                  <a:pt x="12609" y="16556"/>
                </a:cubicBezTo>
                <a:cubicBezTo>
                  <a:pt x="12616" y="16447"/>
                  <a:pt x="12541" y="16346"/>
                  <a:pt x="12432" y="16325"/>
                </a:cubicBezTo>
                <a:cubicBezTo>
                  <a:pt x="12409" y="16325"/>
                  <a:pt x="12401" y="16325"/>
                  <a:pt x="12386" y="16325"/>
                </a:cubicBezTo>
                <a:cubicBezTo>
                  <a:pt x="12411" y="16340"/>
                  <a:pt x="12462" y="16362"/>
                  <a:pt x="12493" y="16386"/>
                </a:cubicBezTo>
                <a:cubicBezTo>
                  <a:pt x="12577" y="16450"/>
                  <a:pt x="12591" y="16570"/>
                  <a:pt x="12625" y="16663"/>
                </a:cubicBezTo>
                <a:cubicBezTo>
                  <a:pt x="12648" y="16726"/>
                  <a:pt x="12674" y="16797"/>
                  <a:pt x="12738" y="16829"/>
                </a:cubicBezTo>
                <a:cubicBezTo>
                  <a:pt x="12805" y="16863"/>
                  <a:pt x="12879" y="16827"/>
                  <a:pt x="12938" y="16793"/>
                </a:cubicBezTo>
                <a:cubicBezTo>
                  <a:pt x="13016" y="16748"/>
                  <a:pt x="13067" y="16669"/>
                  <a:pt x="13081" y="16580"/>
                </a:cubicBezTo>
                <a:cubicBezTo>
                  <a:pt x="13108" y="16416"/>
                  <a:pt x="12991" y="16296"/>
                  <a:pt x="12844" y="16250"/>
                </a:cubicBezTo>
                <a:cubicBezTo>
                  <a:pt x="12709" y="16208"/>
                  <a:pt x="12569" y="16217"/>
                  <a:pt x="12431" y="16237"/>
                </a:cubicBezTo>
                <a:cubicBezTo>
                  <a:pt x="12392" y="16244"/>
                  <a:pt x="12353" y="16251"/>
                  <a:pt x="12314" y="16258"/>
                </a:cubicBezTo>
              </a:path>
              <a:path w="4184" h="855">
                <a:moveTo>
                  <a:pt x="11770" y="16459"/>
                </a:moveTo>
                <a:cubicBezTo>
                  <a:pt x="11677" y="16506"/>
                  <a:pt x="11530" y="16560"/>
                  <a:pt x="11477" y="16658"/>
                </a:cubicBezTo>
                <a:cubicBezTo>
                  <a:pt x="11476" y="16665"/>
                  <a:pt x="11475" y="16672"/>
                  <a:pt x="11474" y="16679"/>
                </a:cubicBezTo>
                <a:cubicBezTo>
                  <a:pt x="11556" y="16717"/>
                  <a:pt x="11644" y="16713"/>
                  <a:pt x="11736" y="16711"/>
                </a:cubicBezTo>
                <a:cubicBezTo>
                  <a:pt x="11933" y="16707"/>
                  <a:pt x="12128" y="16679"/>
                  <a:pt x="12323" y="16658"/>
                </a:cubicBezTo>
                <a:cubicBezTo>
                  <a:pt x="12510" y="16638"/>
                  <a:pt x="12695" y="16611"/>
                  <a:pt x="12881" y="16583"/>
                </a:cubicBezTo>
                <a:cubicBezTo>
                  <a:pt x="12958" y="16571"/>
                  <a:pt x="13073" y="16568"/>
                  <a:pt x="13145" y="16532"/>
                </a:cubicBezTo>
                <a:cubicBezTo>
                  <a:pt x="13170" y="16520"/>
                  <a:pt x="13178" y="16516"/>
                  <a:pt x="13189" y="16500"/>
                </a:cubicBezTo>
              </a:path>
              <a:path w="4184" h="855">
                <a:moveTo>
                  <a:pt x="14322" y="16464"/>
                </a:moveTo>
                <a:cubicBezTo>
                  <a:pt x="14323" y="16559"/>
                  <a:pt x="14317" y="16644"/>
                  <a:pt x="14302" y="16737"/>
                </a:cubicBezTo>
                <a:cubicBezTo>
                  <a:pt x="14287" y="16833"/>
                  <a:pt x="14266" y="16927"/>
                  <a:pt x="14246" y="17022"/>
                </a:cubicBezTo>
                <a:cubicBezTo>
                  <a:pt x="14243" y="17039"/>
                  <a:pt x="14241" y="17056"/>
                  <a:pt x="14238" y="17073"/>
                </a:cubicBezTo>
              </a:path>
              <a:path w="4184" h="855">
                <a:moveTo>
                  <a:pt x="14636" y="16411"/>
                </a:moveTo>
                <a:cubicBezTo>
                  <a:pt x="14648" y="16470"/>
                  <a:pt x="14631" y="16515"/>
                  <a:pt x="14611" y="16574"/>
                </a:cubicBezTo>
                <a:cubicBezTo>
                  <a:pt x="14591" y="16634"/>
                  <a:pt x="14565" y="16695"/>
                  <a:pt x="14553" y="16757"/>
                </a:cubicBezTo>
                <a:cubicBezTo>
                  <a:pt x="14551" y="16783"/>
                  <a:pt x="14550" y="16792"/>
                  <a:pt x="14570" y="16801"/>
                </a:cubicBezTo>
                <a:cubicBezTo>
                  <a:pt x="14606" y="16794"/>
                  <a:pt x="14630" y="16781"/>
                  <a:pt x="14661" y="16761"/>
                </a:cubicBezTo>
                <a:cubicBezTo>
                  <a:pt x="14685" y="16746"/>
                  <a:pt x="14694" y="16740"/>
                  <a:pt x="14713" y="16734"/>
                </a:cubicBezTo>
                <a:cubicBezTo>
                  <a:pt x="14732" y="16763"/>
                  <a:pt x="14738" y="16793"/>
                  <a:pt x="14754" y="16823"/>
                </a:cubicBezTo>
                <a:cubicBezTo>
                  <a:pt x="14774" y="16860"/>
                  <a:pt x="14803" y="16892"/>
                  <a:pt x="14846" y="16900"/>
                </a:cubicBezTo>
                <a:cubicBezTo>
                  <a:pt x="14893" y="16909"/>
                  <a:pt x="14943" y="16888"/>
                  <a:pt x="14974" y="16853"/>
                </a:cubicBezTo>
                <a:cubicBezTo>
                  <a:pt x="15015" y="16807"/>
                  <a:pt x="15024" y="16741"/>
                  <a:pt x="15014" y="16682"/>
                </a:cubicBezTo>
                <a:cubicBezTo>
                  <a:pt x="15001" y="16608"/>
                  <a:pt x="14963" y="16540"/>
                  <a:pt x="14917" y="16482"/>
                </a:cubicBezTo>
                <a:cubicBezTo>
                  <a:pt x="14905" y="16467"/>
                  <a:pt x="14811" y="16397"/>
                  <a:pt x="14810" y="16382"/>
                </a:cubicBezTo>
                <a:cubicBezTo>
                  <a:pt x="14826" y="16359"/>
                  <a:pt x="14834" y="16351"/>
                  <a:pt x="14858" y="16355"/>
                </a:cubicBezTo>
              </a:path>
              <a:path w="4184" h="855">
                <a:moveTo>
                  <a:pt x="15296" y="16337"/>
                </a:moveTo>
                <a:cubicBezTo>
                  <a:pt x="15335" y="16393"/>
                  <a:pt x="15346" y="16436"/>
                  <a:pt x="15348" y="16506"/>
                </a:cubicBezTo>
                <a:cubicBezTo>
                  <a:pt x="15351" y="16596"/>
                  <a:pt x="15333" y="16683"/>
                  <a:pt x="15318" y="16771"/>
                </a:cubicBezTo>
                <a:cubicBezTo>
                  <a:pt x="15311" y="16811"/>
                  <a:pt x="15311" y="16842"/>
                  <a:pt x="15293" y="16878"/>
                </a:cubicBezTo>
              </a:path>
              <a:path w="4184" h="855">
                <a:moveTo>
                  <a:pt x="14263" y="16693"/>
                </a:moveTo>
                <a:cubicBezTo>
                  <a:pt x="14209" y="16690"/>
                  <a:pt x="14165" y="16689"/>
                  <a:pt x="14112" y="16693"/>
                </a:cubicBezTo>
                <a:cubicBezTo>
                  <a:pt x="14230" y="16696"/>
                  <a:pt x="14347" y="16698"/>
                  <a:pt x="14465" y="16699"/>
                </a:cubicBezTo>
                <a:cubicBezTo>
                  <a:pt x="14779" y="16703"/>
                  <a:pt x="15091" y="16686"/>
                  <a:pt x="15404" y="16674"/>
                </a:cubicBezTo>
                <a:cubicBezTo>
                  <a:pt x="15534" y="16671"/>
                  <a:pt x="15573" y="16670"/>
                  <a:pt x="15657" y="166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5719680"/>
            <a:ext cx="1339920" cy="743040"/>
          </a:xfrm>
          <a:custGeom>
            <a:avLst/>
            <a:gdLst/>
            <a:ahLst/>
            <a:rect l="l" t="t" r="r" b="b"/>
            <a:pathLst>
              <a:path w="3723" h="2066">
                <a:moveTo>
                  <a:pt x="6652" y="16873"/>
                </a:moveTo>
                <a:cubicBezTo>
                  <a:pt x="6649" y="16864"/>
                  <a:pt x="6647" y="16855"/>
                  <a:pt x="6644" y="16846"/>
                </a:cubicBezTo>
                <a:cubicBezTo>
                  <a:pt x="6661" y="16905"/>
                  <a:pt x="6667" y="16965"/>
                  <a:pt x="6672" y="17027"/>
                </a:cubicBezTo>
                <a:cubicBezTo>
                  <a:pt x="6683" y="17163"/>
                  <a:pt x="6685" y="17300"/>
                  <a:pt x="6685" y="17437"/>
                </a:cubicBezTo>
                <a:cubicBezTo>
                  <a:pt x="6685" y="17536"/>
                  <a:pt x="6680" y="17637"/>
                  <a:pt x="6693" y="17735"/>
                </a:cubicBezTo>
                <a:cubicBezTo>
                  <a:pt x="6696" y="17748"/>
                  <a:pt x="6700" y="17762"/>
                  <a:pt x="6703" y="17775"/>
                </a:cubicBezTo>
              </a:path>
              <a:path w="3723" h="2066">
                <a:moveTo>
                  <a:pt x="7008" y="16923"/>
                </a:moveTo>
                <a:cubicBezTo>
                  <a:pt x="7032" y="16907"/>
                  <a:pt x="7038" y="16901"/>
                  <a:pt x="7057" y="16905"/>
                </a:cubicBezTo>
                <a:cubicBezTo>
                  <a:pt x="7098" y="16969"/>
                  <a:pt x="7107" y="17040"/>
                  <a:pt x="7115" y="17117"/>
                </a:cubicBezTo>
                <a:cubicBezTo>
                  <a:pt x="7128" y="17249"/>
                  <a:pt x="7132" y="17382"/>
                  <a:pt x="7133" y="17514"/>
                </a:cubicBezTo>
                <a:cubicBezTo>
                  <a:pt x="7134" y="17615"/>
                  <a:pt x="7133" y="17718"/>
                  <a:pt x="7150" y="17818"/>
                </a:cubicBezTo>
                <a:cubicBezTo>
                  <a:pt x="7158" y="17846"/>
                  <a:pt x="7157" y="17858"/>
                  <a:pt x="7180" y="17846"/>
                </a:cubicBezTo>
              </a:path>
              <a:path w="3723" h="2066">
                <a:moveTo>
                  <a:pt x="7499" y="16961"/>
                </a:moveTo>
                <a:cubicBezTo>
                  <a:pt x="7502" y="16913"/>
                  <a:pt x="7494" y="16901"/>
                  <a:pt x="7444" y="16884"/>
                </a:cubicBezTo>
                <a:cubicBezTo>
                  <a:pt x="7438" y="16883"/>
                  <a:pt x="7432" y="16882"/>
                  <a:pt x="7426" y="16881"/>
                </a:cubicBezTo>
                <a:cubicBezTo>
                  <a:pt x="7423" y="16930"/>
                  <a:pt x="7436" y="16975"/>
                  <a:pt x="7445" y="17024"/>
                </a:cubicBezTo>
                <a:cubicBezTo>
                  <a:pt x="7491" y="17265"/>
                  <a:pt x="7520" y="17507"/>
                  <a:pt x="7528" y="17752"/>
                </a:cubicBezTo>
                <a:cubicBezTo>
                  <a:pt x="7530" y="17811"/>
                  <a:pt x="7515" y="17824"/>
                  <a:pt x="7559" y="17812"/>
                </a:cubicBezTo>
              </a:path>
              <a:path w="3723" h="2066">
                <a:moveTo>
                  <a:pt x="7867" y="17016"/>
                </a:moveTo>
                <a:cubicBezTo>
                  <a:pt x="7890" y="16957"/>
                  <a:pt x="7854" y="17124"/>
                  <a:pt x="7852" y="17143"/>
                </a:cubicBezTo>
                <a:cubicBezTo>
                  <a:pt x="7840" y="17281"/>
                  <a:pt x="7827" y="17475"/>
                  <a:pt x="7919" y="17591"/>
                </a:cubicBezTo>
                <a:cubicBezTo>
                  <a:pt x="7974" y="17661"/>
                  <a:pt x="8061" y="17646"/>
                  <a:pt x="8127" y="17600"/>
                </a:cubicBezTo>
                <a:cubicBezTo>
                  <a:pt x="8232" y="17528"/>
                  <a:pt x="8299" y="17417"/>
                  <a:pt x="8347" y="17302"/>
                </a:cubicBezTo>
                <a:cubicBezTo>
                  <a:pt x="8397" y="17183"/>
                  <a:pt x="8424" y="17047"/>
                  <a:pt x="8393" y="16920"/>
                </a:cubicBezTo>
                <a:cubicBezTo>
                  <a:pt x="8366" y="16809"/>
                  <a:pt x="8294" y="16734"/>
                  <a:pt x="8184" y="16706"/>
                </a:cubicBezTo>
                <a:cubicBezTo>
                  <a:pt x="8082" y="16680"/>
                  <a:pt x="7969" y="16702"/>
                  <a:pt x="7870" y="16731"/>
                </a:cubicBezTo>
                <a:cubicBezTo>
                  <a:pt x="7831" y="16742"/>
                  <a:pt x="7794" y="16759"/>
                  <a:pt x="7757" y="16773"/>
                </a:cubicBezTo>
              </a:path>
              <a:path w="3723" h="2066">
                <a:moveTo>
                  <a:pt x="8077" y="16537"/>
                </a:moveTo>
                <a:cubicBezTo>
                  <a:pt x="8260" y="16375"/>
                  <a:pt x="8358" y="16266"/>
                  <a:pt x="8414" y="16034"/>
                </a:cubicBezTo>
                <a:cubicBezTo>
                  <a:pt x="8273" y="15931"/>
                  <a:pt x="8216" y="15881"/>
                  <a:pt x="8013" y="15888"/>
                </a:cubicBezTo>
                <a:cubicBezTo>
                  <a:pt x="7376" y="15909"/>
                  <a:pt x="6675" y="16233"/>
                  <a:pt x="6185" y="16625"/>
                </a:cubicBezTo>
                <a:cubicBezTo>
                  <a:pt x="5983" y="16787"/>
                  <a:pt x="5737" y="17006"/>
                  <a:pt x="5724" y="17270"/>
                </a:cubicBezTo>
                <a:cubicBezTo>
                  <a:pt x="5717" y="17423"/>
                  <a:pt x="5766" y="17547"/>
                  <a:pt x="5889" y="17642"/>
                </a:cubicBezTo>
                <a:cubicBezTo>
                  <a:pt x="6196" y="17879"/>
                  <a:pt x="6647" y="17930"/>
                  <a:pt x="7020" y="17953"/>
                </a:cubicBezTo>
                <a:cubicBezTo>
                  <a:pt x="7664" y="17993"/>
                  <a:pt x="8430" y="17875"/>
                  <a:pt x="8993" y="17549"/>
                </a:cubicBezTo>
                <a:cubicBezTo>
                  <a:pt x="9259" y="17395"/>
                  <a:pt x="9541" y="17070"/>
                  <a:pt x="9404" y="16736"/>
                </a:cubicBezTo>
                <a:cubicBezTo>
                  <a:pt x="9286" y="16448"/>
                  <a:pt x="8867" y="16365"/>
                  <a:pt x="8602" y="16326"/>
                </a:cubicBezTo>
                <a:cubicBezTo>
                  <a:pt x="8123" y="16255"/>
                  <a:pt x="7638" y="16327"/>
                  <a:pt x="7161" y="163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2040" y="3414600"/>
            <a:ext cx="712800" cy="612720"/>
          </a:xfrm>
          <a:custGeom>
            <a:avLst/>
            <a:gdLst/>
            <a:ahLst/>
            <a:rect l="l" t="t" r="r" b="b"/>
            <a:pathLst>
              <a:path w="1982" h="1702">
                <a:moveTo>
                  <a:pt x="2279" y="9624"/>
                </a:moveTo>
                <a:cubicBezTo>
                  <a:pt x="2289" y="9578"/>
                  <a:pt x="2297" y="9532"/>
                  <a:pt x="2307" y="9486"/>
                </a:cubicBezTo>
                <a:cubicBezTo>
                  <a:pt x="2309" y="9568"/>
                  <a:pt x="2308" y="9648"/>
                  <a:pt x="2297" y="9731"/>
                </a:cubicBezTo>
                <a:cubicBezTo>
                  <a:pt x="2270" y="9936"/>
                  <a:pt x="2219" y="10134"/>
                  <a:pt x="2151" y="10330"/>
                </a:cubicBezTo>
                <a:cubicBezTo>
                  <a:pt x="2084" y="10523"/>
                  <a:pt x="1826" y="10890"/>
                  <a:pt x="1837" y="11092"/>
                </a:cubicBezTo>
                <a:cubicBezTo>
                  <a:pt x="1843" y="11199"/>
                  <a:pt x="1916" y="11189"/>
                  <a:pt x="2007" y="11182"/>
                </a:cubicBezTo>
                <a:cubicBezTo>
                  <a:pt x="2183" y="11169"/>
                  <a:pt x="2360" y="11125"/>
                  <a:pt x="2536" y="11105"/>
                </a:cubicBezTo>
                <a:cubicBezTo>
                  <a:pt x="2729" y="11083"/>
                  <a:pt x="2925" y="11080"/>
                  <a:pt x="3117" y="11112"/>
                </a:cubicBezTo>
                <a:cubicBezTo>
                  <a:pt x="3358" y="11152"/>
                  <a:pt x="3575" y="11145"/>
                  <a:pt x="3818" y="111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73600" y="1866960"/>
            <a:ext cx="776160" cy="961920"/>
          </a:xfrm>
          <a:custGeom>
            <a:avLst/>
            <a:gdLst/>
            <a:ahLst/>
            <a:rect l="l" t="t" r="r" b="b"/>
            <a:pathLst>
              <a:path w="2156" h="2671">
                <a:moveTo>
                  <a:pt x="13261" y="7834"/>
                </a:moveTo>
                <a:cubicBezTo>
                  <a:pt x="13397" y="7854"/>
                  <a:pt x="13453" y="7854"/>
                  <a:pt x="13538" y="7729"/>
                </a:cubicBezTo>
                <a:cubicBezTo>
                  <a:pt x="13672" y="7532"/>
                  <a:pt x="13652" y="7187"/>
                  <a:pt x="13672" y="6961"/>
                </a:cubicBezTo>
                <a:cubicBezTo>
                  <a:pt x="13684" y="6824"/>
                  <a:pt x="13678" y="6666"/>
                  <a:pt x="13724" y="6535"/>
                </a:cubicBezTo>
                <a:cubicBezTo>
                  <a:pt x="13731" y="6530"/>
                  <a:pt x="13737" y="6525"/>
                  <a:pt x="13744" y="6520"/>
                </a:cubicBezTo>
                <a:cubicBezTo>
                  <a:pt x="13807" y="6566"/>
                  <a:pt x="13862" y="6609"/>
                  <a:pt x="13921" y="6668"/>
                </a:cubicBezTo>
                <a:cubicBezTo>
                  <a:pt x="14189" y="6937"/>
                  <a:pt x="14604" y="7242"/>
                  <a:pt x="15009" y="7198"/>
                </a:cubicBezTo>
                <a:cubicBezTo>
                  <a:pt x="15168" y="7181"/>
                  <a:pt x="15294" y="7085"/>
                  <a:pt x="15353" y="6937"/>
                </a:cubicBezTo>
                <a:cubicBezTo>
                  <a:pt x="15483" y="6609"/>
                  <a:pt x="15412" y="6179"/>
                  <a:pt x="15396" y="5838"/>
                </a:cubicBezTo>
                <a:cubicBezTo>
                  <a:pt x="15386" y="5620"/>
                  <a:pt x="15380" y="5403"/>
                  <a:pt x="15377" y="51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327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ng intermediate results in a table for fast look-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put N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25146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ssible remainders upon dividing by N 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45943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# of digits in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09680" y="3352680"/>
          <a:ext cx="5715000" cy="325116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200"/>
                <a:gridCol w="952560"/>
                <a:gridCol w="952200"/>
                <a:gridCol w="9529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25207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7940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3988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0036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6084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213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58600" y="435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8600" y="354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58600" y="516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8600" y="598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37640" y="342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85880" y="4363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76600" y="4363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37640" y="4275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350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ng intermediate results in a table for fast look-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put N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25146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ssible remainders upon dividing by N 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45943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# of digits in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209680" y="3352680"/>
          <a:ext cx="5715000" cy="325116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200"/>
                <a:gridCol w="952560"/>
                <a:gridCol w="952200"/>
                <a:gridCol w="9529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25207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7940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3988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0036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6084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213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58600" y="435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58600" y="354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8600" y="516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8600" y="598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37640" y="342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7840" y="51944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27480" y="51944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85880" y="519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176600" y="519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37640" y="5103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85880" y="4356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76600" y="4356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37640" y="4267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68360" y="1285920"/>
            <a:ext cx="8218440" cy="181080"/>
            <a:chOff x="468360" y="1285920"/>
            <a:chExt cx="8218440" cy="181080"/>
          </a:xfrm>
        </p:grpSpPr>
        <p:sp>
          <p:nvSpPr>
            <p:cNvPr id="124" name=""/>
            <p:cNvSpPr/>
            <p:nvPr/>
          </p:nvSpPr>
          <p:spPr>
            <a:xfrm>
              <a:off x="468360" y="1285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360" y="1390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76440" y="365040"/>
            <a:ext cx="778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course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378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ng intermediate results in a table for fast look-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put N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25146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ssible remainders upon dividing by N 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45943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# of digits in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209680" y="3352680"/>
          <a:ext cx="5715000" cy="325116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200"/>
                <a:gridCol w="952560"/>
                <a:gridCol w="952200"/>
                <a:gridCol w="9529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25207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7940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3988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0036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6084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213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8600" y="435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8600" y="354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8600" y="516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8600" y="598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37640" y="342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17840" y="51944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27480" y="51944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85880" y="519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176600" y="519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37640" y="5103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85880" y="4356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76600" y="4356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7640" y="4267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44240" y="5977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7840" y="597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27480" y="597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85880" y="5977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76600" y="5977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37640" y="5888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31840" y="460440"/>
            <a:ext cx="6835680" cy="601668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4908600" y="914400"/>
            <a:ext cx="3778200" cy="181080"/>
            <a:chOff x="4908600" y="914400"/>
            <a:chExt cx="3778200" cy="181080"/>
          </a:xfrm>
        </p:grpSpPr>
        <p:sp>
          <p:nvSpPr>
            <p:cNvPr id="413" name=""/>
            <p:cNvSpPr/>
            <p:nvPr/>
          </p:nvSpPr>
          <p:spPr>
            <a:xfrm>
              <a:off x="4908600" y="914400"/>
              <a:ext cx="37782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08600" y="1019160"/>
              <a:ext cx="37782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141880" y="152280"/>
            <a:ext cx="34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3962520"/>
            <a:ext cx="26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Only checking values for which a remainder has not yet been used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7800" y="2276640"/>
            <a:ext cx="598320" cy="18720"/>
          </a:xfrm>
          <a:custGeom>
            <a:avLst/>
            <a:gdLst/>
            <a:ahLst/>
            <a:rect l="l" t="t" r="r" b="b"/>
            <a:pathLst>
              <a:path w="1663" h="51">
                <a:moveTo>
                  <a:pt x="8855" y="6375"/>
                </a:moveTo>
                <a:cubicBezTo>
                  <a:pt x="8863" y="6375"/>
                  <a:pt x="8872" y="6375"/>
                  <a:pt x="8880" y="6375"/>
                </a:cubicBezTo>
                <a:cubicBezTo>
                  <a:pt x="8906" y="6360"/>
                  <a:pt x="8919" y="6353"/>
                  <a:pt x="8979" y="6350"/>
                </a:cubicBezTo>
                <a:cubicBezTo>
                  <a:pt x="9390" y="6329"/>
                  <a:pt x="9808" y="6350"/>
                  <a:pt x="10220" y="6350"/>
                </a:cubicBezTo>
                <a:cubicBezTo>
                  <a:pt x="10245" y="6335"/>
                  <a:pt x="10241" y="6328"/>
                  <a:pt x="10294" y="6325"/>
                </a:cubicBezTo>
                <a:cubicBezTo>
                  <a:pt x="10368" y="6321"/>
                  <a:pt x="10443" y="6325"/>
                  <a:pt x="10517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419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533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4 probl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61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33520" y="3200400"/>
            <a:ext cx="61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eams of ~3, thin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22200" y="3881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ow would you solve this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30480" y="520524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ow could you mo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mplify the programm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35160" y="5867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ink of a 5-letter jotto word…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27240" y="454356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s it a dynamic programming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1338120"/>
            <a:ext cx="61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- divide up with one problem per group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47760" y="5618160"/>
            <a:ext cx="4572000" cy="835200"/>
          </a:xfrm>
          <a:custGeom>
            <a:avLst/>
            <a:gdLst/>
            <a:ahLst/>
            <a:rect l="l" t="t" r="r" b="b"/>
            <a:pathLst>
              <a:path w="12702" h="2317">
                <a:moveTo>
                  <a:pt x="15542" y="15894"/>
                </a:moveTo>
                <a:cubicBezTo>
                  <a:pt x="15495" y="15885"/>
                  <a:pt x="15405" y="15874"/>
                  <a:pt x="15337" y="15860"/>
                </a:cubicBezTo>
                <a:cubicBezTo>
                  <a:pt x="14917" y="15773"/>
                  <a:pt x="14507" y="15805"/>
                  <a:pt x="14078" y="15848"/>
                </a:cubicBezTo>
                <a:cubicBezTo>
                  <a:pt x="13021" y="15954"/>
                  <a:pt x="11984" y="16095"/>
                  <a:pt x="10918" y="16106"/>
                </a:cubicBezTo>
                <a:cubicBezTo>
                  <a:pt x="9267" y="16123"/>
                  <a:pt x="7625" y="15920"/>
                  <a:pt x="5976" y="15890"/>
                </a:cubicBezTo>
                <a:cubicBezTo>
                  <a:pt x="5290" y="15878"/>
                  <a:pt x="4288" y="15807"/>
                  <a:pt x="3669" y="16186"/>
                </a:cubicBezTo>
                <a:cubicBezTo>
                  <a:pt x="3473" y="16306"/>
                  <a:pt x="3418" y="16462"/>
                  <a:pt x="3520" y="16675"/>
                </a:cubicBezTo>
                <a:cubicBezTo>
                  <a:pt x="3673" y="16995"/>
                  <a:pt x="4107" y="17183"/>
                  <a:pt x="4411" y="17307"/>
                </a:cubicBezTo>
                <a:cubicBezTo>
                  <a:pt x="5352" y="17690"/>
                  <a:pt x="6322" y="17836"/>
                  <a:pt x="7328" y="17892"/>
                </a:cubicBezTo>
                <a:cubicBezTo>
                  <a:pt x="9028" y="17987"/>
                  <a:pt x="10800" y="17987"/>
                  <a:pt x="12488" y="17777"/>
                </a:cubicBezTo>
                <a:cubicBezTo>
                  <a:pt x="13369" y="17667"/>
                  <a:pt x="14266" y="17452"/>
                  <a:pt x="15113" y="17187"/>
                </a:cubicBezTo>
                <a:cubicBezTo>
                  <a:pt x="15428" y="17089"/>
                  <a:pt x="16051" y="16957"/>
                  <a:pt x="16154" y="16574"/>
                </a:cubicBezTo>
                <a:cubicBezTo>
                  <a:pt x="16259" y="16184"/>
                  <a:pt x="15774" y="15952"/>
                  <a:pt x="15498" y="15834"/>
                </a:cubicBezTo>
                <a:cubicBezTo>
                  <a:pt x="15147" y="15715"/>
                  <a:pt x="15014" y="15672"/>
                  <a:pt x="14767" y="15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432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tt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2057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12952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ord-guessing game similar to mastermind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7432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ot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27432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ot 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029200" y="27432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o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05720" y="27432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o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26668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you next Tues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446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447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2120" y="198756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13716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14680" y="2014560"/>
            <a:ext cx="136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##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43440" y="156060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words in the puzzle (to fol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191120" y="2090880"/>
            <a:ext cx="1433520" cy="141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10240" y="196056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rows in the puzzle (after the wor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784320" y="1700280"/>
            <a:ext cx="1089000" cy="38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81640" y="30402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4479480" y="2529000"/>
            <a:ext cx="3240" cy="12650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81640" y="45594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puzz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4481640" y="4061880"/>
            <a:ext cx="2880" cy="12654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10160" y="5981760"/>
            <a:ext cx="36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is indicates the end of the inp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921120" y="5690880"/>
            <a:ext cx="728640" cy="353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339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0" y="37339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37339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41911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0" y="4191120"/>
            <a:ext cx="45720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00800" y="41911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400800" y="46483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0" y="46483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15200" y="46483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15200" y="5105520"/>
            <a:ext cx="45720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0" y="5105520"/>
            <a:ext cx="45720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00800" y="51055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337000" y="4636800"/>
            <a:ext cx="933480" cy="7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479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2120" y="198756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4080" y="13716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14680" y="2014560"/>
            <a:ext cx="136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##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625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either the solution OR a statement that it can't be solv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943600" y="4127400"/>
            <a:ext cx="1154160" cy="444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248520" y="6095880"/>
            <a:ext cx="13716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920" y="3809880"/>
            <a:ext cx="319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Problem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#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r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##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Problem 2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no layout is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7684920" y="4383000"/>
            <a:ext cx="595440" cy="1117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492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493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2120" y="506556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12114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14680" y="2014560"/>
            <a:ext cx="1362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03840" y="153180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empty boxes on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053960" y="2073240"/>
            <a:ext cx="1449720" cy="109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10240" y="196056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clerks in the office (three lines e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744720" y="1684440"/>
            <a:ext cx="1089000" cy="38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91360" y="25765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6269040" y="235440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87880" y="6445080"/>
            <a:ext cx="25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is indicates the end of the inp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4088880" y="6594120"/>
            <a:ext cx="1024200" cy="3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866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0010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19720" y="231300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ox(es) CHE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19720" y="25812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ox(es) ER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11800" y="286380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clerks who get a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149720" y="3007800"/>
            <a:ext cx="277920" cy="3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149720" y="2457000"/>
            <a:ext cx="277920" cy="3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49720" y="2722680"/>
            <a:ext cx="270000" cy="46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91120" y="34304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168800" y="320832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89320" y="4253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4167360" y="4030200"/>
            <a:ext cx="1440" cy="7146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50706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4168800" y="4847760"/>
            <a:ext cx="1440" cy="7146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89320" y="5908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167360" y="568656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43480" y="313704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43480" y="3976560"/>
            <a:ext cx="533160" cy="1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43480" y="479916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43480" y="562140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43480" y="644688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150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722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294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97440" y="3392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485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057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1629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01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0773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81880" y="365760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Times New Roman"/>
              </a:rPr>
              <a:t>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541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542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2120" y="506556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12114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14680" y="2014560"/>
            <a:ext cx="1362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03840" y="153180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empty boxes on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053960" y="2073240"/>
            <a:ext cx="1449720" cy="109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10240" y="196056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clerks in the office (three lines e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744720" y="1684440"/>
            <a:ext cx="1089000" cy="38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91360" y="25765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269040" y="235440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87880" y="6445080"/>
            <a:ext cx="25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is indicates the end of the inp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4088880" y="6594120"/>
            <a:ext cx="1024200" cy="3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866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5438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0010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19720" y="231300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ox(es) CHE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19720" y="25812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ox(es) ER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1800" y="286380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clerks who get a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149720" y="3007800"/>
            <a:ext cx="277920" cy="3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149720" y="2457000"/>
            <a:ext cx="277920" cy="3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49720" y="2722680"/>
            <a:ext cx="270000" cy="46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34304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4168800" y="320832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89320" y="4253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167360" y="4030200"/>
            <a:ext cx="1440" cy="7146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50706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4168800" y="4847760"/>
            <a:ext cx="1440" cy="7146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89320" y="5908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4167360" y="568656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43480" y="313704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43480" y="3976560"/>
            <a:ext cx="533160" cy="1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43480" y="479916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43480" y="562140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43480" y="644688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150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722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7440" y="3392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1629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201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1880" y="365760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Times New Roman"/>
              </a:rPr>
              <a:t>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92720" y="43797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let's try i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591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592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2120" y="506556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12114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14680" y="2014560"/>
            <a:ext cx="1362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3840" y="153180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empty boxes on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053960" y="2073240"/>
            <a:ext cx="1449720" cy="109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610240" y="196056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clerks in the office (three lines e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744720" y="1684440"/>
            <a:ext cx="1089000" cy="38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291360" y="25765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6269040" y="235440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87880" y="6445080"/>
            <a:ext cx="25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is indicates the end of the inp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4088880" y="6594120"/>
            <a:ext cx="1024200" cy="3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0866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5438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010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31300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ox(es) CHE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419720" y="25812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ox(es) ER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11800" y="286380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clerks who get a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149720" y="3007800"/>
            <a:ext cx="277920" cy="3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149720" y="2457000"/>
            <a:ext cx="277920" cy="3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49720" y="2722680"/>
            <a:ext cx="270000" cy="46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34304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4168800" y="320832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89320" y="4253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4167360" y="4030200"/>
            <a:ext cx="1440" cy="7146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91120" y="50706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4168800" y="4847760"/>
            <a:ext cx="1440" cy="7146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89320" y="5908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4167360" y="568656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43480" y="313704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43480" y="3976560"/>
            <a:ext cx="533160" cy="1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3480" y="479916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43480" y="562140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43480" y="644688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7150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722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294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97440" y="3392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2485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057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629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201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773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81880" y="365760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Times New Roman"/>
              </a:rPr>
              <a:t>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64520" y="5334120"/>
            <a:ext cx="13986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08840" y="5392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3 4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58080" y="5815080"/>
            <a:ext cx="26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Times New Roman"/>
              </a:rPr>
              <a:t>the boxes checked the last time it leaves clerk #0's desk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248520" y="3809880"/>
            <a:ext cx="233280" cy="214560"/>
            <a:chOff x="6248520" y="3809880"/>
            <a:chExt cx="233280" cy="214560"/>
          </a:xfrm>
        </p:grpSpPr>
        <p:sp>
          <p:nvSpPr>
            <p:cNvPr id="643" name=""/>
            <p:cNvSpPr/>
            <p:nvPr/>
          </p:nvSpPr>
          <p:spPr>
            <a:xfrm>
              <a:off x="6248520" y="3959280"/>
              <a:ext cx="81000" cy="57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329520" y="3809880"/>
              <a:ext cx="152280" cy="21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197840" y="3795480"/>
            <a:ext cx="233280" cy="214200"/>
            <a:chOff x="7197840" y="3795480"/>
            <a:chExt cx="233280" cy="214200"/>
          </a:xfrm>
        </p:grpSpPr>
        <p:sp>
          <p:nvSpPr>
            <p:cNvPr id="646" name=""/>
            <p:cNvSpPr/>
            <p:nvPr/>
          </p:nvSpPr>
          <p:spPr>
            <a:xfrm>
              <a:off x="7197840" y="3944880"/>
              <a:ext cx="81000" cy="56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278840" y="3795480"/>
              <a:ext cx="152280" cy="21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620120" y="3809880"/>
            <a:ext cx="233280" cy="214560"/>
            <a:chOff x="7620120" y="3809880"/>
            <a:chExt cx="233280" cy="214560"/>
          </a:xfrm>
        </p:grpSpPr>
        <p:sp>
          <p:nvSpPr>
            <p:cNvPr id="649" name=""/>
            <p:cNvSpPr/>
            <p:nvPr/>
          </p:nvSpPr>
          <p:spPr>
            <a:xfrm>
              <a:off x="7620120" y="3959280"/>
              <a:ext cx="81000" cy="57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701120" y="3809880"/>
              <a:ext cx="152280" cy="21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8077320" y="3809880"/>
            <a:ext cx="233280" cy="214560"/>
            <a:chOff x="8077320" y="3809880"/>
            <a:chExt cx="233280" cy="214560"/>
          </a:xfrm>
        </p:grpSpPr>
        <p:sp>
          <p:nvSpPr>
            <p:cNvPr id="652" name=""/>
            <p:cNvSpPr/>
            <p:nvPr/>
          </p:nvSpPr>
          <p:spPr>
            <a:xfrm>
              <a:off x="8077320" y="3959280"/>
              <a:ext cx="81000" cy="57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158320" y="3809880"/>
              <a:ext cx="152280" cy="21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468360" y="1285920"/>
            <a:ext cx="8218440" cy="181080"/>
            <a:chOff x="468360" y="1285920"/>
            <a:chExt cx="8218440" cy="181080"/>
          </a:xfrm>
        </p:grpSpPr>
        <p:sp>
          <p:nvSpPr>
            <p:cNvPr id="128" name=""/>
            <p:cNvSpPr/>
            <p:nvPr/>
          </p:nvSpPr>
          <p:spPr>
            <a:xfrm>
              <a:off x="468360" y="1285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8360" y="1390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76440" y="365040"/>
            <a:ext cx="778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course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754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ance to  “improve”  your programm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3623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lgorithm analysis and in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277956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rogram 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24670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timizing cod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36232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8098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CM programming con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5909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464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W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181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search/prototype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2670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ands-on practice with algorithms and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60199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Unofficial course name:  CS  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7242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amiliarity with Java’s libraries OR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our choice of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656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2120" y="584352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124080" y="12114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1905120"/>
            <a:ext cx="364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DD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eedy M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umper F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owpoke M 1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rror F 1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dow F 10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sky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eepy 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841560" y="1508040"/>
            <a:ext cx="1407960" cy="581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27560" y="1355760"/>
            <a:ext cx="32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list of traits, R == "recessive"  D == "dominan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38680" y="16765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D traits are passed if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EITHER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parent has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38680" y="19350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R traits are passed if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BOTH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parents ha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84960" y="2749680"/>
            <a:ext cx="266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all of the parents, gender, and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486040" y="2286000"/>
            <a:ext cx="3240" cy="124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486400" y="3886200"/>
            <a:ext cx="1440" cy="4665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3976560"/>
            <a:ext cx="26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aby shrew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40120" y="4680000"/>
            <a:ext cx="26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Deduce their possible parent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7391520" y="3276720"/>
            <a:ext cx="1396800" cy="1054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7543800" y="4724280"/>
            <a:ext cx="1359000" cy="14097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505320" y="5486400"/>
            <a:ext cx="1676160" cy="113184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5562720" y="5334120"/>
            <a:ext cx="16761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677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678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2120" y="584352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124080" y="12114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24080" y="1905120"/>
            <a:ext cx="364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DD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eedy M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umper F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owpoke M 1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rror F 1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dow F 10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sky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eepy 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3841560" y="1508040"/>
            <a:ext cx="1407960" cy="581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227560" y="1355760"/>
            <a:ext cx="32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list of traits, R == "recessive"  D == "dominan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38680" y="16765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D traits are passed if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EITHER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parent has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638680" y="19350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R traits are passed if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BOTH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parents ha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84960" y="2749680"/>
            <a:ext cx="266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all of the parents, gender, and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5486040" y="2286000"/>
            <a:ext cx="3240" cy="124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>
            <a:off x="5486400" y="3886200"/>
            <a:ext cx="1440" cy="4665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86400" y="3976560"/>
            <a:ext cx="26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aby bunni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40120" y="4680000"/>
            <a:ext cx="26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Deduce their possible parent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467480" y="6148440"/>
            <a:ext cx="13446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50080" y="5659560"/>
            <a:ext cx="572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risky by Jumper-Slowpoke or Jumper-Speedy or 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Sleepy by 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103720" y="4983120"/>
            <a:ext cx="1185840" cy="692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84960" y="4992840"/>
            <a:ext cx="739800" cy="7063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497640" y="5018040"/>
            <a:ext cx="2009880" cy="6494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700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701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2120" y="584352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24080" y="12114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24080" y="1905120"/>
            <a:ext cx="364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DD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eedy M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umper F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owpoke M 1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rror F 1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dow F 10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sky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eepy 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3841560" y="1508040"/>
            <a:ext cx="1407960" cy="581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27560" y="1355760"/>
            <a:ext cx="32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list of traits, R == "recessive"  D == "dominan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38680" y="16765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D traits are passed if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EITHER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parent has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638680" y="19350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R traits are passed if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BOTH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parents ha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484960" y="2749680"/>
            <a:ext cx="266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all of the parents, gender, and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5486040" y="2286000"/>
            <a:ext cx="3240" cy="124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486400" y="3886200"/>
            <a:ext cx="1440" cy="4665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486400" y="3976560"/>
            <a:ext cx="26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aby bunni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740120" y="4680000"/>
            <a:ext cx="26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Deduce their possible parent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467480" y="6148440"/>
            <a:ext cx="13446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08320" y="5667480"/>
            <a:ext cx="59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risky by Jumper-Slowpoke or Jumper-Speedy</a:t>
            </a: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or 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Shadow-Spe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Sleepy by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hadow-Slowpo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5103720" y="4983120"/>
            <a:ext cx="1185840" cy="692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84960" y="4992840"/>
            <a:ext cx="739800" cy="7063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97640" y="5018040"/>
            <a:ext cx="2009880" cy="6494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723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657600" y="464832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de which problem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asi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which one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rd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(to code, not to comput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3048120" y="3573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these three problems…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2120" y="2773440"/>
            <a:ext cx="2749680" cy="20350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732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2743200" y="14158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y estimat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76720" y="2863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ar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08400" y="4324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easi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10080" y="1447920"/>
            <a:ext cx="32004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Times New Roman"/>
              </a:rPr>
              <a:t>important heurist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I’m always wr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685800" y="2666880"/>
            <a:ext cx="7781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you next Tues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S labs…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 flipH="1" flipV="1">
            <a:off x="2364840" y="139680"/>
            <a:ext cx="2583000" cy="21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flipV="1">
            <a:off x="1600200" y="1218960"/>
            <a:ext cx="312408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1066320" y="2666880"/>
            <a:ext cx="312444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019920" y="1515960"/>
            <a:ext cx="1150920" cy="79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019920" y="1307880"/>
            <a:ext cx="239400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0360" y="228600"/>
            <a:ext cx="8383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come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rogramming Practic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468360" y="1676520"/>
            <a:ext cx="8218440" cy="180360"/>
            <a:chOff x="468360" y="1676520"/>
            <a:chExt cx="8218440" cy="180360"/>
          </a:xfrm>
        </p:grpSpPr>
        <p:sp>
          <p:nvSpPr>
            <p:cNvPr id="749" name=""/>
            <p:cNvSpPr/>
            <p:nvPr/>
          </p:nvSpPr>
          <p:spPr>
            <a:xfrm>
              <a:off x="468360" y="16765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8360" y="17809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2819520" y="9907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the C into C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9480" y="2971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1981080" y="220932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5638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81080" y="5638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81080" y="655308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15000" y="65530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429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143000" y="51814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905120" y="3429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142640" y="34290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95480" y="297180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895480" y="601992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876920" y="29714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895480" y="297180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715000" y="297180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715000" y="6019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543800" y="29714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715000" y="2971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2286000"/>
            <a:ext cx="18288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kia"/>
              </a:rPr>
              <a:t>You aren’t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895480" y="3633840"/>
            <a:ext cx="198144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00400" y="4724280"/>
            <a:ext cx="16765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715000" y="3733920"/>
            <a:ext cx="7621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91120" y="304812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15000" y="4495680"/>
            <a:ext cx="7621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6880" y="5562720"/>
            <a:ext cx="5270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51280" y="5562720"/>
            <a:ext cx="568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642920" y="2674800"/>
            <a:ext cx="233640" cy="4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724360" y="2673360"/>
            <a:ext cx="371520" cy="11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505480" y="2676600"/>
            <a:ext cx="588960" cy="19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62560" y="2674800"/>
            <a:ext cx="625320" cy="279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343040" y="2674800"/>
            <a:ext cx="717480" cy="296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43240" y="307656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riting clinic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80160" y="5425920"/>
            <a:ext cx="77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nic liaison phon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02200" y="4545000"/>
            <a:ext cx="49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ding chunky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943600" y="3772080"/>
            <a:ext cx="6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booting knuth (or turing or…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01960" y="559116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talling Debian 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981080" y="36576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57400" y="38098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133720" y="39625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209680" y="4114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86600" y="1371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gineering dep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267480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38720" y="660564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dump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05920" y="99072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niversity of St. Petersbu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1676160" y="2285640"/>
            <a:ext cx="2514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4480" y="208584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the 405, in traffic, being chased by police (and TV) helicopt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" y="63691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ling something at the Claremont Post Off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8600" y="99072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iting for the snow enveloping you on Route 5 N to m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13440" y="2603520"/>
            <a:ext cx="225432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245440" y="2776680"/>
            <a:ext cx="84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rispy Kreme’s drive throu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038480" y="4952880"/>
            <a:ext cx="228600" cy="22860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6016680" y="2552400"/>
            <a:ext cx="21924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31520" y="2522520"/>
            <a:ext cx="345924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6320" y="579132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aching Honors English for Janice Barbee at Pomona High Sch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94280" y="2684520"/>
            <a:ext cx="2103480" cy="308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177040" y="2401920"/>
            <a:ext cx="73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orldcom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72400" y="5791320"/>
            <a:ext cx="1219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ing a  Gray Davis / Gary Coleman / Arnold “T-800” Schwarzenegger gubernatorial fundrai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5257800" y="213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854600" y="1851120"/>
            <a:ext cx="84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loring martian s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72400" y="4572000"/>
            <a:ext cx="1293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ing dragged off-course 18 miles into a marathon race by a crazed spect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08760" y="2654280"/>
            <a:ext cx="176364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9320" y="61228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ssey University Palmerston North, NZ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2666520" y="2666880"/>
            <a:ext cx="175284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5638680" y="1106640"/>
            <a:ext cx="1150920" cy="116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724800" y="9637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itts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94080" y="73080"/>
            <a:ext cx="31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iving N on the Dalton Highway… (though it feels like it!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468360" y="1285920"/>
            <a:ext cx="8218440" cy="181080"/>
            <a:chOff x="468360" y="1285920"/>
            <a:chExt cx="8218440" cy="181080"/>
          </a:xfrm>
        </p:grpSpPr>
        <p:sp>
          <p:nvSpPr>
            <p:cNvPr id="821" name=""/>
            <p:cNvSpPr/>
            <p:nvPr/>
          </p:nvSpPr>
          <p:spPr>
            <a:xfrm>
              <a:off x="468360" y="1285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8360" y="1390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676440" y="365040"/>
            <a:ext cx="778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course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38080" y="1754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ance to  “improve”  your programm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71600" y="23623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lgorithm analysis and in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371600" y="277956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rogram 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943600" y="24670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timizing cod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943600" y="236232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371600" y="38098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CM programming con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" y="25909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8600" y="4464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W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371600" y="5181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search/prototype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42670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ands-on practice with algorithms and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371600" y="60199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Unofficial course name:  CS  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371600" y="47242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amiliarity with Java’s libraries OR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our choice of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2438280" y="115920"/>
            <a:ext cx="448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457200" y="838080"/>
            <a:ext cx="8218440" cy="181080"/>
            <a:chOff x="457200" y="838080"/>
            <a:chExt cx="8218440" cy="181080"/>
          </a:xfrm>
        </p:grpSpPr>
        <p:sp>
          <p:nvSpPr>
            <p:cNvPr id="838" name=""/>
            <p:cNvSpPr/>
            <p:nvPr/>
          </p:nvSpPr>
          <p:spPr>
            <a:xfrm>
              <a:off x="457200" y="8380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57200" y="942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49440" y="1366920"/>
            <a:ext cx="8305560" cy="66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16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lcom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dom teams of 3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problems, 3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b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work on problems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Beckman B102 or 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cussion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of probl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6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b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new problems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, 2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13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cussion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of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20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b s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ew problems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 problems, 3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27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cussion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of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6      No class - Fall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0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ck ACM con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pm – 1am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eams of 3, 6 pr, 4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7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ass (out of t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3</a:t>
            </a: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cussion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mock contest + Fina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8600" y="2585880"/>
            <a:ext cx="15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8600" y="3500280"/>
            <a:ext cx="15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8600" y="4795920"/>
            <a:ext cx="15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3520" y="1447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33520" y="3606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4952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670040" y="6249960"/>
            <a:ext cx="564732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You may submit problems until the end of exam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69244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-263520" y="174384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per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16200000">
            <a:off x="-105120" y="28609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/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-263520" y="393444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 per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6200000">
            <a:off x="-230760" y="525960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-4 /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854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053160" y="1371600"/>
            <a:ext cx="282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lternating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9480" y="2270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iscussion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86400" y="2270160"/>
            <a:ext cx="2590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lab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2971800"/>
            <a:ext cx="44956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and program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strategy and coding t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ing on functional decomposition, data structures, language facilities, and algorithms to use in teams of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10080" y="2971800"/>
            <a:ext cx="3429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s should use 1 terminal per person (only the mock contest adheres to ACM ru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problems count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of th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217680" y="1936800"/>
            <a:ext cx="515880" cy="263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37280" y="1936800"/>
            <a:ext cx="450720" cy="272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32920" y="5334120"/>
            <a:ext cx="82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new problems, other times with known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371600" y="58514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1 problem per week per pers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08000" y="750960"/>
            <a:ext cx="7407360" cy="5686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000" y="1825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7 ACM regionals -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5720" y="2093760"/>
            <a:ext cx="68580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3120" y="2622600"/>
            <a:ext cx="68580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5200" y="2806560"/>
            <a:ext cx="68580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5200" y="2975040"/>
            <a:ext cx="68580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44920" y="14508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S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8280" y="4925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o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36840" y="508644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SD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60680" y="596736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PS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64960" y="298440"/>
            <a:ext cx="42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calcontest.org/history/2007/results-2007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21480" y="649116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http://icpc.baylor.edu/icpc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029200" y="66596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6488280"/>
            <a:ext cx="2895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 for the world finals, Ban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161040" cy="655344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 flipH="1" flipV="1">
            <a:off x="3076200" y="375840"/>
            <a:ext cx="3678120" cy="211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737400" y="4111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ourse web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65760" y="13716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reference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887640" y="1679400"/>
            <a:ext cx="857520" cy="4064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19560" y="59277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dministrative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7759440" y="6262560"/>
            <a:ext cx="191880" cy="490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914040" y="3376440"/>
            <a:ext cx="4457880" cy="11192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87960" y="3033720"/>
            <a:ext cx="25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roblem statements and tes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46800" y="4137120"/>
            <a:ext cx="25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roblems your team has 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893760" y="4359240"/>
            <a:ext cx="2629080" cy="3859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878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13716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 189 is graded individually..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t’s possible to take it P/F, to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9480" y="2376360"/>
            <a:ext cx="365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ing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14400" y="2971800"/>
            <a:ext cx="51339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s can be do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y 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uring the sem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ion of algorithms always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ng should b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in t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may use any referen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 existing solution or partial soluti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person should take the lead on each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/cs/ACM/acmSubmit &lt;file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sub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 things out 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2560320" y="5994000"/>
            <a:ext cx="1173240" cy="33012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33920" y="612468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reason for AC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303640" cy="25146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888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your languag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8080" y="1752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library of data structures and algorithm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" y="1157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s almost the universal choice for the competi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3808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 made simpler with 1.5’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7200" y="2895480"/>
            <a:ext cx="3962520" cy="37339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724280" y="2895480"/>
            <a:ext cx="3962520" cy="3335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581640" cy="352080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4792680" y="3048120"/>
            <a:ext cx="3809880" cy="307800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 flipH="1" flipV="1">
            <a:off x="6665400" y="5121000"/>
            <a:ext cx="946440" cy="1344600"/>
          </a:xfrm>
          <a:prstGeom prst="line">
            <a:avLst/>
          </a:prstGeom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967440" y="6435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mic Sans MS"/>
              </a:rPr>
              <a:t>the C in C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2709720" y="4941360"/>
            <a:ext cx="82800" cy="995400"/>
          </a:xfrm>
          <a:prstGeom prst="line">
            <a:avLst/>
          </a:prstGeom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0000" y="5979960"/>
            <a:ext cx="1851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mic Sans MS"/>
              </a:rPr>
              <a:t>Input from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1" lang="en-US" sz="1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mic Sans MS"/>
              </a:rPr>
              <a:t>Output to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4103640" y="5081400"/>
            <a:ext cx="1149480" cy="1276200"/>
          </a:xfrm>
          <a:prstGeom prst="line">
            <a:avLst/>
          </a:prstGeom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904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your languag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38080" y="130968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thon is n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80040" y="1309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027760" y="20448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ever language you choose needs to be able to run on the Macs in the CS labs (and preferably knuth, as wel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027760" y="4495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’ll likely need your help to get things set up for testing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1080" y="2233440"/>
            <a:ext cx="63680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ef floyd_warshall(W, infinity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n = matrix.get_num_rows(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 = matrix.clone(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D = matrix.make(n,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k in xrange(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i in xrange(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j in xrange(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D[i][j] = min(D[i][j], D[i][k] + D[k][j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D, D = D, 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retur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533520" cy="46656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3286080" y="58514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69280" y="6553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c0c0"/>
                </a:solidFill>
                <a:latin typeface="Arial"/>
              </a:rPr>
              <a:t>Marty: prolog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916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917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2120" y="198756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24080" y="13716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14680" y="2014560"/>
            <a:ext cx="136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##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843440" y="156060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words in the puzzle (to fol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4191120" y="2090880"/>
            <a:ext cx="1433520" cy="141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10240" y="196056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rows in the puzzle (after the wor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3784320" y="1700280"/>
            <a:ext cx="1089000" cy="38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481640" y="30402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4479480" y="2529000"/>
            <a:ext cx="3240" cy="12650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81640" y="45594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puzz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4481640" y="4061880"/>
            <a:ext cx="2880" cy="12654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610160" y="5981760"/>
            <a:ext cx="36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is indicates the end of the inp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3921120" y="5690880"/>
            <a:ext cx="728640" cy="353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400800" y="37339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58000" y="37339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315200" y="37339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315200" y="41911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0" y="4191120"/>
            <a:ext cx="45720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00800" y="41911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400800" y="46483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858000" y="46483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315200" y="46483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315200" y="5105520"/>
            <a:ext cx="45720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0" y="5105520"/>
            <a:ext cx="45720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00800" y="510552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5337000" y="4636800"/>
            <a:ext cx="933480" cy="7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948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949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2120" y="506556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124080" y="12114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514680" y="2014560"/>
            <a:ext cx="1362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03840" y="153180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empty boxes on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4053960" y="2073240"/>
            <a:ext cx="1449720" cy="109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10240" y="196056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# of clerks in the office (three lines e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3744720" y="1684440"/>
            <a:ext cx="1089000" cy="38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291360" y="25765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 flipV="1">
            <a:off x="6269040" y="235440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087880" y="6445080"/>
            <a:ext cx="25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is indicates the end of the inp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4088880" y="6594120"/>
            <a:ext cx="1024200" cy="3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866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5438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0010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19720" y="231300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ox(es) CHE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19720" y="25812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ox(es) ER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11800" y="286380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clerks who get a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4149720" y="3007800"/>
            <a:ext cx="277920" cy="3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4149720" y="2457000"/>
            <a:ext cx="277920" cy="3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49720" y="2722680"/>
            <a:ext cx="270000" cy="46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91120" y="34304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4168800" y="320832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89320" y="4253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4167360" y="4030200"/>
            <a:ext cx="1440" cy="7146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191120" y="50706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4168800" y="4847760"/>
            <a:ext cx="1440" cy="7146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89320" y="5908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clerk #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4167360" y="5686560"/>
            <a:ext cx="1440" cy="714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543480" y="313704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543480" y="3976560"/>
            <a:ext cx="533160" cy="1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543480" y="479916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43480" y="562140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543480" y="6446880"/>
            <a:ext cx="5331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150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722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29400" y="3657600"/>
            <a:ext cx="45720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797440" y="3392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2485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7057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629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6201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077320" y="3392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381880" y="365760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Times New Roman"/>
              </a:rPr>
              <a:t>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64520" y="5334120"/>
            <a:ext cx="13986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108840" y="5392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3 4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058080" y="5815080"/>
            <a:ext cx="26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Times New Roman"/>
              </a:rPr>
              <a:t>the boxes checked the last time it leaves clerk #0's desk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6248520" y="3809880"/>
            <a:ext cx="233280" cy="214560"/>
            <a:chOff x="6248520" y="3809880"/>
            <a:chExt cx="233280" cy="214560"/>
          </a:xfrm>
        </p:grpSpPr>
        <p:sp>
          <p:nvSpPr>
            <p:cNvPr id="1000" name=""/>
            <p:cNvSpPr/>
            <p:nvPr/>
          </p:nvSpPr>
          <p:spPr>
            <a:xfrm>
              <a:off x="6248520" y="3959280"/>
              <a:ext cx="81000" cy="57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329520" y="3809880"/>
              <a:ext cx="152280" cy="21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7197840" y="3795480"/>
            <a:ext cx="233280" cy="214200"/>
            <a:chOff x="7197840" y="3795480"/>
            <a:chExt cx="233280" cy="214200"/>
          </a:xfrm>
        </p:grpSpPr>
        <p:sp>
          <p:nvSpPr>
            <p:cNvPr id="1003" name=""/>
            <p:cNvSpPr/>
            <p:nvPr/>
          </p:nvSpPr>
          <p:spPr>
            <a:xfrm>
              <a:off x="7197840" y="3944880"/>
              <a:ext cx="81000" cy="56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78840" y="3795480"/>
              <a:ext cx="152280" cy="21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7620120" y="3809880"/>
            <a:ext cx="233280" cy="214560"/>
            <a:chOff x="7620120" y="3809880"/>
            <a:chExt cx="233280" cy="214560"/>
          </a:xfrm>
        </p:grpSpPr>
        <p:sp>
          <p:nvSpPr>
            <p:cNvPr id="1006" name=""/>
            <p:cNvSpPr/>
            <p:nvPr/>
          </p:nvSpPr>
          <p:spPr>
            <a:xfrm>
              <a:off x="7620120" y="3959280"/>
              <a:ext cx="81000" cy="57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701120" y="3809880"/>
              <a:ext cx="152280" cy="21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8077320" y="3809880"/>
            <a:ext cx="233280" cy="214560"/>
            <a:chOff x="8077320" y="3809880"/>
            <a:chExt cx="233280" cy="214560"/>
          </a:xfrm>
        </p:grpSpPr>
        <p:sp>
          <p:nvSpPr>
            <p:cNvPr id="1009" name=""/>
            <p:cNvSpPr/>
            <p:nvPr/>
          </p:nvSpPr>
          <p:spPr>
            <a:xfrm>
              <a:off x="8077320" y="3959280"/>
              <a:ext cx="81000" cy="57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8158320" y="3809880"/>
              <a:ext cx="152280" cy="21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1013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22120" y="5843520"/>
            <a:ext cx="2749680" cy="573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124080" y="1211400"/>
            <a:ext cx="11430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124080" y="1905120"/>
            <a:ext cx="364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DD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eedy M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umper F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owpoke M 1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rror F 1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dow F 10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sky 01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eepy 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3841560" y="1508040"/>
            <a:ext cx="1407960" cy="5810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227560" y="1355760"/>
            <a:ext cx="32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list of traits, R == "recessive"  D == "dominan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638680" y="16765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D traits are passed if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EITHER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parent has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638680" y="19350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R traits are passed if </a:t>
            </a:r>
            <a:r>
              <a:rPr b="1" i="1" lang="en-US" sz="1200" spc="-1" strike="noStrike">
                <a:solidFill>
                  <a:srgbClr val="008000"/>
                </a:solidFill>
                <a:latin typeface="Times New Roman"/>
              </a:rPr>
              <a:t>BOTH </a:t>
            </a: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parents ha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84960" y="2749680"/>
            <a:ext cx="266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all of the parents, gender, and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 flipV="1">
            <a:off x="5486040" y="2286000"/>
            <a:ext cx="3240" cy="1241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 flipV="1">
            <a:off x="5486400" y="3886200"/>
            <a:ext cx="1440" cy="4665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486400" y="3976560"/>
            <a:ext cx="26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baby shrew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740120" y="4680000"/>
            <a:ext cx="26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Deduce their possible parent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467480" y="6148440"/>
            <a:ext cx="13446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50080" y="5659560"/>
            <a:ext cx="572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risky by Jumper-Slowpoke or Jumper-Speedy or 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Sleepy by 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5103720" y="4983120"/>
            <a:ext cx="1185840" cy="692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384960" y="4992840"/>
            <a:ext cx="739800" cy="7063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497640" y="5018040"/>
            <a:ext cx="2009880" cy="6494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1035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4771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6 probs,  3 w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657600" y="464832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de which problem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asi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which one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rd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(to code, not to comput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1"/>
          <a:srcRect l="0" t="9091" r="0" b="0"/>
          <a:stretch/>
        </p:blipFill>
        <p:spPr>
          <a:xfrm>
            <a:off x="304920" y="1523880"/>
            <a:ext cx="2728800" cy="495324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3048120" y="3573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these three problems…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22120" y="2773440"/>
            <a:ext cx="2749680" cy="20350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468360" y="876240"/>
            <a:ext cx="8218440" cy="181080"/>
            <a:chOff x="468360" y="876240"/>
            <a:chExt cx="8218440" cy="181080"/>
          </a:xfrm>
        </p:grpSpPr>
        <p:sp>
          <p:nvSpPr>
            <p:cNvPr id="1044" name=""/>
            <p:cNvSpPr/>
            <p:nvPr/>
          </p:nvSpPr>
          <p:spPr>
            <a:xfrm>
              <a:off x="468360" y="876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8360" y="981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ches’ 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rcRect l="0" t="8748" r="0" b="0"/>
          <a:stretch/>
        </p:blipFill>
        <p:spPr>
          <a:xfrm>
            <a:off x="533520" y="1143000"/>
            <a:ext cx="8127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1049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your languag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38080" y="1752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library of data structures and algorithm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7200" y="1157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/Cthe universal choice for the competi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 made simpler with 1.5’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57200" y="2895480"/>
            <a:ext cx="3962520" cy="37339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24280" y="2895480"/>
            <a:ext cx="3962520" cy="3335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581640" cy="35208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2"/>
          <a:stretch/>
        </p:blipFill>
        <p:spPr>
          <a:xfrm>
            <a:off x="4792680" y="3048120"/>
            <a:ext cx="3809880" cy="307800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 flipH="1" flipV="1">
            <a:off x="6665400" y="5121000"/>
            <a:ext cx="946440" cy="1344600"/>
          </a:xfrm>
          <a:prstGeom prst="line">
            <a:avLst/>
          </a:prstGeom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967440" y="6435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mic Sans MS"/>
              </a:rPr>
              <a:t>the C in C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2709720" y="4941360"/>
            <a:ext cx="82800" cy="995400"/>
          </a:xfrm>
          <a:prstGeom prst="line">
            <a:avLst/>
          </a:prstGeom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340000" y="5979960"/>
            <a:ext cx="1851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mic Sans MS"/>
              </a:rPr>
              <a:t>Input from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1" lang="en-US" sz="1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mic Sans MS"/>
              </a:rPr>
              <a:t>Output to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03640" y="5081400"/>
            <a:ext cx="1149480" cy="1276200"/>
          </a:xfrm>
          <a:prstGeom prst="line">
            <a:avLst/>
          </a:prstGeom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158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3160" y="1371600"/>
            <a:ext cx="282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lternating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270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iscussion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2270160"/>
            <a:ext cx="2590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lab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971800"/>
            <a:ext cx="44956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and program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strategy and coding t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ing on functional decomposition, data structures, language facilities, and algorithms to use in teams of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2971800"/>
            <a:ext cx="3429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s should use 1 machine per person (only the mock contest adheres to ACM ru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problems count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of th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217680" y="1936800"/>
            <a:ext cx="515880" cy="263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37280" y="1936800"/>
            <a:ext cx="450720" cy="272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2920" y="5334120"/>
            <a:ext cx="82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new problems, other times with known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58514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3 problems per week per pers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4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1065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your languag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38080" y="130968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thon is n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84320" y="2065320"/>
            <a:ext cx="5407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ef floyd_warshall(W, infinity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n = matrix.get_num_rows(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 = matrix.clone(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D = matrix.make(n,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k in xrange(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i in xrange(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j in xrange(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D[i][j] = min(D[i][j]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[i][k] + D[k][j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DD, D = D, 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retur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533520" cy="46656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1490760" y="4570560"/>
            <a:ext cx="166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by :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469280" y="6553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c0c0"/>
                </a:solidFill>
                <a:latin typeface="Arial"/>
              </a:rPr>
              <a:t>Marty: prolog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754600" y="183672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 flipH="1" flipV="1">
            <a:off x="2364840" y="139680"/>
            <a:ext cx="2583000" cy="21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1600200" y="1218960"/>
            <a:ext cx="312408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066320" y="2666880"/>
            <a:ext cx="312444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019920" y="1515960"/>
            <a:ext cx="1150920" cy="79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019920" y="1307880"/>
            <a:ext cx="239400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60360" y="228600"/>
            <a:ext cx="8383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come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rogramming Practic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468360" y="1676520"/>
            <a:ext cx="8218440" cy="180360"/>
            <a:chOff x="468360" y="1676520"/>
            <a:chExt cx="8218440" cy="180360"/>
          </a:xfrm>
        </p:grpSpPr>
        <p:sp>
          <p:nvSpPr>
            <p:cNvPr id="1081" name=""/>
            <p:cNvSpPr/>
            <p:nvPr/>
          </p:nvSpPr>
          <p:spPr>
            <a:xfrm>
              <a:off x="468360" y="16765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8360" y="17809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2819520" y="9907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the C into C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09480" y="29718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9480" y="2971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981080" y="220932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09480" y="5638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5638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81080" y="655308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15000" y="65530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143000" y="3429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143000" y="51814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1905120" y="3429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1142640" y="34290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895480" y="297180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895480" y="601992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4876920" y="29714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895480" y="297180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715000" y="297180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715000" y="6019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7543800" y="29714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5715000" y="2971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191120" y="2286000"/>
            <a:ext cx="18288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kia"/>
              </a:rPr>
              <a:t>You aren’t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895480" y="3633840"/>
            <a:ext cx="198144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200400" y="4724280"/>
            <a:ext cx="16765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715000" y="3733920"/>
            <a:ext cx="7621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191120" y="304812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15000" y="4495680"/>
            <a:ext cx="7621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206880" y="5562720"/>
            <a:ext cx="5270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51280" y="5562720"/>
            <a:ext cx="568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4642920" y="2674800"/>
            <a:ext cx="233640" cy="4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24360" y="2673360"/>
            <a:ext cx="371520" cy="11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505480" y="2676600"/>
            <a:ext cx="588960" cy="19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62560" y="2674800"/>
            <a:ext cx="625320" cy="279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343040" y="2674800"/>
            <a:ext cx="717480" cy="296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43240" y="307656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riting clinic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780160" y="5425920"/>
            <a:ext cx="77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nic liaison phon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02200" y="4545000"/>
            <a:ext cx="49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ding chunky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943600" y="3772080"/>
            <a:ext cx="6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booting knuth (or turing or…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1960" y="559116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talling Debian 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981080" y="36576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057400" y="38098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33720" y="39625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4114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6600" y="1371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gineering dep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257800" y="267480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238720" y="660564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dump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8305920" y="99072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niversity of St. Petersbu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1676160" y="2285640"/>
            <a:ext cx="2514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14480" y="208584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the 405, in traffic, being chased by police (and TV) helicopt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7200" y="63691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iling something at the Claremont Post Off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8600" y="99072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iting for the snow enveloping you on Route 5 N to m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13440" y="2603520"/>
            <a:ext cx="225432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245440" y="2776680"/>
            <a:ext cx="84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rispy Kreme’s drive-throu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038480" y="4952880"/>
            <a:ext cx="228600" cy="22860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6016680" y="2552400"/>
            <a:ext cx="21924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731520" y="2522520"/>
            <a:ext cx="345924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6320" y="579132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aching Honors English for Janice Barbee at Pomona High Sch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894280" y="2684520"/>
            <a:ext cx="2103480" cy="308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8177040" y="2401920"/>
            <a:ext cx="73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orldcom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72400" y="5791320"/>
            <a:ext cx="1219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ading a  Gray Davis / Gary Coleman / Arnold “T-800” Schwarzenegger gubernatorial fundrai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5257800" y="213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54600" y="1851120"/>
            <a:ext cx="84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loring martian s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72400" y="4572000"/>
            <a:ext cx="1293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ing dragged off-course 18 miles into a marathon race by a crazed spect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008760" y="2670120"/>
            <a:ext cx="176364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119320" y="61228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ssey University Palmerston North, NZ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2666520" y="2666880"/>
            <a:ext cx="175284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5638680" y="1106640"/>
            <a:ext cx="1150920" cy="116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724800" y="9637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itts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494080" y="73080"/>
            <a:ext cx="31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iving N on the Dalton Highway… (though it feels like it!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778360" y="990720"/>
            <a:ext cx="176544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467480" y="838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ctorville, for DARPA's Urban Granc Challe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26040" y="2624040"/>
            <a:ext cx="205128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924680" y="3886200"/>
            <a:ext cx="98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iting in line to vote in the Florida primaries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077320" y="3124080"/>
            <a:ext cx="98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iting in line to vote in the Florida primaries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468360" y="1285920"/>
            <a:ext cx="8218440" cy="181080"/>
            <a:chOff x="468360" y="1285920"/>
            <a:chExt cx="8218440" cy="181080"/>
          </a:xfrm>
        </p:grpSpPr>
        <p:sp>
          <p:nvSpPr>
            <p:cNvPr id="1158" name=""/>
            <p:cNvSpPr/>
            <p:nvPr/>
          </p:nvSpPr>
          <p:spPr>
            <a:xfrm>
              <a:off x="468360" y="1285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8360" y="1390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676440" y="365040"/>
            <a:ext cx="778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course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38080" y="1754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ance to  “improve”  your programm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371600" y="23623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lgorithm analysis and in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71600" y="277956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rogram 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943600" y="24670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timizing cod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36232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71600" y="38098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CM programming con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28600" y="25909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28600" y="4464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W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371600" y="5181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search/prototype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371600" y="42670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ands-on practice with algorithms and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71600" y="60199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Unofficial course name:  CS  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371600" y="47242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amiliarity with Java’s libraries OR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our choice of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1174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053160" y="1371600"/>
            <a:ext cx="282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lternating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480" y="2270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iscussion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486400" y="2270160"/>
            <a:ext cx="2590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lab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57200" y="2971800"/>
            <a:ext cx="44956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and program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strategy and coding t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ing on functional decomposition, data structures, language facilities, and algorithms to use in teams of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410080" y="2971800"/>
            <a:ext cx="3429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s should use 1 machine per person (only the mock contest adheres to ACM ru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problems count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of the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3217680" y="1936800"/>
            <a:ext cx="515880" cy="263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37280" y="1936800"/>
            <a:ext cx="450720" cy="272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32920" y="5334120"/>
            <a:ext cx="82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new problems, other times with known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371600" y="58514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3 problems per week per pers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1187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1295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 from prior semester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066680" y="232092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ake individual vs. team-based work clear, lectures vs. l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752480" y="2819520"/>
            <a:ext cx="6629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blems are, in general, individually completed, ex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066680" y="190512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here should be an opportunity to start coding “col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066680" y="605484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nacks and jotto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066680" y="478800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roblems per person per wee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752480" y="5283360"/>
            <a:ext cx="4572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2 in the 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3 in the sp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752480" y="3235320"/>
            <a:ext cx="6096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ose done during the lab "mock contest"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286000" y="4332240"/>
            <a:ext cx="48769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bmit for each person (or email me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6000" y="3673440"/>
            <a:ext cx="6095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vide the code to all team me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86000" y="3978360"/>
            <a:ext cx="6477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ou may or may not choose to work as a team afterw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2438280" y="115920"/>
            <a:ext cx="448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457200" y="838080"/>
            <a:ext cx="8218440" cy="181080"/>
            <a:chOff x="457200" y="838080"/>
            <a:chExt cx="8218440" cy="181080"/>
          </a:xfrm>
        </p:grpSpPr>
        <p:sp>
          <p:nvSpPr>
            <p:cNvPr id="1203" name=""/>
            <p:cNvSpPr/>
            <p:nvPr/>
          </p:nvSpPr>
          <p:spPr>
            <a:xfrm>
              <a:off x="457200" y="8380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7200" y="942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649440" y="1366920"/>
            <a:ext cx="830556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9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lcom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view of dynamic programming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b/Mock contest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cussion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geometry problems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19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b/Mock contest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26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b/Mock contest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4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cussion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search problems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11    No class… need to be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18    No class - Spring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3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ck ACM con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pm – midnight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5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cu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rap-up of the seme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8080" y="5943600"/>
            <a:ext cx="3124440" cy="6426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You may submit problems until the end of exam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968720" y="5943600"/>
            <a:ext cx="3124440" cy="6426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Sat. Mar 8 and Sat. Apr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external competi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2438280" y="115920"/>
            <a:ext cx="448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etition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457200" y="838080"/>
            <a:ext cx="8218440" cy="181080"/>
            <a:chOff x="457200" y="838080"/>
            <a:chExt cx="8218440" cy="181080"/>
          </a:xfrm>
        </p:grpSpPr>
        <p:sp>
          <p:nvSpPr>
            <p:cNvPr id="1210" name=""/>
            <p:cNvSpPr/>
            <p:nvPr/>
          </p:nvSpPr>
          <p:spPr>
            <a:xfrm>
              <a:off x="457200" y="8380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7200" y="942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56080" cy="4303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1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2040" cy="1362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14" name=""/>
          <p:cNvSpPr/>
          <p:nvPr/>
        </p:nvSpPr>
        <p:spPr>
          <a:xfrm>
            <a:off x="5454000" y="3414600"/>
            <a:ext cx="31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ccsc.org/southwestern/2008/contes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8600" y="60469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ww.ieee.org/web/membership/students/scholarshipsawardscontests/ieeextreme.ht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486400" y="5105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Sat. Mar 8 and Sat. Apr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external competi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3914280" y="5048280"/>
            <a:ext cx="1676520" cy="23976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 flipV="1">
            <a:off x="7054560" y="3730680"/>
            <a:ext cx="406440" cy="138888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7629480" cy="636912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 flipH="1" flipV="1">
            <a:off x="2989080" y="527040"/>
            <a:ext cx="3733560" cy="8906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718320" y="126684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ourse web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498200" y="1828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4114440" y="2166840"/>
            <a:ext cx="552600" cy="5763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470280" y="61722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dministrative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5486400" y="6384960"/>
            <a:ext cx="982800" cy="3538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3535200" y="5173560"/>
            <a:ext cx="1309680" cy="193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495680" y="4952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roblem statements and tes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8320" y="55627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roblems you have 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128320" y="5764320"/>
            <a:ext cx="3475080" cy="153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48040" y="2176560"/>
            <a:ext cx="820800" cy="895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1232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09480" y="13716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 189 is graded individually..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t’s possible to take it P/F, to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09480" y="2376360"/>
            <a:ext cx="365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ing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914400" y="2971800"/>
            <a:ext cx="51339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s can be do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y 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uring the sem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ion of algorithms always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ng should b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in t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may use any referenc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 existing solution or partial soluti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person should take the lead on each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/cs/ACM/acmSubmit &lt;file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sub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 things out 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 flipV="1">
            <a:off x="2560320" y="5994000"/>
            <a:ext cx="1173240" cy="33012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612468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reason for AC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2395800" cy="28191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1" name=""/>
          <p:cNvGrpSpPr/>
          <p:nvPr/>
        </p:nvGrpSpPr>
        <p:grpSpPr>
          <a:xfrm>
            <a:off x="468360" y="961920"/>
            <a:ext cx="8218440" cy="181080"/>
            <a:chOff x="468360" y="961920"/>
            <a:chExt cx="8218440" cy="181080"/>
          </a:xfrm>
        </p:grpSpPr>
        <p:sp>
          <p:nvSpPr>
            <p:cNvPr id="1242" name=""/>
            <p:cNvSpPr/>
            <p:nvPr/>
          </p:nvSpPr>
          <p:spPr>
            <a:xfrm>
              <a:off x="46836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ultipl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9680" y="1452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are worth double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838080" y="2133720"/>
            <a:ext cx="513396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solve them during the 4:15 - 5:30 lab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are the first person to use a particular languag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though there is an additional responsibility here: to set up the testing system to handle that languag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's one of the "extra difficult" problems, which will be determined as we go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447920" y="43578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anguages already u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447920" y="251604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team gets credit, up to 3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901880" y="4800600"/>
            <a:ext cx="1600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ython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ruby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java  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29000" y="4800600"/>
            <a:ext cx="16002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++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erl        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ostscript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4800600"/>
            <a:ext cx="16002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#           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haskell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rolog 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553080" y="4803840"/>
            <a:ext cx="1600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hp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088040" y="6215040"/>
            <a:ext cx="188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These multipliers may be accumulated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468360" y="990720"/>
            <a:ext cx="8218440" cy="180360"/>
            <a:chOff x="468360" y="990720"/>
            <a:chExt cx="8218440" cy="180360"/>
          </a:xfrm>
        </p:grpSpPr>
        <p:sp>
          <p:nvSpPr>
            <p:cNvPr id="171" name=""/>
            <p:cNvSpPr/>
            <p:nvPr/>
          </p:nvSpPr>
          <p:spPr>
            <a:xfrm>
              <a:off x="46836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36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295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 from prior semester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232092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ake individual vs. team-based work clear, lectures vs. l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2819520"/>
            <a:ext cx="6629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blems are, in general, individually completed -- ex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90512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here should be an opportunity to start coding “col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05484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nacks and jotto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478800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roblems per person per wee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283360"/>
            <a:ext cx="4572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2 in the 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3 in the sp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235320"/>
            <a:ext cx="6096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ose done during the lab "mock contest"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4332240"/>
            <a:ext cx="48769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bmit for each person (or email me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3673440"/>
            <a:ext cx="6095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vide the code to all team me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978360"/>
            <a:ext cx="6477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ou may or may not choose to work as a team afterw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1255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925560" y="137304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When a seemingly intractable problem has large amounts of repeated or redundant substructure, DP can sometimes provide an efficient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85800" y="22860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table of partial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14800" y="228744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 computation with table look-up whe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25440" y="351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066680" y="4267080"/>
            <a:ext cx="68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1373040" y="5758920"/>
            <a:ext cx="363600" cy="381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97080" y="4829040"/>
            <a:ext cx="138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Numbers,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, up to 10</a:t>
            </a:r>
            <a:r>
              <a:rPr b="0" lang="en-US" sz="1600" spc="-1" strike="noStrike" baseline="42000">
                <a:solidFill>
                  <a:srgbClr val="008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4267080"/>
            <a:ext cx="114300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222560" y="617220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0 marks the end of th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1661760" y="4905000"/>
            <a:ext cx="515880" cy="198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671480" y="5159520"/>
            <a:ext cx="508320" cy="145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876920" y="4419720"/>
            <a:ext cx="111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248520" y="4572000"/>
            <a:ext cx="2396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smallest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decimal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multiple of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with only the digi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724280" y="380988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848720" y="6248520"/>
            <a:ext cx="114300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de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095800" cy="5791320"/>
          </a:xfrm>
          <a:prstGeom prst="rect">
            <a:avLst/>
          </a:prstGeom>
          <a:ln w="0">
            <a:noFill/>
          </a:ln>
        </p:spPr>
      </p:pic>
      <p:grpSp>
        <p:nvGrpSpPr>
          <p:cNvPr id="1274" name=""/>
          <p:cNvGrpSpPr/>
          <p:nvPr/>
        </p:nvGrpSpPr>
        <p:grpSpPr>
          <a:xfrm>
            <a:off x="4908600" y="914400"/>
            <a:ext cx="3778200" cy="181080"/>
            <a:chOff x="4908600" y="914400"/>
            <a:chExt cx="3778200" cy="181080"/>
          </a:xfrm>
        </p:grpSpPr>
        <p:sp>
          <p:nvSpPr>
            <p:cNvPr id="1275" name=""/>
            <p:cNvSpPr/>
            <p:nvPr/>
          </p:nvSpPr>
          <p:spPr>
            <a:xfrm>
              <a:off x="4908600" y="914400"/>
              <a:ext cx="37782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08600" y="1019160"/>
              <a:ext cx="37782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5141880" y="152280"/>
            <a:ext cx="34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67280" y="327672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unt up to the solution, starting from 1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"/>
          <p:cNvGrpSpPr/>
          <p:nvPr/>
        </p:nvGrpSpPr>
        <p:grpSpPr>
          <a:xfrm>
            <a:off x="468360" y="1066680"/>
            <a:ext cx="8218440" cy="181080"/>
            <a:chOff x="468360" y="1066680"/>
            <a:chExt cx="8218440" cy="181080"/>
          </a:xfrm>
        </p:grpSpPr>
        <p:sp>
          <p:nvSpPr>
            <p:cNvPr id="1280" name=""/>
            <p:cNvSpPr/>
            <p:nvPr/>
          </p:nvSpPr>
          <p:spPr>
            <a:xfrm>
              <a:off x="46836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836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676440" y="22860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72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ng intermediate results in a table for fast look-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3352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put N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124080" y="25146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ssible remainders upon dividing by N 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04920" y="45943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# of digits in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2209680" y="3352680"/>
          <a:ext cx="5715000" cy="325116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200"/>
                <a:gridCol w="952560"/>
                <a:gridCol w="952200"/>
                <a:gridCol w="9529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8" name=""/>
          <p:cNvSpPr/>
          <p:nvPr/>
        </p:nvSpPr>
        <p:spPr>
          <a:xfrm>
            <a:off x="25207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47940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43988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40036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36084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321320" y="2941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758600" y="435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58600" y="354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58600" y="516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758600" y="598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437640" y="342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217840" y="51944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227480" y="51944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85880" y="519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176600" y="519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437640" y="5103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185880" y="4356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176600" y="4356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437640" y="4267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244240" y="5977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217840" y="597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227480" y="597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185880" y="5977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176600" y="5977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37640" y="5888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" descr=""/>
          <p:cNvPicPr/>
          <p:nvPr/>
        </p:nvPicPr>
        <p:blipFill>
          <a:blip r:embed="rId1"/>
          <a:stretch/>
        </p:blipFill>
        <p:spPr>
          <a:xfrm>
            <a:off x="231840" y="460440"/>
            <a:ext cx="6835680" cy="6016680"/>
          </a:xfrm>
          <a:prstGeom prst="rect">
            <a:avLst/>
          </a:prstGeom>
          <a:ln w="0">
            <a:noFill/>
          </a:ln>
        </p:spPr>
      </p:pic>
      <p:grpSp>
        <p:nvGrpSpPr>
          <p:cNvPr id="1314" name=""/>
          <p:cNvGrpSpPr/>
          <p:nvPr/>
        </p:nvGrpSpPr>
        <p:grpSpPr>
          <a:xfrm>
            <a:off x="4908600" y="914400"/>
            <a:ext cx="3778200" cy="181080"/>
            <a:chOff x="4908600" y="914400"/>
            <a:chExt cx="3778200" cy="181080"/>
          </a:xfrm>
        </p:grpSpPr>
        <p:sp>
          <p:nvSpPr>
            <p:cNvPr id="1315" name=""/>
            <p:cNvSpPr/>
            <p:nvPr/>
          </p:nvSpPr>
          <p:spPr>
            <a:xfrm>
              <a:off x="4908600" y="914400"/>
              <a:ext cx="37782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908600" y="1019160"/>
              <a:ext cx="377820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5141880" y="152280"/>
            <a:ext cx="34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19920" y="3962520"/>
            <a:ext cx="26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Only checking values for which a remainder has not yet been used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"/>
          <p:cNvGrpSpPr/>
          <p:nvPr/>
        </p:nvGrpSpPr>
        <p:grpSpPr>
          <a:xfrm>
            <a:off x="468360" y="914400"/>
            <a:ext cx="8218440" cy="181080"/>
            <a:chOff x="468360" y="914400"/>
            <a:chExt cx="8218440" cy="181080"/>
          </a:xfrm>
        </p:grpSpPr>
        <p:sp>
          <p:nvSpPr>
            <p:cNvPr id="1320" name=""/>
            <p:cNvSpPr/>
            <p:nvPr/>
          </p:nvSpPr>
          <p:spPr>
            <a:xfrm>
              <a:off x="46836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6836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>
            <a:off x="676440" y="15228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477120" y="533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4 probl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612720"/>
          </a:xfrm>
          <a:prstGeom prst="rect">
            <a:avLst/>
          </a:prstGeom>
          <a:ln w="0">
            <a:noFill/>
          </a:ln>
        </p:spPr>
      </p:pic>
      <p:sp>
        <p:nvSpPr>
          <p:cNvPr id="1325" name=""/>
          <p:cNvSpPr/>
          <p:nvPr/>
        </p:nvSpPr>
        <p:spPr>
          <a:xfrm>
            <a:off x="533520" y="3200400"/>
            <a:ext cx="61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eams of ~3, thin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222200" y="3881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ow would you solve this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230480" y="520524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ow could you mo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mplify the programm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235160" y="5867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ink of a 5-letter jotto word…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227240" y="454356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s it a dynamic programming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47920" y="1338120"/>
            <a:ext cx="61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- divide up with one problem per group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38280" y="115920"/>
            <a:ext cx="448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57200" y="838080"/>
            <a:ext cx="8218440" cy="181080"/>
            <a:chOff x="457200" y="838080"/>
            <a:chExt cx="8218440" cy="181080"/>
          </a:xfrm>
        </p:grpSpPr>
        <p:sp>
          <p:nvSpPr>
            <p:cNvPr id="187" name=""/>
            <p:cNvSpPr/>
            <p:nvPr/>
          </p:nvSpPr>
          <p:spPr>
            <a:xfrm>
              <a:off x="457200" y="8380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" y="942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49440" y="1366920"/>
            <a:ext cx="830556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9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lcom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view of dynamic programming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b/Mock contest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cussion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geometry problems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19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b/Mock contest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 26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b/Mock contest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4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cussion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search problems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11    No class… need to be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18    No class - Spring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3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ck ACM con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pm – midnight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5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cu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rap-up of the seme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943600"/>
            <a:ext cx="3124440" cy="6426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You may submit problems until the end of exam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68720" y="5943600"/>
            <a:ext cx="3124440" cy="6426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Sat. Mar 8 and Sat. Apr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external competi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38280" y="115920"/>
            <a:ext cx="448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etition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57200" y="838080"/>
            <a:ext cx="8218440" cy="181080"/>
            <a:chOff x="457200" y="838080"/>
            <a:chExt cx="8218440" cy="181080"/>
          </a:xfrm>
        </p:grpSpPr>
        <p:sp>
          <p:nvSpPr>
            <p:cNvPr id="194" name=""/>
            <p:cNvSpPr/>
            <p:nvPr/>
          </p:nvSpPr>
          <p:spPr>
            <a:xfrm>
              <a:off x="457200" y="8380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942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56080" cy="4303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2040" cy="1362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5454000" y="3414600"/>
            <a:ext cx="31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ccsc.org/southwestern/2008/contes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8600" y="60469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ww.ieee.org/web/membership/students/scholarshipsawardscontests/ieeextreme.ht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5105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Sat. Mar 8 and Sat. Apr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external competi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914280" y="5048280"/>
            <a:ext cx="1676520" cy="23976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7054560" y="3730680"/>
            <a:ext cx="406440" cy="138888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7629480" cy="6369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H="1" flipV="1">
            <a:off x="2989080" y="527040"/>
            <a:ext cx="3733560" cy="8906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18320" y="126684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ourse web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8200" y="1828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14440" y="2166840"/>
            <a:ext cx="552600" cy="5763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68480" y="61722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dministrative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486400" y="6384960"/>
            <a:ext cx="982800" cy="3538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35200" y="5173560"/>
            <a:ext cx="1309680" cy="193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952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roblem statements and tes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55627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roblems you have 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128320" y="5764320"/>
            <a:ext cx="3475080" cy="153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48040" y="2176560"/>
            <a:ext cx="820800" cy="895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28:52Z</dcterms:created>
  <dc:creator>keller</dc:creator>
  <dc:description/>
  <cp:keywords/>
  <dc:language>en-US</dc:language>
  <cp:lastModifiedBy>Zachary Dodds</cp:lastModifiedBy>
  <cp:lastPrinted>2008-01-29T14:53:38Z</cp:lastPrinted>
  <dcterms:modified xsi:type="dcterms:W3CDTF">2008-01-30T15:06:45Z</dcterms:modified>
  <cp:revision>1024</cp:revision>
  <dc:subject/>
  <dc:title>CS 60 Slides</dc:title>
</cp:coreProperties>
</file>