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ct" ContentType="image/x-pict"/>
  <Override PartName="/ppt/media/image11.png" ContentType="image/png"/>
  <Override PartName="/ppt/media/image6.png" ContentType="image/png"/>
  <Override PartName="/ppt/media/image17.pct" ContentType="image/x-pict"/>
  <Override PartName="/ppt/media/image10.png" ContentType="image/png"/>
  <Override PartName="/ppt/media/image5.png" ContentType="image/png"/>
  <Override PartName="/ppt/media/image4.png" ContentType="image/png"/>
  <Override PartName="/ppt/media/image15.pct" ContentType="image/x-pict"/>
  <Override PartName="/ppt/media/image27.png" ContentType="image/png"/>
  <Override PartName="/ppt/media/image28.pct" ContentType="image/x-pict"/>
  <Override PartName="/ppt/media/image23.png" ContentType="image/png"/>
  <Override PartName="/ppt/media/image22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c5be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0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8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a21"/>
              </a:buClr>
              <a:buSzPct val="45000"/>
              <a:buFont typeface="Monotype Sort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42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7845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roblems and geometric algorith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k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36640" y="2554200"/>
            <a:ext cx="53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sidential graph-algorithm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514600"/>
            <a:ext cx="6400800" cy="4038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46440" y="357660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44640" y="404172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8160" y="4483080"/>
            <a:ext cx="32256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6720" y="494820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30240" y="5415120"/>
            <a:ext cx="32256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88024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51080" y="3519360"/>
            <a:ext cx="45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loyd-Warshal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54320" y="398448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dgar Dijkstr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source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5760" y="4417920"/>
            <a:ext cx="45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ord-Fulkerson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flow min-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54320" y="4883040"/>
            <a:ext cx="53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Bellman For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ingle-source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9640" y="5369040"/>
            <a:ext cx="52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Prim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54320" y="58374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Kruskal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51040" y="30495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03880" y="30495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39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3296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46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0694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53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4470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6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221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6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40096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74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80694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81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518320" cy="3397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421400" y="6264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189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30968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2c4"/>
                </a:solidFill>
                <a:latin typeface="Times New Roman"/>
              </a:rPr>
              <a:t>Line Segment intersec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523880" y="2742840"/>
            <a:ext cx="2097360" cy="1214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752480"/>
            <a:ext cx="2590560" cy="1452600"/>
          </a:xfrm>
          <a:prstGeom prst="line">
            <a:avLst/>
          </a:prstGeom>
          <a:ln w="12600">
            <a:solidFill>
              <a:srgbClr val="0b02c4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4000" y="2143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520" y="35384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1, y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79640" y="2509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2, y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7040" y="1398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02c4"/>
                </a:solidFill>
                <a:latin typeface="Courier New"/>
              </a:rPr>
              <a:t>(x3, y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70720" y="2871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02c4"/>
                </a:solidFill>
                <a:latin typeface="Courier New"/>
              </a:rPr>
              <a:t>(x4, y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01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0968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2c4"/>
                </a:solidFill>
                <a:latin typeface="Times New Roman"/>
              </a:rPr>
              <a:t>Line Segment intersec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2742840"/>
            <a:ext cx="2097360" cy="1214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752480"/>
            <a:ext cx="2590560" cy="1452600"/>
          </a:xfrm>
          <a:prstGeom prst="line">
            <a:avLst/>
          </a:prstGeom>
          <a:ln w="12600">
            <a:solidFill>
              <a:srgbClr val="0b02c4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64000" y="2143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520" y="35384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1, y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79640" y="2509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2, y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7040" y="1398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02c4"/>
                </a:solidFill>
                <a:latin typeface="Courier New"/>
              </a:rPr>
              <a:t>(x3, y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70720" y="2871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02c4"/>
                </a:solidFill>
                <a:latin typeface="Courier New"/>
              </a:rPr>
              <a:t>(x4, y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049720"/>
            <a:ext cx="227808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1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2400" spc="-1" strike="noStrike" baseline="-31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2400" spc="-1" strike="noStrike" baseline="-31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497560"/>
            <a:ext cx="227808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2c4"/>
                </a:solidFill>
                <a:latin typeface="Times New Roman"/>
              </a:rPr>
              <a:t>A</a:t>
            </a:r>
            <a:r>
              <a:rPr b="1" lang="en-US" sz="2400" spc="-1" strike="noStrike" baseline="-31000">
                <a:solidFill>
                  <a:srgbClr val="0b02c4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b02c4"/>
                </a:solidFill>
                <a:latin typeface="Times New Roman"/>
              </a:rPr>
              <a:t> + B</a:t>
            </a:r>
            <a:r>
              <a:rPr b="1" lang="en-US" sz="2400" spc="-1" strike="noStrike" baseline="-31000">
                <a:solidFill>
                  <a:srgbClr val="0b02c4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b02c4"/>
                </a:solidFill>
                <a:latin typeface="Times New Roman"/>
              </a:rPr>
              <a:t> = C</a:t>
            </a:r>
            <a:r>
              <a:rPr b="1" lang="en-US" sz="2400" spc="-1" strike="noStrike" baseline="-31000">
                <a:solidFill>
                  <a:srgbClr val="0b02c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89800" y="4419720"/>
            <a:ext cx="142272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200" spc="-1" strike="noStrike" baseline="-31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y2-y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200" spc="-1" strike="noStrike" baseline="-31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x1-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200" spc="-1" strike="noStrike" baseline="-31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A*x1+B*y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89800" y="5943600"/>
            <a:ext cx="142272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02c4"/>
                </a:solidFill>
                <a:latin typeface="Courier New"/>
              </a:rPr>
              <a:t>A</a:t>
            </a:r>
            <a:r>
              <a:rPr b="1" lang="en-US" sz="1200" spc="-1" strike="noStrike" baseline="-31000">
                <a:solidFill>
                  <a:srgbClr val="0b02c4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b02c4"/>
                </a:solidFill>
                <a:latin typeface="Courier New"/>
              </a:rPr>
              <a:t> = y4-y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02c4"/>
                </a:solidFill>
                <a:latin typeface="Courier New"/>
              </a:rPr>
              <a:t>B</a:t>
            </a:r>
            <a:r>
              <a:rPr b="1" lang="en-US" sz="1200" spc="-1" strike="noStrike" baseline="-31000">
                <a:solidFill>
                  <a:srgbClr val="0b02c4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b02c4"/>
                </a:solidFill>
                <a:latin typeface="Courier New"/>
              </a:rPr>
              <a:t> = x3-x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02c4"/>
                </a:solidFill>
                <a:latin typeface="Courier New"/>
              </a:rPr>
              <a:t>C</a:t>
            </a:r>
            <a:r>
              <a:rPr b="1" lang="en-US" sz="1200" spc="-1" strike="noStrike" baseline="-31000">
                <a:solidFill>
                  <a:srgbClr val="0b02c4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b02c4"/>
                </a:solidFill>
                <a:latin typeface="Courier New"/>
              </a:rPr>
              <a:t> = A*x3+B*y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51400" y="5192640"/>
            <a:ext cx="457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26120" y="5192640"/>
            <a:ext cx="641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31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2c4"/>
                </a:solidFill>
                <a:latin typeface="Times New Roman"/>
              </a:rPr>
              <a:t>C</a:t>
            </a:r>
            <a:r>
              <a:rPr b="1" lang="en-US" sz="2400" spc="-1" strike="noStrike" baseline="-31000">
                <a:solidFill>
                  <a:srgbClr val="0b02c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192640"/>
            <a:ext cx="10666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1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400" spc="-1" strike="noStrike" baseline="-31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2c4"/>
                </a:solidFill>
                <a:latin typeface="Times New Roman"/>
              </a:rPr>
              <a:t>A</a:t>
            </a:r>
            <a:r>
              <a:rPr b="1" lang="en-US" sz="2400" spc="-1" strike="noStrike" baseline="-31000">
                <a:solidFill>
                  <a:srgbClr val="0b02c4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b02c4"/>
                </a:solidFill>
                <a:latin typeface="Times New Roman"/>
              </a:rPr>
              <a:t>  B</a:t>
            </a:r>
            <a:r>
              <a:rPr b="1" lang="en-US" sz="2400" spc="-1" strike="noStrike" baseline="-31000">
                <a:solidFill>
                  <a:srgbClr val="0b02c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472428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et up ABCs as show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t = A1*B2 - A2*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det == 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</a:rPr>
              <a:t>'parallel!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(B2*C1 - B1*C2)/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(A1*C2 - A2*C1)/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24400" y="5119560"/>
            <a:ext cx="911160" cy="78444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4520" y="5119560"/>
            <a:ext cx="408240" cy="78444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22960" y="5119560"/>
            <a:ext cx="480960" cy="78444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97440" y="528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81840" y="6400800"/>
            <a:ext cx="291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how about the </a:t>
            </a:r>
            <a:r>
              <a:rPr b="0" i="1" lang="en-US" sz="1600" spc="-1" strike="noStrike" u="sng">
                <a:solidFill>
                  <a:srgbClr val="008000"/>
                </a:solidFill>
                <a:uFillTx/>
                <a:latin typeface="Times New Roman"/>
              </a:rPr>
              <a:t>segments</a:t>
            </a:r>
            <a:r>
              <a:rPr b="0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87760" y="1897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(x,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27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309680"/>
            <a:ext cx="35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2c4"/>
                </a:solidFill>
                <a:latin typeface="Times New Roman"/>
              </a:rPr>
              <a:t>Java has its advantag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1240" y="206532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awt.geom.Line2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2d.linesIntersect(x1, y1, x2, y2, x3, y3, x4, y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809880" cy="3513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419720" y="60199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more in </a:t>
            </a:r>
            <a:r>
              <a:rPr b="1" lang="en-US" sz="1600" spc="-1" strike="noStrike">
                <a:solidFill>
                  <a:srgbClr val="0b02c4"/>
                </a:solidFill>
                <a:latin typeface="Courier New"/>
              </a:rPr>
              <a:t>Line2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b02c4"/>
                </a:solidFill>
                <a:latin typeface="Courier New"/>
              </a:rPr>
              <a:t>Rectangle2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b02c4"/>
                </a:solidFill>
                <a:latin typeface="Courier New"/>
              </a:rPr>
              <a:t>Polyg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nyone else for D? (except for this problem :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11294" b="0"/>
          <a:stretch/>
        </p:blipFill>
        <p:spPr>
          <a:xfrm>
            <a:off x="4114800" y="2438280"/>
            <a:ext cx="4572000" cy="3683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39669" r="0" b="0"/>
          <a:stretch/>
        </p:blipFill>
        <p:spPr>
          <a:xfrm>
            <a:off x="4114800" y="76320"/>
            <a:ext cx="3182760" cy="243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461040" cy="454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0" r="0" b="60339"/>
          <a:stretch/>
        </p:blipFill>
        <p:spPr>
          <a:xfrm>
            <a:off x="152280" y="4648320"/>
            <a:ext cx="318312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152280"/>
            <a:ext cx="0" cy="6019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35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x H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167200" cy="2271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464160" y="577224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egments surrounding the </a:t>
            </a:r>
            <a:r>
              <a:rPr b="1" i="1" lang="en-US" sz="1400" spc="-1" strike="noStrike">
                <a:solidFill>
                  <a:srgbClr val="0b02c4"/>
                </a:solidFill>
                <a:latin typeface="Times New Roman"/>
              </a:rPr>
              <a:t>exterio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a point s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35812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approach:  </a:t>
            </a:r>
            <a:r>
              <a:rPr b="1" i="1" lang="en-US" sz="2400" spc="-1" strike="noStrike">
                <a:solidFill>
                  <a:srgbClr val="0b02c4"/>
                </a:solidFill>
                <a:latin typeface="Times New Roman"/>
              </a:rPr>
              <a:t>brute fo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610480" cy="1730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79640" y="4264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all triang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82520" y="4875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all ed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45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x H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167200" cy="2271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464160" y="577224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egments surrounding the </a:t>
            </a:r>
            <a:r>
              <a:rPr b="1" i="1" lang="en-US" sz="1400" spc="-1" strike="noStrike">
                <a:solidFill>
                  <a:srgbClr val="0b02c4"/>
                </a:solidFill>
                <a:latin typeface="Times New Roman"/>
              </a:rPr>
              <a:t>exterio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a point s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5812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approach:  </a:t>
            </a:r>
            <a:r>
              <a:rPr b="1" i="1" lang="en-US" sz="2400" spc="-1" strike="noStrike">
                <a:solidFill>
                  <a:srgbClr val="0b02c4"/>
                </a:solidFill>
                <a:latin typeface="Times New Roman"/>
              </a:rPr>
              <a:t>brute for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610480" cy="1730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79640" y="4264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all triangles: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82520" y="4875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all edges: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82520" y="54864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asymptotic complex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56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ham 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10240" cy="2666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71440" y="12891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first algorithm in computational geometry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4876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1800" spc="-1" strike="noStrike">
                <a:solidFill>
                  <a:srgbClr val="0b02c4"/>
                </a:solidFill>
                <a:latin typeface="Courier New"/>
              </a:rPr>
              <a:t> Find extremal point, P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2722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)</a:t>
            </a:r>
            <a:r>
              <a:rPr b="1" lang="en-US" sz="1800" spc="-1" strike="noStrike">
                <a:solidFill>
                  <a:srgbClr val="0b02c4"/>
                </a:solidFill>
                <a:latin typeface="Courier New"/>
              </a:rPr>
              <a:t> Sort all other points in terms of their angles with P[0] - us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tan2</a:t>
            </a:r>
            <a:r>
              <a:rPr b="1" lang="en-US" sz="1800" spc="-1" strike="noStrike">
                <a:solidFill>
                  <a:srgbClr val="0b02c4"/>
                </a:solidFill>
                <a:latin typeface="Courier New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26256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)</a:t>
            </a:r>
            <a:r>
              <a:rPr b="1" lang="en-US" sz="1800" spc="-1" strike="noStrike">
                <a:solidFill>
                  <a:srgbClr val="0b02c4"/>
                </a:solidFill>
                <a:latin typeface="Courier New"/>
              </a:rPr>
              <a:t> the sorted list is P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81680" y="30654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)</a:t>
            </a:r>
            <a:r>
              <a:rPr b="1" lang="en-US" sz="1800" spc="-1" strike="noStrike">
                <a:solidFill>
                  <a:srgbClr val="0b02c4"/>
                </a:solidFill>
                <a:latin typeface="Courier New"/>
              </a:rPr>
              <a:t> push P[0] and P[1] onto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18600" y="2674800"/>
            <a:ext cx="392040" cy="42408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02440" y="2185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Comic Sans MS"/>
              </a:rPr>
              <a:t>a stack (e.g.,  python li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6520" y="4114800"/>
            <a:ext cx="365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= the top of stack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= the second point o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P[i] is to the left of B to A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 P[i] onto stack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= i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 stack S and discard the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76640" y="3595680"/>
            <a:ext cx="40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)</a:t>
            </a:r>
            <a:r>
              <a:rPr b="1" lang="en-US" sz="1800" spc="-1" strike="noStrike">
                <a:solidFill>
                  <a:srgbClr val="0b02c4"/>
                </a:solidFill>
                <a:latin typeface="Courier New"/>
              </a:rPr>
              <a:t> run the sc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270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r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1440" y="12891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direction are three points tur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37000" y="249552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4038480"/>
            <a:ext cx="136800" cy="136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05040" y="3108240"/>
            <a:ext cx="13644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0520" y="4219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7800" y="50292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P = </a:t>
            </a:r>
            <a:r>
              <a:rPr b="1" lang="en-US" sz="2400" spc="-1" strike="noStrike">
                <a:solidFill>
                  <a:srgbClr val="800080"/>
                </a:solidFill>
                <a:latin typeface="Courier New"/>
              </a:rPr>
              <a:t>(x2-x1)</a:t>
            </a:r>
            <a:r>
              <a:rPr b="1" lang="en-US" sz="2400" spc="-1" strike="noStrike">
                <a:solidFill>
                  <a:srgbClr val="b40218"/>
                </a:solidFill>
                <a:latin typeface="Courier New"/>
              </a:rPr>
              <a:t>(y3-y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(y2-y1)</a:t>
            </a:r>
            <a:r>
              <a:rPr b="1" lang="en-US" sz="2400" spc="-1" strike="noStrike">
                <a:solidFill>
                  <a:srgbClr val="0b02c4"/>
                </a:solidFill>
                <a:latin typeface="Courier New"/>
              </a:rPr>
              <a:t>(x3-x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722760" y="4105440"/>
            <a:ext cx="760320" cy="7920"/>
          </a:xfrm>
          <a:prstGeom prst="line">
            <a:avLst/>
          </a:prstGeom>
          <a:ln w="1260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79560" y="2595600"/>
            <a:ext cx="1800" cy="495360"/>
          </a:xfrm>
          <a:prstGeom prst="line">
            <a:avLst/>
          </a:prstGeom>
          <a:ln w="12600">
            <a:solidFill>
              <a:srgbClr val="b4021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02160" y="2688840"/>
            <a:ext cx="3240" cy="1381320"/>
          </a:xfrm>
          <a:prstGeom prst="line">
            <a:avLst/>
          </a:prstGeom>
          <a:ln w="1260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789280" y="2563920"/>
            <a:ext cx="1630440" cy="7920"/>
          </a:xfrm>
          <a:prstGeom prst="line">
            <a:avLst/>
          </a:prstGeom>
          <a:ln w="12600">
            <a:solidFill>
              <a:srgbClr val="0b02c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2720" y="583884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CP &gt; 0:  1-&gt;2-&gt;3 is a left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CP &lt; 0:  1-&gt;2-&gt;3 is a right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66880" y="54259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"cross-produc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06560" y="2651040"/>
            <a:ext cx="726840" cy="137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36800" y="3243240"/>
            <a:ext cx="73512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290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x Hull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309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rvis M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5486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start 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18040" y="5641920"/>
            <a:ext cx="1015920" cy="7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89760" y="4816440"/>
            <a:ext cx="1392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draw a line to this point (wh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519600" y="5010120"/>
            <a:ext cx="492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333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914400" y="152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them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5486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start 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18040" y="5641920"/>
            <a:ext cx="1015920" cy="7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89760" y="4816440"/>
            <a:ext cx="1143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draw a line to thi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519600" y="5010120"/>
            <a:ext cx="492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387680" y="5017680"/>
            <a:ext cx="200052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94160" y="501804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562608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48640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aw a line to the point with the LEAST relative angle  (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2400" y="54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362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914400" y="152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them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0760" y="4849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start 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333840" y="3979800"/>
            <a:ext cx="663480" cy="169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519600" y="5010120"/>
            <a:ext cx="492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387680" y="5017680"/>
            <a:ext cx="200052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94160" y="501804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94160" y="562608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29320" y="4078440"/>
            <a:ext cx="25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aw a line to the point with the LEAST relative angle  (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234120" y="3940200"/>
            <a:ext cx="15408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7285680" y="3856680"/>
            <a:ext cx="163440" cy="1514520"/>
          </a:xfrm>
          <a:custGeom>
            <a:avLst/>
            <a:gdLst>
              <a:gd name="textAreaLeft" fmla="*/ 104400 w 163440"/>
              <a:gd name="textAreaRight" fmla="*/ 163800 w 163440"/>
              <a:gd name="textAreaTop" fmla="*/ 39240 h 1514520"/>
              <a:gd name="textAreaBottom" fmla="*/ 1475280 h 15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391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914400" y="152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them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6333840" y="3979800"/>
            <a:ext cx="663480" cy="169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87680" y="5017680"/>
            <a:ext cx="200052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94160" y="501804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94160" y="562608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29320" y="4078440"/>
            <a:ext cx="25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aw a line to the point with the LEAST relative angle  (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234120" y="3940200"/>
            <a:ext cx="15408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7285680" y="3856680"/>
            <a:ext cx="163440" cy="1514520"/>
          </a:xfrm>
          <a:custGeom>
            <a:avLst/>
            <a:gdLst>
              <a:gd name="textAreaLeft" fmla="*/ 104400 w 163440"/>
              <a:gd name="textAreaRight" fmla="*/ 163800 w 163440"/>
              <a:gd name="textAreaTop" fmla="*/ 39240 h 1514520"/>
              <a:gd name="textAreaBottom" fmla="*/ 1475280 h 15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4724280"/>
            <a:ext cx="1523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but bigger than the previous 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80280" y="46893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384960" y="4830840"/>
            <a:ext cx="6080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6183360" y="4420800"/>
            <a:ext cx="18576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422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914400" y="152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them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394160" y="5003280"/>
            <a:ext cx="2001960" cy="61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6234120" y="3925800"/>
            <a:ext cx="15408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010120" y="2631960"/>
            <a:ext cx="1224000" cy="1301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855960" y="2415960"/>
            <a:ext cx="1162080" cy="223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393640" y="2416320"/>
            <a:ext cx="1469880" cy="731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86080" y="3164040"/>
            <a:ext cx="807840" cy="1469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93920" y="4626000"/>
            <a:ext cx="1200240" cy="1000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2743200"/>
            <a:ext cx="12952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continue until you return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7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3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Floyd-Warshal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6002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short all-pairs shortest paths algorith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6964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1680" y="76320"/>
            <a:ext cx="472464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ENUMBERZEROCODEPRINTZEROGOTOONELINENUMBERONECODEPRINTONEGOTOONEZEROLINENUMB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NEZEROCODEPRINTZEROGOTOONEONELINENUMBERONEONECODEPRINTZEROGOTOONEZEROZEROLI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BERONEZEROZEROCODEPRINTONEGOTOONEZEROONELINENUMBERONEZEROONECODEPRINTZEROG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ONEZEROLINENUMBERONEONEZEROCODEPRINTZEROGOTOONEONEONELINENUMBERONEONE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ZEROGOTOONEZEROZEROZEROLINENUMBERONEZEROZEROZEROCODEPRINTZEROGOTOONEZERO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ONELINENUMBERONEZEROZEROONECODEPRINTONEGOTOONEZEROONEZEROLINENUMBER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CODEPRINTONEGOTOONEZEROONEONELINENUMBERONEZEROONEONECODEPRINTZEROGOTO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ZEROLINENUMBERONEONEZEROZEROCODEPRINTZEROGOTOONEONEZEROONELINENUMBER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CODEPRINTONEGOTOONEONEONEZEROLINENUMBERONEONEONEZEROCODEPRINTZERO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LINENUMBERONEONEONEONECODEPRINTONEGOTOONEZEROZEROZEROZERO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ZEROZEROCODEPRINTZEROGOTOONEZEROZEROZEROONELINENUMBERONEZEROZERO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DEPRINTONEGOTOONEZEROZEROONEZEROLINENUMBERONEZEROZEROONEZEROCODEPRINTONEGOTO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ZEROZEROONEONELINENUMBERONEZEROZEROONEONECODEPRINTZEROGOTOONEZEROONEZEROZERO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ENUMBERONEZEROONEZEROZEROCODEPRINTONEGOTOONEZEROONEZEROONELINENUMBER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ONECODEPRINTONEGOTOONEZEROONEONEZEROLINENUMBERONEZEROONEONEZEROCODEPRINT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GOTOONEZEROONEONEONELINENUMBERONEZEROONEONEONECODEPRINTZEROGOTOONEONEZERO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LINENUMBERONEONEZEROZEROZEROCODEPRINTZEROGOTOONEONEZEROZEROONE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CODEPRINTONEGOTOONEONEZEROONEZEROLINENUMBERONEONEZEROONEZEROCOD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INTONEGOTOONEONEZEROONEONELINENUMBERONEONEZEROONEONECODEPRINTZEROGOTOONE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LINENUMBERONEONEONEZEROZEROCODEPRINTONEGOTOONEONEONEZEROONELINENUMBER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ZEROONECODEPRINTONEGOTOONEONEONEONEZEROLINENUMBERONEONEONEONEZEROCODEPR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TZEROGOTOONEONEONEONEONELINENUMBERONEONEONEONEONECODEPRINTZEROGOTOONEZEROZERO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ZEROZEROLINENUMBERONEZEROZEROZEROZEROZEROCODEPRINTZEROGOTOONEZEROZERO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LINENUMBERONEZEROZEROZEROZEROONECODEPRINTONEGOTOONEZEROZEROZEROONEZEROLIN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MBERONEZEROZEROZEROONEZEROCODEPRINTONEGOTOONEZEROZEROZEROONEONELINENUMBERONE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ZEROZEROONEONECODEPRINTZEROGOTOONEZEROZEROONEZEROZEROLINENUMBERONEZERO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CODEPRINTONEGOTOONEZEROZEROONEZEROONELINENUMBERONEZEROZEROONEZERO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ZEROONEONEZEROLINENUMBERONEZEROZEROONEONEZEROCODEPRINTONE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ONEZEROZEROONEONEONELINENUMBERONEZEROZEROONEONEONECODEPRINTONEGOTOONEZEROONE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ZEROZEROLINENUMBERONEZEROONEZEROZEROZEROCODEPRINTZEROGOTOONEZEROONEZEROZERO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LINENUMBERONEZEROONEZEROZEROONECODEPRINTZEROGOTOONEZEROONEZEROONEZEROLINENUM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NEZEROONEZEROONEZEROCODEPRINTONEGOTOONEZEROONEZEROONEONELINENUMBERONE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ONECODEPRINTZEROGOTOONEZEROONEONEZEROZEROLINENUMBERONEZEROONEONEZERO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DEPRINTZEROGOTOONEZEROONEONEZEROONELINENUMBERONEZEROONEONEZEROONECODEPRINT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83520" y="4602240"/>
            <a:ext cx="17524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33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lb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581280" cy="2957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354120" y="2438280"/>
            <a:ext cx="3533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&gt;0&gt; 5+  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@'+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&gt;0&gt;4*+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+,  / 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vXv/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\   \  \  \  \  \  \  \  \  \  \  \  \  \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4@ 6@ 7@ 7@ 7@ 0@ 5@ 7@ 8@ 7@ 6@ 0@ 2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*&lt;&lt;&lt;&lt;&lt;&lt;&lt;&lt;&lt;&lt;&lt;&lt;&lt;&lt;&lt;&lt;&lt;&lt;&lt;&lt;&lt;&lt;&lt;&lt;&lt;&lt;&lt;&lt;&lt;&lt;&lt;&lt;&lt;&lt;&lt;&lt;~&lt;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P++&lt;&lt;&lt;&lt;&lt;&lt;&lt;&lt;&lt;&lt;&lt;&lt;&lt;&lt;&lt;&lt;&lt;&lt;&lt;&lt;&lt;&lt;&lt;&lt;&lt;&lt;&lt;&lt;&lt;&lt;&lt;&lt;&lt;&lt;&lt;&lt;~&lt;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Q  0@ 9@ 6@ 6@ 9@ 0@ 5@ 9@ 2@ 6@ 8@ 1@ 2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\     /  /  /  /  /  /  /  /  /  /  /  /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4419720"/>
            <a:ext cx="3657600" cy="398520"/>
          </a:xfrm>
          <a:prstGeom prst="rect">
            <a:avLst/>
          </a:prstGeom>
          <a:noFill/>
          <a:ln w="9360">
            <a:solidFill>
              <a:srgbClr val="0dc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ce22"/>
                </a:solidFill>
                <a:latin typeface="Courier New"/>
                <a:ea typeface="ＭＳ Ｐゴシック"/>
              </a:rPr>
              <a:t>(=&lt;`#9]~6ZY32Vw/.R,+Op(L,+k#Gh&amp;}Cdz@aw=;zyKw%ut4Uqp0/mlejihtfrHcbaC2^W\&gt;Z,XW)UTSL53\HGFj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11720" y="4727520"/>
            <a:ext cx="3838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+B+B+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||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||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FF%FFF%FFF%CCC%CCC%CCC%FFF%FFF%FFF%FFFFFF%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GG%GGG%GGG%DDD%DDD%DDD%GGGGGGGGG%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EEE%%%EEE%EEE%%%%%%EEE%EEE%EEE%EEE%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CC%%%%%CCC%DDD%%%%%EEE%FFF%FFF%FFF%FFFF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8240" y="2892600"/>
            <a:ext cx="3342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34t l33tN3$$?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3h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41n't s0 7rIck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33t sP33k is U8er keWl 4nD eA5y wehn u 7hink 1t tHr0uG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f u w4nn4be UB3R-l33t u d3f1n1t3lY w4nt in 0n a b4d4s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4xX0r1ng s1tE!!! ;p  w4r3Z c0ll3cT10n2 r 7eh l3Et3r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4k3 cL4nS r 7eh bE5t tH1ng 1n teh 3nTIr3 w0rlD!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4m3s wh3r3 u g3t to 5h00t ppl r 70tAl1_y w1cK1d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'M teh fr4GM4stEr aN I'lL t0t41_1Ly wIpE teh phr34k1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L00r ***j3d1 5tYlE*** wItH y0uR h1dE!!!! L0L0L0L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3lEphR4gG1nG l4m3rs wit mY m8tes r34lLy k1kK$ A$$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33t hAxX0r$ CrE4t3 u8er- k3wL 5tUff lIkE n34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0gR4mm1nG lAnguidGe$... s0m3tIm3$ teh l4nGu4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00k jUst l1k3 rE41_ 0neS 7o mAkE ppl Th1nk th3y'r3 ju$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0rMal lEE7 5pEEk but th3y're 5ecRetLy c0dE!!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080DY unDer5tAnD$ l33t SpEaK 4p4rT fr0m j3d1!!!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0mE kId 0n A me$$4gEb04rD m1ghT 8E a r0xX0r1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AxX0r wH0 w4nT2 t0 bR34k 5tuFf, 0r mAyb3 ju5t sh0w 7e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y5 l33t ppl cAn 8E m0re lIkE y0d4!!! hE i5 teh u8ER!!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t m1ght 8E 5omE v1rus 0r a Pl4ySt4tI0n ch34t c0d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t 3v3n MiTe jUs7 s4y "H3LL0 W0RLD!!!" u ju5t cAn'T gu3s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3r3's n3v3r anY p0iNt l00KiNg sC3pT1c4l c0s th4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1_1Ev3 iT 0r n0t, 1s whAt th1s 1s!!!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uxX0r5!!!L0L0L0L0L!!!!!!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2057400" cy="1962000"/>
          </a:xfrm>
          <a:prstGeom prst="rect">
            <a:avLst/>
          </a:prstGeom>
          <a:ln w="9360">
            <a:solidFill>
              <a:srgbClr val="0805e8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7086600" y="3708360"/>
            <a:ext cx="1917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5e8"/>
                </a:solidFill>
                <a:latin typeface="Comic Sans MS"/>
                <a:ea typeface="ＭＳ Ｐゴシック"/>
              </a:rPr>
              <a:t>Hello, Wor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5e8"/>
                </a:solidFill>
                <a:latin typeface="Comic Sans MS"/>
                <a:ea typeface="ＭＳ Ｐゴシック"/>
              </a:rPr>
              <a:t>99 bottles of b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89800" y="3352680"/>
            <a:ext cx="1095480" cy="285480"/>
          </a:xfrm>
          <a:prstGeom prst="rect">
            <a:avLst/>
          </a:prstGeom>
          <a:noFill/>
          <a:ln w="9360">
            <a:solidFill>
              <a:srgbClr val="0805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5e8"/>
                </a:solidFill>
                <a:latin typeface="Comic Sans MS"/>
                <a:ea typeface="ＭＳ Ｐゴシック"/>
              </a:rPr>
              <a:t>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5105520"/>
            <a:ext cx="1095120" cy="28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00960" y="6629400"/>
            <a:ext cx="155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one is missing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462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76440" y="228600"/>
            <a:ext cx="778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152388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2209680"/>
            <a:ext cx="4495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b+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+b)+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-(b-c)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-b)(0-b+a) - 1a ^ 2 - b ^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b 2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2 3 3 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a^1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1752480"/>
            <a:ext cx="25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8904"/>
                </a:solidFill>
                <a:latin typeface="Comic Sans MS"/>
              </a:rPr>
              <a:t>correct polynom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6172200"/>
            <a:ext cx="27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nd of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52880" y="4818240"/>
            <a:ext cx="27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polynomials to 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66680" y="5791320"/>
            <a:ext cx="60984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727280" y="1971720"/>
            <a:ext cx="2590560" cy="42372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362240" y="2073240"/>
            <a:ext cx="2963520" cy="139716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616040" y="2139840"/>
            <a:ext cx="2795760" cy="242280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4735440"/>
            <a:ext cx="127080" cy="566640"/>
          </a:xfrm>
          <a:custGeom>
            <a:avLst/>
            <a:gdLst>
              <a:gd name="textAreaLeft" fmla="*/ 0 w 127080"/>
              <a:gd name="textAreaRight" fmla="*/ 45720 w 127080"/>
              <a:gd name="textAreaTop" fmla="*/ 14760 h 566640"/>
              <a:gd name="textAreaBottom" fmla="*/ 5518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10120" y="3633840"/>
            <a:ext cx="127080" cy="566640"/>
          </a:xfrm>
          <a:custGeom>
            <a:avLst/>
            <a:gdLst>
              <a:gd name="textAreaLeft" fmla="*/ 0 w 127080"/>
              <a:gd name="textAreaRight" fmla="*/ 45720 w 127080"/>
              <a:gd name="textAreaTop" fmla="*/ 14760 h 566640"/>
              <a:gd name="textAreaBottom" fmla="*/ 5518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52600" y="2541600"/>
            <a:ext cx="127080" cy="566640"/>
          </a:xfrm>
          <a:custGeom>
            <a:avLst/>
            <a:gdLst>
              <a:gd name="textAreaLeft" fmla="*/ 0 w 127080"/>
              <a:gd name="textAreaRight" fmla="*/ 45720 w 127080"/>
              <a:gd name="textAreaTop" fmla="*/ 14760 h 566640"/>
              <a:gd name="textAreaBottom" fmla="*/ 5518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478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76440" y="228600"/>
            <a:ext cx="778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28800" y="152388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2209680"/>
            <a:ext cx="4495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b+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+b)+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-(b-c)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-b)(0-b+a) - 1a ^ 2 - b ^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b 2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2 3 3 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a^1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1752480"/>
            <a:ext cx="25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8904"/>
                </a:solidFill>
                <a:latin typeface="Comic Sans MS"/>
              </a:rPr>
              <a:t>correct polynom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6172200"/>
            <a:ext cx="27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nd of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52880" y="4818240"/>
            <a:ext cx="27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polynomials to 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1066680" y="5791320"/>
            <a:ext cx="60984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727280" y="1971720"/>
            <a:ext cx="2590560" cy="42372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362240" y="2073240"/>
            <a:ext cx="2963520" cy="139716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16040" y="2139840"/>
            <a:ext cx="2795760" cy="242280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3280" y="4735440"/>
            <a:ext cx="127080" cy="566640"/>
          </a:xfrm>
          <a:custGeom>
            <a:avLst/>
            <a:gdLst>
              <a:gd name="textAreaLeft" fmla="*/ 0 w 127080"/>
              <a:gd name="textAreaRight" fmla="*/ 45720 w 127080"/>
              <a:gd name="textAreaTop" fmla="*/ 14760 h 566640"/>
              <a:gd name="textAreaBottom" fmla="*/ 5518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10120" y="3633840"/>
            <a:ext cx="127080" cy="566640"/>
          </a:xfrm>
          <a:custGeom>
            <a:avLst/>
            <a:gdLst>
              <a:gd name="textAreaLeft" fmla="*/ 0 w 127080"/>
              <a:gd name="textAreaRight" fmla="*/ 45720 w 127080"/>
              <a:gd name="textAreaTop" fmla="*/ 14760 h 566640"/>
              <a:gd name="textAreaBottom" fmla="*/ 5518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52600" y="2541600"/>
            <a:ext cx="127080" cy="566640"/>
          </a:xfrm>
          <a:custGeom>
            <a:avLst/>
            <a:gdLst>
              <a:gd name="textAreaLeft" fmla="*/ 0 w 127080"/>
              <a:gd name="textAreaRight" fmla="*/ 45720 w 127080"/>
              <a:gd name="textAreaTop" fmla="*/ 14760 h 566640"/>
              <a:gd name="textAreaBottom" fmla="*/ 5518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81680" y="274320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54840" y="3360600"/>
            <a:ext cx="106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05484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ther or not the evaluated polynomials are equivalent to the “correct” polynomia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51720" y="5486400"/>
            <a:ext cx="771480" cy="579600"/>
          </a:xfrm>
          <a:custGeom>
            <a:avLst/>
            <a:gdLst/>
            <a:ahLst/>
            <a:rect l="l" t="t" r="r" b="b"/>
            <a:pathLst>
              <a:path w="486" h="365">
                <a:moveTo>
                  <a:pt x="224" y="331"/>
                </a:moveTo>
                <a:cubicBezTo>
                  <a:pt x="326" y="342"/>
                  <a:pt x="434" y="365"/>
                  <a:pt x="486" y="267"/>
                </a:cubicBezTo>
                <a:cubicBezTo>
                  <a:pt x="475" y="182"/>
                  <a:pt x="448" y="113"/>
                  <a:pt x="358" y="96"/>
                </a:cubicBezTo>
                <a:cubicBezTo>
                  <a:pt x="308" y="71"/>
                  <a:pt x="241" y="58"/>
                  <a:pt x="187" y="53"/>
                </a:cubicBezTo>
                <a:cubicBezTo>
                  <a:pt x="152" y="42"/>
                  <a:pt x="122" y="35"/>
                  <a:pt x="86" y="32"/>
                </a:cubicBezTo>
                <a:cubicBezTo>
                  <a:pt x="55" y="22"/>
                  <a:pt x="28" y="1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498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ipel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152388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2209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 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1752480"/>
            <a:ext cx="25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8904"/>
                </a:solidFill>
                <a:latin typeface="Comic Sans MS"/>
              </a:rPr>
              <a:t>oil rig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548640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nd of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3733920"/>
            <a:ext cx="27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a second inpu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1142640" y="5105520"/>
            <a:ext cx="60948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727280" y="1971720"/>
            <a:ext cx="2590560" cy="42372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676160" y="2073240"/>
            <a:ext cx="2649240" cy="51768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676520" y="2139840"/>
            <a:ext cx="2735280" cy="75564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342900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512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ipel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152388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2209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 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1752480"/>
            <a:ext cx="25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8904"/>
                </a:solidFill>
                <a:latin typeface="Comic Sans MS"/>
              </a:rPr>
              <a:t>oil rig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76520" y="548640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nd of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3733920"/>
            <a:ext cx="27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a second inpu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1142640" y="5105520"/>
            <a:ext cx="60948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727280" y="1971720"/>
            <a:ext cx="2590560" cy="42372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676160" y="2073240"/>
            <a:ext cx="2649240" cy="51768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139840"/>
            <a:ext cx="2735280" cy="755640"/>
          </a:xfrm>
          <a:prstGeom prst="line">
            <a:avLst/>
          </a:prstGeom>
          <a:ln w="12600">
            <a:solidFill>
              <a:srgbClr val="0b8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00200" y="342900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43800" y="182880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68880" y="3809880"/>
            <a:ext cx="469188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OIL FIEL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30+----+----+----+----+----+----+----+----+----+----+----+----+----+----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@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25+....................................................................*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20+....................................................................@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15+....................................................................*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....................................................................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|@********************************************************************|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10+----+----+----+----+----+----+----+----+----+----+----+----+----+----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0    5    10   15   20   25   30   35   40   45   50   55   60   65  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7680" y="1447920"/>
            <a:ext cx="1247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IL FIE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0+----+----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....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....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@...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*...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+..*......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*@..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**..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*@*******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.....@...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+----+----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    5   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43800" y="3276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 the other order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7405560" y="2892240"/>
            <a:ext cx="625680" cy="401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102440" y="3637080"/>
            <a:ext cx="690480" cy="2379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380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533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hull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9480" y="2057400"/>
            <a:ext cx="137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8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0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928800" y="42512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50440" y="44956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5600" y="13971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rubber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09720" y="189216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238040" y="2070000"/>
            <a:ext cx="1446120" cy="1796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24280" y="3019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0800000">
            <a:off x="1801800" y="2506320"/>
            <a:ext cx="147600" cy="1368360"/>
          </a:xfrm>
          <a:custGeom>
            <a:avLst/>
            <a:gdLst>
              <a:gd name="textAreaLeft" fmla="*/ 94320 w 147600"/>
              <a:gd name="textAreaRight" fmla="*/ 147960 w 1476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53080" y="16002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67080" y="3429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8280" y="3370320"/>
            <a:ext cx="12348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53280" y="2590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76920" y="182880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3733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67480" y="472428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4880" y="346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0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43800" y="4800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4,-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35760" y="2328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9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6120" y="1919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8,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36180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10,-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560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hull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2057400"/>
            <a:ext cx="137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8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0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928800" y="42512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50440" y="44956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5600" y="13971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rubber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09720" y="189216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238040" y="2070000"/>
            <a:ext cx="1446120" cy="1796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24280" y="3019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0800000">
            <a:off x="1801800" y="2506320"/>
            <a:ext cx="147600" cy="1368360"/>
          </a:xfrm>
          <a:custGeom>
            <a:avLst/>
            <a:gdLst>
              <a:gd name="textAreaLeft" fmla="*/ 94320 w 147600"/>
              <a:gd name="textAreaRight" fmla="*/ 147960 w 1476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553080" y="16002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67080" y="3429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488280" y="3370320"/>
            <a:ext cx="12348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153280" y="2590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182880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95680" y="3733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67480" y="472428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46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0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4800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4,-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835760" y="2328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9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6120" y="1919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8,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6180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10,-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4941720" y="1885680"/>
            <a:ext cx="1616400" cy="153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555800" y="1878120"/>
            <a:ext cx="377640" cy="19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548240" y="3431880"/>
            <a:ext cx="1993680" cy="36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527960" y="2647800"/>
            <a:ext cx="676080" cy="214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6550200" y="3440160"/>
            <a:ext cx="977760" cy="1355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550200" y="2647440"/>
            <a:ext cx="166176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593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hull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480" y="2057400"/>
            <a:ext cx="137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8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0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928800" y="42512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50440" y="44956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5600" y="13971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rubber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09720" y="189216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238040" y="2070000"/>
            <a:ext cx="1446120" cy="1796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24280" y="3019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800000">
            <a:off x="1801800" y="2506320"/>
            <a:ext cx="147600" cy="1368360"/>
          </a:xfrm>
          <a:custGeom>
            <a:avLst/>
            <a:gdLst>
              <a:gd name="textAreaLeft" fmla="*/ 94320 w 147600"/>
              <a:gd name="textAreaRight" fmla="*/ 147960 w 1476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53080" y="16002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3429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88280" y="3370320"/>
            <a:ext cx="12348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153280" y="2590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182880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95680" y="3733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67480" y="472428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554880" y="346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0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3800" y="4800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4,-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35760" y="2328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9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6120" y="1919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8,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36180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10,-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941720" y="1885680"/>
            <a:ext cx="1616400" cy="153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555800" y="1878120"/>
            <a:ext cx="377640" cy="19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548240" y="3431880"/>
            <a:ext cx="1993680" cy="36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527960" y="2647800"/>
            <a:ext cx="676080" cy="214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6550200" y="3440160"/>
            <a:ext cx="977760" cy="1355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550200" y="2647440"/>
            <a:ext cx="166176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518148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5715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2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" y="609588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mallest area inside the hulls formed by 2 rubber bands, each passing over the origin na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8380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7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514600"/>
            <a:ext cx="6400800" cy="4038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6440" y="357660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4640" y="404172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8160" y="4483080"/>
            <a:ext cx="32256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494820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0240" y="5415120"/>
            <a:ext cx="32256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5880240"/>
            <a:ext cx="322200" cy="322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51080" y="3519360"/>
            <a:ext cx="45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loyd-Warshal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54320" y="398448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dgar Dijkstr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source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55760" y="4417920"/>
            <a:ext cx="45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Ford-Fulkerson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flow min-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54320" y="4883040"/>
            <a:ext cx="53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Bellman For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ingle-source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9640" y="5369040"/>
            <a:ext cx="52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Prim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54320" y="58374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Kruskal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0200" y="5583240"/>
            <a:ext cx="93600" cy="9360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5410080"/>
            <a:ext cx="254160" cy="25416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1040" y="30495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30495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523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roblems and geometric algorith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k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6640" y="2554200"/>
            <a:ext cx="53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sidential graph-algorithm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630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quares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205740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928800" y="33368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50440" y="3581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94520" y="139716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squares on the lottery 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09720" y="1892160"/>
            <a:ext cx="450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ercentage of $ (from all possible $1 tick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o be distributed among the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496520" y="2103480"/>
            <a:ext cx="1227240" cy="147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643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quares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05740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928800" y="33368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0440" y="3581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4520" y="139716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squares on the lottery 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09720" y="1892160"/>
            <a:ext cx="450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ercentage of $ (from all possible $1 tick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o be distributed among the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496520" y="2103480"/>
            <a:ext cx="1227240" cy="147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72200" y="2819520"/>
            <a:ext cx="2071800" cy="20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73840" y="2827440"/>
            <a:ext cx="0" cy="20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0280" y="282888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81560" y="349236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78680" y="413712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6760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67600" y="42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6760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102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010280" y="42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82040" y="4286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8348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834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1280" y="2819520"/>
            <a:ext cx="24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0c00"/>
                </a:solidFill>
                <a:latin typeface="Comic Sans MS"/>
              </a:rPr>
              <a:t>4 numbers are cho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1280" y="3124080"/>
            <a:ext cx="248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c00"/>
                </a:solidFill>
                <a:latin typeface="Arial"/>
              </a:rPr>
              <a:t>Winning tickets are those in which the chosen numbers appear in the corners of a square, for 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14720" y="3962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3, 5,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17960" y="4235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2, 4,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674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quares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205740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928800" y="33368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50440" y="3581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94520" y="139716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squares on the lottery 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9720" y="1892160"/>
            <a:ext cx="450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ercentage of $ (from all possible $1 tick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o be distributed among the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96520" y="2103480"/>
            <a:ext cx="1227240" cy="147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76520" y="518148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571500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amount of $ paid to each winning 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72200" y="2819520"/>
            <a:ext cx="2071800" cy="20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73840" y="2827440"/>
            <a:ext cx="0" cy="20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50280" y="282888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181560" y="349236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78680" y="413712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6760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67600" y="42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6760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1028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102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10280" y="42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82040" y="4286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8348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834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1280" y="2819520"/>
            <a:ext cx="24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0c00"/>
                </a:solidFill>
                <a:latin typeface="Comic Sans MS"/>
              </a:rPr>
              <a:t>4 numbers are cho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3124080"/>
            <a:ext cx="248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c00"/>
                </a:solidFill>
                <a:latin typeface="Arial"/>
              </a:rPr>
              <a:t>Winning tickets are those in which the chosen numbers appear in the corners of a square, for 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14720" y="3962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3, 5,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17960" y="4235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2, 4,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708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" y="44197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st week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: the first solution to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eer La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39720" y="233676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co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row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ine(cin,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nvenient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input pars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51000" y="3632040"/>
            <a:ext cx="42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What are cols, rows, and 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02400" y="20574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87960" y="233676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5195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sources for big mathematical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5791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p to 18,446,744,073,709,551,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068480" y="586728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nsigned long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43400" y="6248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p to 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10737418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8480" y="632448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igInteger 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723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week’s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1203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 L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10280" y="1219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beer.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5360" y="255420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08440" y="207792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70280" y="285912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03520" y="299232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94040" y="215424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68680" y="2666880"/>
            <a:ext cx="20628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678040" y="2168640"/>
            <a:ext cx="111924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3581280" y="2206800"/>
            <a:ext cx="271440" cy="78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987280" y="2290320"/>
            <a:ext cx="53676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2958840" y="2300400"/>
            <a:ext cx="1908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18800" y="1600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733920" y="3809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erever these roads cross, the people will build a beer stand, and their happiness will depend on the total number of beer stands built. What is the largest possible tot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70320" y="32004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 beer st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06960" y="257184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50040" y="209556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1880" y="287640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45120" y="300996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35640" y="217188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0280" y="2684520"/>
            <a:ext cx="84600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19640" y="2185560"/>
            <a:ext cx="111924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520960" y="2224080"/>
            <a:ext cx="87300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5528880" y="2308320"/>
            <a:ext cx="536760" cy="71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500440" y="2317680"/>
            <a:ext cx="1908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09720" y="16146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61240" y="3214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5 beer st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754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457200" y="1203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 L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10280" y="1219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beer.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3040" y="4038480"/>
            <a:ext cx="758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a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b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c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f cin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g 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h cout&lt;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i (e&amp;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b(){c d,e;f d;g(d--&gt;0){f e;h e*(e-4+i)/2+!i&lt;&lt;'\n'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65360" y="255420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08440" y="207792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70280" y="285912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3520" y="299232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94040" y="2154240"/>
            <a:ext cx="131760" cy="131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668680" y="2666880"/>
            <a:ext cx="20628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678040" y="2168640"/>
            <a:ext cx="111924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581280" y="2206800"/>
            <a:ext cx="271440" cy="78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2987280" y="2290320"/>
            <a:ext cx="53676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958840" y="2300400"/>
            <a:ext cx="1908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8800" y="1600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733920" y="3809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erever these roads cross, the people will build a beer stand, and their happiness will depend on the total number of beer stands built. What is the largest possible tot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70320" y="32004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 beer st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6960" y="257184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50040" y="209556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11880" y="287640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45120" y="300996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5640" y="2171880"/>
            <a:ext cx="131760" cy="1317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10280" y="2684520"/>
            <a:ext cx="84600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219640" y="2185560"/>
            <a:ext cx="111924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520960" y="2224080"/>
            <a:ext cx="87300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5528880" y="2308320"/>
            <a:ext cx="536760" cy="71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500440" y="2317680"/>
            <a:ext cx="1908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09720" y="16146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061240" y="3214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5 beer st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ACM tradi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786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utations (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erm.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205740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4,(3,2,1,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5,(3,5,1,2,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1157400" y="28796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79040" y="312408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 senti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4520" y="1397160"/>
            <a:ext cx="285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a number of elements, N &lt;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004760" y="1600200"/>
            <a:ext cx="1557360" cy="534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90880" y="2362320"/>
            <a:ext cx="39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one permutation of the integers from 1 ..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2724120" y="2295360"/>
            <a:ext cx="1184400" cy="2527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43434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ow would you parse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799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utations (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erm.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9480" y="205740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4,(3,2,1,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5,(3,5,1,2,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76720" y="41148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exicographical order, which permutation is provi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 flipV="1">
            <a:off x="1157400" y="28796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79040" y="312408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 senti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594520" y="1397160"/>
            <a:ext cx="285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a number of elements, N &lt;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004760" y="1600200"/>
            <a:ext cx="1557360" cy="534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90880" y="2362320"/>
            <a:ext cx="39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one permutation of the integers from 1 ..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2724120" y="2295360"/>
            <a:ext cx="1184400" cy="2527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0880" y="396252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7242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5,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74840" y="594360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no end of line until </a:t>
            </a: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all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of the answers are printed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826920" y="5199120"/>
            <a:ext cx="549360" cy="8776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816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Problem (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ind.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9480" y="205740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3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3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11840" y="16765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as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8520" y="228600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fraction 13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53640" y="1871640"/>
            <a:ext cx="1227240" cy="3319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537920" y="2463840"/>
            <a:ext cx="795240" cy="77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82040" y="292428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fraction 13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1531800" y="3102120"/>
            <a:ext cx="795600" cy="77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876920" y="12952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xpress each fraction as the s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t fr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054400" y="2403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054400" y="2655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67360" y="271620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8036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22800" y="4411800"/>
            <a:ext cx="35053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erators must b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nominators must divid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e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834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Problem (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ind.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205740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3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3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11840" y="16765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as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88520" y="228600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fraction 13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953640" y="1871640"/>
            <a:ext cx="1227240" cy="3319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537920" y="2463840"/>
            <a:ext cx="795240" cy="77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82040" y="292428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fraction 13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1531800" y="3102120"/>
            <a:ext cx="795600" cy="77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76920" y="12952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xpress each fraction as the s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t fr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54400" y="2403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54400" y="2655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67360" y="271620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58036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13880" y="240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34320" y="2658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46920" y="2719440"/>
            <a:ext cx="459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097680" y="2405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440" y="2657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31080" y="271764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3904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994800" y="2405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91560" y="2657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927840" y="271764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48836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22800" y="4411800"/>
            <a:ext cx="35053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erators must b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nominators must divid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e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0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35268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graph,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um-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withi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724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 political man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8288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roblems and geometric algorith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k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863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91440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Problem (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ind.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205740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3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3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11840" y="16765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as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878040" y="4452840"/>
            <a:ext cx="1041120" cy="3319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88520" y="228600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fraction 13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0880" y="396252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9480" y="472428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 3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3 8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6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907640" y="42670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input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33720" y="4844880"/>
            <a:ext cx="22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raction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52578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number of solutiu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1106640" y="5045040"/>
            <a:ext cx="1295280" cy="339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1487520" y="5468760"/>
            <a:ext cx="828720" cy="684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84440" y="5689440"/>
            <a:ext cx="118800" cy="541440"/>
          </a:xfrm>
          <a:custGeom>
            <a:avLst/>
            <a:gdLst>
              <a:gd name="textAreaLeft" fmla="*/ 0 w 118800"/>
              <a:gd name="textAreaRight" fmla="*/ 42840 w 11880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863720" y="57816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3640" y="1871640"/>
            <a:ext cx="1227240" cy="3319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537920" y="2463840"/>
            <a:ext cx="795240" cy="77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2040" y="292428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fraction 13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1531800" y="3102120"/>
            <a:ext cx="795600" cy="777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6920" y="12952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xpress each fraction as the s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t fr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054400" y="2403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54400" y="2655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67360" y="271620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58036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913880" y="240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34320" y="2658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846920" y="2719440"/>
            <a:ext cx="459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097680" y="2405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94440" y="2657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31080" y="271764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934400" y="3124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31160" y="3376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67800" y="343692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7680" y="311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440" y="3368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31080" y="342900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04160" y="3124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000920" y="3376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937200" y="3436920"/>
            <a:ext cx="459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53904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994800" y="2405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991560" y="2657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27840" y="2717640"/>
            <a:ext cx="458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488360" y="2522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565960" y="324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39040" y="3244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488360" y="3244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22800" y="4411800"/>
            <a:ext cx="35053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erators must b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nominators must divid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e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914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83808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43000" y="16002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permutation and fraction-finding problems are not as difficult as some of the others, there will be a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llenge among all of the programs submitt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966000" y="394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057400" y="36576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o be announced next t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3228840" y="914400"/>
            <a:ext cx="5473800" cy="181080"/>
            <a:chOff x="3228840" y="914400"/>
            <a:chExt cx="5473800" cy="181080"/>
          </a:xfrm>
        </p:grpSpPr>
        <p:sp>
          <p:nvSpPr>
            <p:cNvPr id="921" name=""/>
            <p:cNvSpPr/>
            <p:nvPr/>
          </p:nvSpPr>
          <p:spPr>
            <a:xfrm>
              <a:off x="3228840" y="914400"/>
              <a:ext cx="54738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1019160"/>
              <a:ext cx="54738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124080" y="2286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untaineers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imb.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65120" y="70956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33160" y="1511280"/>
            <a:ext cx="1143000" cy="255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" y="1587600"/>
            <a:ext cx="1143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76520" y="128736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# of mountain 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76280" y="1611360"/>
            <a:ext cx="21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# of peaks/vall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39280" y="1806480"/>
            <a:ext cx="862200" cy="177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932040" y="2225520"/>
            <a:ext cx="118800" cy="541440"/>
          </a:xfrm>
          <a:custGeom>
            <a:avLst/>
            <a:gdLst>
              <a:gd name="textAreaLeft" fmla="*/ 0 w 118800"/>
              <a:gd name="textAreaRight" fmla="*/ 42840 w 11880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41560" y="2214720"/>
            <a:ext cx="22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ordinates of the peaks and vall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"/>
          <p:cNvGrpSpPr/>
          <p:nvPr/>
        </p:nvGrpSpPr>
        <p:grpSpPr>
          <a:xfrm>
            <a:off x="3228840" y="914400"/>
            <a:ext cx="5473800" cy="181080"/>
            <a:chOff x="3228840" y="914400"/>
            <a:chExt cx="5473800" cy="181080"/>
          </a:xfrm>
        </p:grpSpPr>
        <p:sp>
          <p:nvSpPr>
            <p:cNvPr id="933" name=""/>
            <p:cNvSpPr/>
            <p:nvPr/>
          </p:nvSpPr>
          <p:spPr>
            <a:xfrm>
              <a:off x="3228840" y="914400"/>
              <a:ext cx="54738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28840" y="1019160"/>
              <a:ext cx="54738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124080" y="2286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untaineers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imb.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65120" y="70956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33160" y="1511280"/>
            <a:ext cx="1143000" cy="255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" y="1587600"/>
            <a:ext cx="1143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676520" y="128736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# of mountain 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376280" y="1611360"/>
            <a:ext cx="21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# of peaks/vall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39280" y="1806480"/>
            <a:ext cx="862200" cy="177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32040" y="2225520"/>
            <a:ext cx="118800" cy="541440"/>
          </a:xfrm>
          <a:custGeom>
            <a:avLst/>
            <a:gdLst>
              <a:gd name="textAreaLeft" fmla="*/ 0 w 118800"/>
              <a:gd name="textAreaRight" fmla="*/ 42840 w 11880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141560" y="2214720"/>
            <a:ext cx="22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ordinates of the peaks and vall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000680" cy="253368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4114800" y="388620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climbers headed in opposite directions, always staying at 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Comic Sans MS"/>
              </a:rPr>
              <a:t>same ele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320840" y="4048200"/>
            <a:ext cx="2678040" cy="1388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66680" y="4648320"/>
            <a:ext cx="177840" cy="1557360"/>
          </a:xfrm>
          <a:custGeom>
            <a:avLst/>
            <a:gdLst>
              <a:gd name="textAreaLeft" fmla="*/ 0 w 177840"/>
              <a:gd name="textAreaRight" fmla="*/ 64080 w 17784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3228840" y="914400"/>
            <a:ext cx="5473800" cy="181080"/>
            <a:chOff x="3228840" y="914400"/>
            <a:chExt cx="5473800" cy="181080"/>
          </a:xfrm>
        </p:grpSpPr>
        <p:sp>
          <p:nvSpPr>
            <p:cNvPr id="949" name=""/>
            <p:cNvSpPr/>
            <p:nvPr/>
          </p:nvSpPr>
          <p:spPr>
            <a:xfrm>
              <a:off x="3228840" y="914400"/>
              <a:ext cx="54738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8840" y="1019160"/>
              <a:ext cx="54738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24080" y="2286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untaineers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imb.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65120" y="70956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533160" y="1511280"/>
            <a:ext cx="1143000" cy="255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316240" y="493560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28600" y="1587600"/>
            <a:ext cx="1143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76520" y="128736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# of mountain 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376280" y="1611360"/>
            <a:ext cx="21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# of peaks/vall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539280" y="1806480"/>
            <a:ext cx="862200" cy="1778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32040" y="2225520"/>
            <a:ext cx="118800" cy="541440"/>
          </a:xfrm>
          <a:custGeom>
            <a:avLst/>
            <a:gdLst>
              <a:gd name="textAreaLeft" fmla="*/ 0 w 118800"/>
              <a:gd name="textAreaRight" fmla="*/ 42840 w 11880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141560" y="2214720"/>
            <a:ext cx="22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ordinates of the peaks and vall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000680" cy="253368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4114800" y="388620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climbers headed in opposite directions, always staying at 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Comic Sans MS"/>
              </a:rPr>
              <a:t>same ele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606840" y="565956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otal vertical distance traveled by both cli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44480" y="5521320"/>
            <a:ext cx="54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966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90720" y="161784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pcoming Schedul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880" y="25322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21: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ck ACM contest, 9pm - 1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0880" y="3005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28: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ightly delayed fall break from A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0880" y="344664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ember 15: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st at Riverside C.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2075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14: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So CA-type” probl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880" y="390384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unless any directives from Gov. Arnold force a chan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920" y="548784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0c00"/>
                </a:solidFill>
                <a:latin typeface="Comic Sans MS"/>
              </a:rPr>
              <a:t>That’s what our future selves are f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19320" y="504684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uote of the wee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733920" y="59612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 Kevin and 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05520" y="137160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imple” code challe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174360" y="1905120"/>
            <a:ext cx="28324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int m=0, days=2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cout &lt;&lt; "Enter a month: "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cin &gt;&gt; 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switch (m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case 2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case 4: case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case 9: case 1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days=30; 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defua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days=31; 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cout &lt;&lt; m &lt;&lt; " has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&lt;&lt; days &lt;&lt; " days\n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248520" y="6248520"/>
            <a:ext cx="2666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c00"/>
                </a:solidFill>
                <a:latin typeface="Comic Sans MS"/>
              </a:rPr>
              <a:t>When is this program wrong -- other than in leap yea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22400" y="1600200"/>
            <a:ext cx="2678040" cy="431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90720" y="5048280"/>
            <a:ext cx="2678040" cy="431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1585800" y="1066680"/>
            <a:ext cx="5381640" cy="188640"/>
            <a:chOff x="1585800" y="1066680"/>
            <a:chExt cx="5381640" cy="188640"/>
          </a:xfrm>
        </p:grpSpPr>
        <p:sp>
          <p:nvSpPr>
            <p:cNvPr id="984" name=""/>
            <p:cNvSpPr/>
            <p:nvPr/>
          </p:nvSpPr>
          <p:spPr>
            <a:xfrm>
              <a:off x="1585800" y="106668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85800" y="117576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676440" y="228600"/>
            <a:ext cx="69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288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ki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h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6732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ro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b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63924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2368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740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483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87760" y="453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22401"/>
                </a:solidFill>
                <a:latin typeface="Comic Sans MS"/>
              </a:rPr>
              <a:t>44 “words”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81080" y="453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22401"/>
                </a:solidFill>
                <a:latin typeface="Comic Sans MS"/>
              </a:rPr>
              <a:t>23 “words”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91680" y="28440"/>
            <a:ext cx="277164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dds  - dad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irv  - vari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rry  - arra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fy  - fadd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su  - dua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ffy  - daff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gis  - gadi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gsu  - gau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qs  - qai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ss  - sadis said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st  - adits ditas staid tsadi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jsu  - jud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qsu  - quads squa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stu  - adust dau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y  - ragg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ios  - agi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irv  - virg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s  - sag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  - goats tog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ssw  - swag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oss  - oasis ossi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ost  - iotas ostia stoai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rvx  - varix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stw  - waist wai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s  - soj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t  - jatos jot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u  - sajou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moy  - myom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ty  - atom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st  - oasts sto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tt  - stoat toa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tu  - aut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qsuw  - squaw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ty  - tarr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ty  - ratt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y  - yurt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tw  - swats was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ttw  - twats wat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krsy  - risk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rsv  - virl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rsy  - spir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osy  - smok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rsuy  - sur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suy  - pursy syrup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-51480" y="1447920"/>
            <a:ext cx="2192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chp  - pach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kr  - c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fil  - cali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io  - chia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mo  - macho moch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op  - poa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il  - cilia ilia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l  - lila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n  - lina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t  - tica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x  - cali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kn  - kn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r  - c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rt  - t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rw  - w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lpt  - clap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il  - hal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hil  - laig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ilr  - hila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ilt  - lai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knt  - th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koy  - chok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s  - loch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998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13716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Challenge: when the user’s initial choice  (a)  EQUALS the prize curtain (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0880" y="5041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6 - a - b) *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(((a^b) &amp; 1) | (((a^b) &gt;&gt; 1) &amp; 1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(a%3) + 1) + ((-2 + 3*(a%2)) * ((int)(Math.random()*2))))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(((~(a^b)) &amp; 1) &amp; (((~(a^b)) &gt;&gt; 1) &amp; 1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1932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581280" y="2209680"/>
            <a:ext cx="198144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4360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90512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67080" y="2933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40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371600" y="166680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the curtain to reveal should be chosen randoml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11840" y="454032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(a != b) ? 6 - a - b : (a % 3)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95280" y="6051600"/>
            <a:ext cx="678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e new sec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-2 + 3 * (a%2)) * ((int)(Math.random() * 2)))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, will give 0 half the time, and the other half of the time will give 1 for a == 1 or a ==3 and -2 for a ==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n 1, 2, and 3 go to either 2, 3, and 1  or  3, 1, and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33520" y="49528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49360" y="595944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1015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914400" y="152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them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0760" y="4849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start 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 flipV="1">
            <a:off x="6333840" y="3979800"/>
            <a:ext cx="663480" cy="169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519600" y="5010120"/>
            <a:ext cx="492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387680" y="5017680"/>
            <a:ext cx="2000520" cy="600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394160" y="501804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94160" y="562608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529320" y="4078440"/>
            <a:ext cx="25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aw a line to the point with the LEAST relative angle  (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6234120" y="3940200"/>
            <a:ext cx="15408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6200000">
            <a:off x="7285680" y="3856680"/>
            <a:ext cx="163440" cy="1514520"/>
          </a:xfrm>
          <a:custGeom>
            <a:avLst/>
            <a:gdLst>
              <a:gd name="textAreaLeft" fmla="*/ 104400 w 163440"/>
              <a:gd name="textAreaRight" fmla="*/ 163800 w 163440"/>
              <a:gd name="textAreaTop" fmla="*/ 39240 h 1514520"/>
              <a:gd name="textAreaBottom" fmla="*/ 1475280 h 15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468360" y="928800"/>
            <a:ext cx="8218440" cy="180360"/>
            <a:chOff x="468360" y="928800"/>
            <a:chExt cx="8218440" cy="180360"/>
          </a:xfrm>
        </p:grpSpPr>
        <p:sp>
          <p:nvSpPr>
            <p:cNvPr id="1044" name=""/>
            <p:cNvSpPr/>
            <p:nvPr/>
          </p:nvSpPr>
          <p:spPr>
            <a:xfrm>
              <a:off x="468360" y="9288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8360" y="103320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914400" y="152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them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04920" y="1233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Geometric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66880" y="12333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Combinatorics probl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c00"/>
                </a:solidFill>
                <a:latin typeface="Comic Sans MS"/>
              </a:rPr>
              <a:t>convex 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47920" y="31021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343400" y="55627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24480" y="49528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172200" y="38862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57800" y="3429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952880" y="25909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09880" y="2362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124080" y="45720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352680" y="350532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33920" y="289548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95680" y="4343400"/>
            <a:ext cx="123840" cy="1238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867280" y="61246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rvis’s March - show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867280" y="63752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ham’s Scan - see 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394160" y="5003280"/>
            <a:ext cx="2001960" cy="61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6234120" y="3925800"/>
            <a:ext cx="154080" cy="1077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 flipV="1">
            <a:off x="5010120" y="2631960"/>
            <a:ext cx="1224000" cy="1301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3855960" y="2415960"/>
            <a:ext cx="1162080" cy="223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393640" y="2416320"/>
            <a:ext cx="1469880" cy="731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386080" y="3164040"/>
            <a:ext cx="807840" cy="1469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193920" y="4626000"/>
            <a:ext cx="1200240" cy="1000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62720" y="2743200"/>
            <a:ext cx="12952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continue until you return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09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447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35268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graph,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um-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withi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724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 political man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Greed is 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8288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roblems and geometric algorith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k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072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457200" y="16002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2 - “Square Lotte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876920" y="1609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quares.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7200" y="1203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1 - “Not-so-convex hul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76920" y="1212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hull.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91200" y="3268800"/>
            <a:ext cx="166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rs. Ples, 19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73800" cy="379872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/>
          <p:cNvPicPr/>
          <p:nvPr/>
        </p:nvPicPr>
        <p:blipFill>
          <a:blip r:embed="rId2"/>
          <a:stretch/>
        </p:blipFill>
        <p:spPr>
          <a:xfrm>
            <a:off x="5867280" y="3484440"/>
            <a:ext cx="2984760" cy="298476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3"/>
          <a:stretch/>
        </p:blipFill>
        <p:spPr>
          <a:xfrm>
            <a:off x="6589800" y="2090880"/>
            <a:ext cx="1650960" cy="112536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5832000" y="3139920"/>
            <a:ext cx="30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Bandeirantes - border-dra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08880" y="6172200"/>
            <a:ext cx="53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ao Paolo: 18,000,000 people -- the largest city in So.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149960" y="1415880"/>
            <a:ext cx="1424160" cy="692280"/>
          </a:xfrm>
          <a:custGeom>
            <a:avLst/>
            <a:gdLst/>
            <a:ahLst/>
            <a:rect l="l" t="t" r="r" b="b"/>
            <a:pathLst>
              <a:path w="897" h="436">
                <a:moveTo>
                  <a:pt x="0" y="92"/>
                </a:moveTo>
                <a:cubicBezTo>
                  <a:pt x="60" y="79"/>
                  <a:pt x="118" y="57"/>
                  <a:pt x="180" y="49"/>
                </a:cubicBezTo>
                <a:cubicBezTo>
                  <a:pt x="237" y="24"/>
                  <a:pt x="307" y="23"/>
                  <a:pt x="369" y="20"/>
                </a:cubicBezTo>
                <a:cubicBezTo>
                  <a:pt x="484" y="0"/>
                  <a:pt x="407" y="9"/>
                  <a:pt x="601" y="15"/>
                </a:cubicBezTo>
                <a:cubicBezTo>
                  <a:pt x="631" y="21"/>
                  <a:pt x="659" y="31"/>
                  <a:pt x="689" y="39"/>
                </a:cubicBezTo>
                <a:cubicBezTo>
                  <a:pt x="739" y="65"/>
                  <a:pt x="784" y="98"/>
                  <a:pt x="824" y="141"/>
                </a:cubicBezTo>
                <a:cubicBezTo>
                  <a:pt x="833" y="167"/>
                  <a:pt x="849" y="185"/>
                  <a:pt x="863" y="209"/>
                </a:cubicBezTo>
                <a:cubicBezTo>
                  <a:pt x="870" y="235"/>
                  <a:pt x="867" y="265"/>
                  <a:pt x="878" y="291"/>
                </a:cubicBezTo>
                <a:cubicBezTo>
                  <a:pt x="884" y="308"/>
                  <a:pt x="897" y="344"/>
                  <a:pt x="897" y="344"/>
                </a:cubicBezTo>
                <a:cubicBezTo>
                  <a:pt x="895" y="362"/>
                  <a:pt x="894" y="380"/>
                  <a:pt x="892" y="398"/>
                </a:cubicBezTo>
                <a:cubicBezTo>
                  <a:pt x="890" y="410"/>
                  <a:pt x="883" y="436"/>
                  <a:pt x="883" y="436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088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hull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09480" y="2057400"/>
            <a:ext cx="137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8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0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928800" y="42512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50440" y="44956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95600" y="13971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rubber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709720" y="189216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238040" y="2070000"/>
            <a:ext cx="1446120" cy="1796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024280" y="30193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rot="10800000">
            <a:off x="1801800" y="2506320"/>
            <a:ext cx="147600" cy="1368360"/>
          </a:xfrm>
          <a:custGeom>
            <a:avLst/>
            <a:gdLst>
              <a:gd name="textAreaLeft" fmla="*/ 94320 w 147600"/>
              <a:gd name="textAreaRight" fmla="*/ 147960 w 1476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553080" y="16002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267080" y="3429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88280" y="3370320"/>
            <a:ext cx="12348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153280" y="2590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876920" y="182880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95680" y="373392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467480" y="4724280"/>
            <a:ext cx="123840" cy="123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554880" y="346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0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543800" y="4800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4,-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835760" y="2328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9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956120" y="1919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8,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36180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(-10,-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4941720" y="1885680"/>
            <a:ext cx="1616400" cy="153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55800" y="1878120"/>
            <a:ext cx="377640" cy="19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4548240" y="3431880"/>
            <a:ext cx="1993680" cy="36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7527960" y="2647800"/>
            <a:ext cx="676080" cy="214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550200" y="3440160"/>
            <a:ext cx="977760" cy="1355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550200" y="2647440"/>
            <a:ext cx="166176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76520" y="518148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752480" y="5715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2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28600" y="6095880"/>
            <a:ext cx="47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mallest area inside the hulls formed by 2 rubber bands, each passing over the origin na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124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990720" y="152280"/>
            <a:ext cx="75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quares.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48640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0880" y="137160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205740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928800" y="3336840"/>
            <a:ext cx="574560" cy="370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50440" y="3581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nd-of-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594520" y="139716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number of squares on the lottery 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828360" y="1600200"/>
            <a:ext cx="1733400" cy="527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709720" y="1892160"/>
            <a:ext cx="450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percentage of $ (from all possible $1 tick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o be distributed among the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1496520" y="2103480"/>
            <a:ext cx="1227240" cy="147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76520" y="518148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752480" y="571500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195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amount of $ paid to each winning 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172200" y="2819520"/>
            <a:ext cx="2071800" cy="20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873840" y="2827440"/>
            <a:ext cx="0" cy="20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50280" y="282888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181560" y="349236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78680" y="4137120"/>
            <a:ext cx="20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6760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67600" y="42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26760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01028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102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42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82040" y="4286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83480" y="293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8348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581280" y="2819520"/>
            <a:ext cx="24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0c00"/>
                </a:solidFill>
                <a:latin typeface="Comic Sans MS"/>
              </a:rPr>
              <a:t>4 numbers are cho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81280" y="3124080"/>
            <a:ext cx="248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c00"/>
                </a:solidFill>
                <a:latin typeface="Arial"/>
              </a:rPr>
              <a:t>Winning tickets are those in which the chosen numbers appear in the corners of a square, for 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14720" y="3962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3, 5,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17960" y="4235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2, 4,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158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752400" y="228600"/>
            <a:ext cx="778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47920" y="1465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pcoming Schedul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0880" y="25322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 30: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ock ACM contest, 9pm - 1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0880" y="3005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il 6: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al ACM mee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0880" y="344664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il 17: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st at Cal Poly Pom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0880" y="2075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 9:   Problem-discussion session: Beckman B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8600" y="4106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NEEDE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79600" y="1447920"/>
            <a:ext cx="2678040" cy="431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61960" y="2563920"/>
            <a:ext cx="3417840" cy="38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295280" y="3978360"/>
            <a:ext cx="364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wo teams who want to participate in Cal Poly’s Java Programming compe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91320" y="5943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eams this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937120" y="5925960"/>
            <a:ext cx="2678400" cy="43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867280" y="2666880"/>
            <a:ext cx="16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 And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Federowic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Ne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867280" y="1447920"/>
            <a:ext cx="1295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Ben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 Hell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Tagi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0120" y="3765600"/>
            <a:ext cx="14475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Ce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McCull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Tribelh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867280" y="3809880"/>
            <a:ext cx="16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ron H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ie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yan R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973600" y="3451320"/>
            <a:ext cx="1807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827760" y="4724280"/>
            <a:ext cx="1171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 Pie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u-Min K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ne 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Weisi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0480" y="2654280"/>
            <a:ext cx="1107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c Har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a W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ron B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20480" y="1407960"/>
            <a:ext cx="107244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C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 Halpe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M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rcRect l="0" t="0" r="0" b="-29861"/>
          <a:stretch/>
        </p:blipFill>
        <p:spPr>
          <a:xfrm>
            <a:off x="1066680" y="4800600"/>
            <a:ext cx="3505320" cy="190512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sp>
        <p:nvSpPr>
          <p:cNvPr id="1181" name=""/>
          <p:cNvSpPr/>
          <p:nvPr/>
        </p:nvSpPr>
        <p:spPr>
          <a:xfrm>
            <a:off x="5715000" y="144792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183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tt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600200" y="1486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0" y="1486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048120" y="1486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J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1486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43600" y="1486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0880" y="20858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24840" y="208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63400" y="208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10960" y="208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58880" y="208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530480" y="208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08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82484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63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71096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5888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3048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0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82484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6340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1096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588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5304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1585800" y="1066680"/>
            <a:ext cx="5381640" cy="188640"/>
            <a:chOff x="1585800" y="1066680"/>
            <a:chExt cx="5381640" cy="188640"/>
          </a:xfrm>
        </p:grpSpPr>
        <p:sp>
          <p:nvSpPr>
            <p:cNvPr id="1210" name=""/>
            <p:cNvSpPr/>
            <p:nvPr/>
          </p:nvSpPr>
          <p:spPr>
            <a:xfrm>
              <a:off x="1585800" y="106668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85800" y="117576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676440" y="228600"/>
            <a:ext cx="69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8288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ki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h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6732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ro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b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63924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22368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5740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6483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1585800" y="1066680"/>
            <a:ext cx="5381640" cy="188640"/>
            <a:chOff x="1585800" y="1066680"/>
            <a:chExt cx="5381640" cy="188640"/>
          </a:xfrm>
        </p:grpSpPr>
        <p:sp>
          <p:nvSpPr>
            <p:cNvPr id="1220" name=""/>
            <p:cNvSpPr/>
            <p:nvPr/>
          </p:nvSpPr>
          <p:spPr>
            <a:xfrm>
              <a:off x="1585800" y="106668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85800" y="117576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676440" y="228600"/>
            <a:ext cx="69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8288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ki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h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56732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ro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b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63924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22368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5740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83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487760" y="453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22401"/>
                </a:solidFill>
                <a:latin typeface="Comic Sans MS"/>
              </a:rPr>
              <a:t>44 “words”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981080" y="453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22401"/>
                </a:solidFill>
                <a:latin typeface="Comic Sans MS"/>
              </a:rPr>
              <a:t>23 “words”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691680" y="28440"/>
            <a:ext cx="277164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dds  - dad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irv  - vari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rry  - arra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fy  - fadd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su  - dua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ffy  - daff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gis  - gadi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gsu  - gau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qs  - qai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ss  - sadis said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st  - adits ditas staid tsadi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jsu  - jud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qsu  - quads squa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stu  - adust dau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y  - ragg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ios  - agi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irv  - virg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s  - sag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  - goats tog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ssw  - swag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oss  - oasis ossi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ost  - iotas ostia stoai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rvx  - varix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stw  - waist wai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s  - soj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t  - jatos jot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u  - sajou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moy  - myom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ty  - atom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st  - oasts sto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tt  - stoat toa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tu  - aut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qsuw  - squaw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ty  - tarr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ty  - ratt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y  - yurt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tw  - swats was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ttw  - twats wat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krsy  - risk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rsv  - virl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rsy  - spir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osy  - smok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rsuy  - sur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suy  - pursy syrup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-51480" y="1447920"/>
            <a:ext cx="2192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chp  - pach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kr  - c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fil  - cali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io  - chia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mo  - macho moch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op  - poa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il  - cilia ilia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l  - lila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n  - lina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t  - tica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x  - cali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kn  - kn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r  - c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rt  - t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rw  - w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lpt  - clap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il  - hal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hil  - laig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ilr  - hila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ilt  - lai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knt  - th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koy  - chok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s  - loch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1585800" y="1066680"/>
            <a:ext cx="5381640" cy="188640"/>
            <a:chOff x="1585800" y="1066680"/>
            <a:chExt cx="5381640" cy="188640"/>
          </a:xfrm>
        </p:grpSpPr>
        <p:sp>
          <p:nvSpPr>
            <p:cNvPr id="1234" name=""/>
            <p:cNvSpPr/>
            <p:nvPr/>
          </p:nvSpPr>
          <p:spPr>
            <a:xfrm>
              <a:off x="1585800" y="106668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85800" y="1175760"/>
              <a:ext cx="5381640" cy="795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676440" y="228600"/>
            <a:ext cx="69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288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ki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h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67320" y="208764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sav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crow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b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63924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223680" y="208764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05740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487760" y="453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22401"/>
                </a:solidFill>
                <a:latin typeface="Comic Sans MS"/>
              </a:rPr>
              <a:t>44 “words”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981080" y="453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22401"/>
                </a:solidFill>
                <a:latin typeface="Comic Sans MS"/>
              </a:rPr>
              <a:t>23 “words”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691680" y="28440"/>
            <a:ext cx="277164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dds  - dad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irv  - vari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arry  - arra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fy  - fadd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su  - dua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ffy  - daff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gis  - gadi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gsu  - gau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qs  - qaid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ss  - sadis said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ist  - adits ditas staid tsadi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jsu  - jud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qsu  - quads squa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stu  - adust dau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y  - ragg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ios  - agi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irv  - virg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s  - sag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  - goats tog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ssw  - swag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oss  - oasis ossi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ost  - iotas ostia stoai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rvx  - varix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stw  - waist wai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s  - soja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t  - jatos jot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josu  - sajou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moy  - myom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ty  - atom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st  - oasts stoa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tt  - stoat toa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ostu  - auto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qsuw  - squaw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ty  - tarr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ty  - ratt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y  - yurt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tw  - swats was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ttw  - twats watt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krsy  - risk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lrsv  - virls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rsy  - spir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osy  - smok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rsuy  - sur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suy  - pursy syrup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51480" y="1447920"/>
            <a:ext cx="2192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chp  - pach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kr  - c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fil  - calif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io  - chia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mo  - macho moch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op  - poa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il  - cilia ilia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l  - lila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n  - lina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t  - tica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lx  - cali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kn  - kn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r  - c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rt  - t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rw  - wrac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lpt  - clap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il  - hal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hil  - laig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ilr  - hila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ilt  - lai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hknt  - th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koy  - chok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s  - loch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82880" y="5029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"/>
          <p:cNvGrpSpPr/>
          <p:nvPr/>
        </p:nvGrpSpPr>
        <p:grpSpPr>
          <a:xfrm>
            <a:off x="468360" y="1066680"/>
            <a:ext cx="6321240" cy="181080"/>
            <a:chOff x="468360" y="1066680"/>
            <a:chExt cx="6321240" cy="181080"/>
          </a:xfrm>
        </p:grpSpPr>
        <p:sp>
          <p:nvSpPr>
            <p:cNvPr id="1249" name=""/>
            <p:cNvSpPr/>
            <p:nvPr/>
          </p:nvSpPr>
          <p:spPr>
            <a:xfrm>
              <a:off x="468360" y="1066680"/>
              <a:ext cx="63212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8360" y="1171440"/>
              <a:ext cx="63212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67644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of the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43000" y="1600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ing teams” 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858000" y="152280"/>
            <a:ext cx="2120760" cy="193860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095480" y="1552680"/>
            <a:ext cx="3863880" cy="610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7200" y="3200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Aligning left and right in C++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562720" y="632448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Lisa’s Cod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95280" y="3886200"/>
            <a:ext cx="6629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left &lt;&lt; setw(10) &lt;&lt; "Hi 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left &lt;&lt; setw(15) &lt;&lt;  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right &lt;&lt; setw(10) &lt;&lt; "Hi 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right &lt;&lt; setw(15) &lt;&lt;  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1259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8600" y="1371600"/>
            <a:ext cx="25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From a CS 60 student solving a CS 5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97080" y="26668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 != b) ? 6 - a - b : (a % 3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4800" y="585468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6-a-b) * </a:t>
            </a:r>
            <a:r>
              <a:rPr b="1" lang="en-US" sz="1800" spc="-1" strike="noStrike">
                <a:solidFill>
                  <a:srgbClr val="007f0d"/>
                </a:solidFill>
                <a:latin typeface="Courier New"/>
              </a:rPr>
              <a:t>(((a ^ b) &amp; 1) | (((a ^ b) &gt;&gt; 1) &amp; 1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a % 3) + 1) * </a:t>
            </a:r>
            <a:r>
              <a:rPr b="1" lang="en-US" sz="1800" spc="-1" strike="noStrike">
                <a:solidFill>
                  <a:srgbClr val="007f0d"/>
                </a:solidFill>
                <a:latin typeface="Courier New"/>
              </a:rPr>
              <a:t>(((~(a ^ b)) &amp; 1) &amp; (((~(a ^ b)) &gt;&gt; 1) &amp; 1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19320" y="3352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81280" y="3352680"/>
            <a:ext cx="198144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43600" y="3352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05120" y="4076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267080" y="4076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629400" y="4076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19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1272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297080" y="26668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 != b) ? 6 - a - b : (a % 3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54800" y="585468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6-a-b) * </a:t>
            </a:r>
            <a:r>
              <a:rPr b="1" lang="en-US" sz="1800" spc="-1" strike="noStrike">
                <a:solidFill>
                  <a:srgbClr val="007f0d"/>
                </a:solidFill>
                <a:latin typeface="Courier New"/>
              </a:rPr>
              <a:t>(((a ^ b) &amp; 1) | (((a ^ b) &gt;&gt; 1) &amp; 1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a % 3) + 1) * </a:t>
            </a:r>
            <a:r>
              <a:rPr b="1" lang="en-US" sz="1800" spc="-1" strike="noStrike">
                <a:solidFill>
                  <a:srgbClr val="007f0d"/>
                </a:solidFill>
                <a:latin typeface="Courier New"/>
              </a:rPr>
              <a:t>(((~(a ^ b)) &amp; 1) &amp; (((~(a ^ b)) &gt;&gt; 1) &amp; 1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19320" y="3352680"/>
            <a:ext cx="1981080" cy="2133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81280" y="3352680"/>
            <a:ext cx="198144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43600" y="3352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267080" y="4076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629400" y="4076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1208160" cy="13208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1905120" y="4076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6324480" y="3809880"/>
            <a:ext cx="1208160" cy="132084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12081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286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1287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297080" y="26668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 != b) ? 6 - a - b : (a % 3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4800" y="585468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6-a-b) * </a:t>
            </a:r>
            <a:r>
              <a:rPr b="1" lang="en-US" sz="1800" spc="-1" strike="noStrike">
                <a:solidFill>
                  <a:srgbClr val="007f0d"/>
                </a:solidFill>
                <a:latin typeface="Courier New"/>
              </a:rPr>
              <a:t>(((a ^ b) &amp; 1) | (((a ^ b) &gt;&gt; 1) &amp; 1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a % 3) + 1) * </a:t>
            </a:r>
            <a:r>
              <a:rPr b="1" lang="en-US" sz="1800" spc="-1" strike="noStrike">
                <a:solidFill>
                  <a:srgbClr val="007f0d"/>
                </a:solidFill>
                <a:latin typeface="Courier New"/>
              </a:rPr>
              <a:t>(((~(a ^ b)) &amp; 1) &amp; (((~(a ^ b)) &gt;&gt; 1) &amp; 1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219320" y="3352680"/>
            <a:ext cx="1981080" cy="2133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81280" y="3352680"/>
            <a:ext cx="1981440" cy="2133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43600" y="3352680"/>
            <a:ext cx="1981080" cy="2133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4076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267080" y="4076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629400" y="4076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3"/>
          <a:srcRect l="0" t="30008" r="0" b="31009"/>
          <a:stretch/>
        </p:blipFill>
        <p:spPr>
          <a:xfrm>
            <a:off x="3733920" y="3505320"/>
            <a:ext cx="1600200" cy="62388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3970440" y="4830840"/>
            <a:ext cx="121896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the ca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(a Y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1301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880" y="13716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Challenge: when the user’s initial choice  (a)  EQUALS the prize curtain (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21932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2209680"/>
            <a:ext cx="198144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94360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267080" y="2933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62940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371600" y="166680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the curtain to reveal should be chosen randoml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11840" y="454032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(a != b) ? 6 - a - b : (a % 3)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49528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1315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13716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Challenge: when the user’s initial choice  (a)  EQUALS the prize curtain (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80880" y="5041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6 - a - b) *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(((a^b) &amp; 1) | (((a^b) &gt;&gt; 1) &amp; 1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(a%3) + 1) + ((-2 + 3*(a%2)) * ((int)(Math.random()*2))))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(((~(a^b)) &amp; 1) &amp; (((~(a^b)) &gt;&gt; 1) &amp; 1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1932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2209680"/>
            <a:ext cx="198144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94360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0512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67080" y="2933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371600" y="166680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the curtain to reveal should be chosen randoml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1840" y="454032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(a != b) ? 6 - a - b : (a % 3)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33520" y="49528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"/>
          <p:cNvGrpSpPr/>
          <p:nvPr/>
        </p:nvGrpSpPr>
        <p:grpSpPr>
          <a:xfrm>
            <a:off x="468360" y="1066680"/>
            <a:ext cx="8059680" cy="181080"/>
            <a:chOff x="468360" y="1066680"/>
            <a:chExt cx="8059680" cy="181080"/>
          </a:xfrm>
        </p:grpSpPr>
        <p:sp>
          <p:nvSpPr>
            <p:cNvPr id="1330" name=""/>
            <p:cNvSpPr/>
            <p:nvPr/>
          </p:nvSpPr>
          <p:spPr>
            <a:xfrm>
              <a:off x="468360" y="106668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8360" y="1171440"/>
              <a:ext cx="80596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1828800" y="2286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0880" y="13716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Challenge: when the user’s initial choice  (a)  EQUALS the prize curtain (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0880" y="5041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6 - a - b) *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(((a^b) &amp; 1) | (((a^b) &gt;&gt; 1) &amp; 1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(a%3) + 1) + ((-2 + 3*(a%2)) * ((int)(Math.random()*2))))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(((~(a^b)) &amp; 1) &amp; (((~(a^b)) &gt;&gt; 1) &amp; 1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1932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81280" y="2209680"/>
            <a:ext cx="198144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43600" y="2209680"/>
            <a:ext cx="1981080" cy="213372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90512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267080" y="2933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29400" y="2933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371600" y="166680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the curtain to reveal should be chosen randoml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11840" y="454032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(a != b) ? 6 - a - b : (a % 3)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295280" y="6051600"/>
            <a:ext cx="678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e new sec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-2 + 3 * (a%2)) * ((int)(Math.random() * 2)))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, will give 0 half the time, and the other half of the time will give 1 for a == 1 or a ==3 and -2 for a ==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n 1, 2, and 3 go to either 2, 3, and 1  or  3, 1, and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49528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9360" y="595944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76320" y="76320"/>
            <a:ext cx="472428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ENUMBERZEROCODEPRINTZEROGOTOONELINENUMBERONECODEPRINTONEGOTOONEZEROLINENUMB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NEZEROCODEPRINTZEROGOTOONEONELINENUMBERONEONECODEPRINTZEROGOTOONEZEROZEROLI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BERONEZEROZEROCODEPRINTONEGOTOONEZEROONELINENUMBERONEZEROONECODEPRINTZEROG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ONEZEROLINENUMBERONEONEZEROCODEPRINTZEROGOTOONEONEONELINENUMBERONEONE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ZEROGOTOONEZEROZEROZEROLINENUMBERONEZEROZEROZEROCODEPRINTZEROGOTOONEZERO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ONELINENUMBERONEZEROZEROONECODEPRINTONEGOTOONEZEROONEZEROLINENUMBER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CODEPRINTONEGOTOONEZEROONEONELINENUMBERONEZEROONEONECODEPRINTZEROGOTO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ZEROLINENUMBERONEONEZEROZEROCODEPRINTZEROGOTOONEONEZEROONELINENUMBER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CODEPRINTONEGOTOONEONEONEZEROLINENUMBERONEONEONEZEROCODEPRINTZERO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LINENUMBERONEONEONEONECODEPRINTONEGOTOONEZEROZEROZEROZERO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ZEROZEROCODEPRINTZEROGOTOONEZEROZEROZEROONELINENUMBERONEZEROZERO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DEPRINTONEGOTOONEZEROZEROONEZEROLINENUMBERONEZEROZEROONEZEROCODEPRINTONEGOTO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ZEROZEROONEONELINENUMBERONEZEROZEROONEONECODEPRINTZEROGOTOONEZEROONEZEROZERO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ENUMBERONEZEROONEZEROZEROCODEPRINTONEGOTOONEZEROONEZEROONELINENUMBER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ONECODEPRINTONEGOTOONEZEROONEONEZEROLINENUMBERONEZEROONEONEZEROCODEPRINT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GOTOONEZEROONEONEONELINENUMBERONEZEROONEONEONECODEPRINTZEROGOTOONEONEZERO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LINENUMBERONEONEZEROZEROZEROCODEPRINTZEROGOTOONEONEZEROZEROONE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CODEPRINTONEGOTOONEONEZEROONEZEROLINENUMBERONEONEZEROONEZEROCOD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INTONEGOTOONEONEZEROONEONELINENUMBERONEONEZEROONEONECODEPRINTZEROGOTOONE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LINENUMBERONEONEONEZEROZEROCODEPRINTONEGOTOONEONEONEZEROONELINENUMBER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ZEROONECODEPRINTONEGOTOONEONEONEONEZEROLINENUMBERONEONEONEONEZEROCODEPR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TZEROGOTOONEONEONEONEONELINENUMBERONEONEONEONEONECODEPRINTZEROGOTOONEZEROZERO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ZEROZEROLINENUMBERONEZEROZEROZEROZEROZEROCODEPRINTZEROGOTOONEZEROZERO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LINENUMBERONEZEROZEROZEROZEROONECODEPRINTONEGOTOONEZEROZEROZEROONEZEROLIN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MBERONEZEROZEROZEROONEZEROCODEPRINTONEGOTOONEZEROZEROZEROONEONELINENUMBERONE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ZEROZEROONEONECODEPRINTZEROGOTOONEZEROZEROONEZEROZEROLINENUMBERONEZERO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CODEPRINTONEGOTOONEZEROZEROONEZEROONELINENUMBERONEZEROZEROONEZERO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ZEROONEONEZEROLINENUMBERONEZEROZEROONEONEZEROCODEPRINTONE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ONEZEROZEROONEONEONELINENUMBERONEZEROZEROONEONEONECODEPRINTONEGOTOONEZEROONE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ZEROZEROLINENUMBERONEZEROONEZEROZEROZEROCODEPRINTZEROGOTOONEZEROONEZEROZERO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LINENUMBERONEZEROONEZEROZEROONECODEPRINTZEROGOTOONEZEROONEZEROONEZEROLINENUM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NEZEROONEZEROONEZEROCODEPRINTONEGOTOONEZEROONEZEROONEONELINENUMBERONE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ONECODEPRINTZEROGOTOONEZEROONEONEZEROZEROLINENUMBERONEZEROONEONEZERO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DEPRINTZEROGOTOONEZEROONEONEZEROONELINENUMBERONEZEROONEONEZEROONECODEPRINT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GOTOONEZEROONEONEONEZEROLINENUMBERONEZEROONEONEONEZEROCODEPRINTZEROGOTOONE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ONELINENUMBERONEZEROONEONEONEONECODEPRINTZEROGOTOONEONEZEROZERO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LINENUMBERONEONEZEROZEROZEROZEROCODEPRINTZEROGOTOONEONEZEROZEROZEROONELINENUM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NEONEZEROZEROZEROONECODEPRINTONEGOTOONEONEZEROZEROONEZEROLINENUMBERONEONE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ZEROONEZEROCODEPRINTONEGOTOONEONEZEROZEROONEONELINENUMBERONEONEZEROZEROONEO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DEPRINTONEGOTOONEONEZEROONEZEROZEROLINENUMBERONEONEZEROONEZEROZEROCODEPRINT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GOTOONEONEZEROONEZEROONELINENUMBERONEONEZEROONEZEROONECODEPRINTONEGOTOONEONE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NEONEZEROLINENUMBERONEONEZEROONEONEZEROCODEPRINTONEGOTOONEONEZEROONEONEONEL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NUMBERONEONEZEROONEONEONECODEPRINTONEGOTOONEONEONEZEROZEROZEROLINENUMBER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ZEROZEROZEROCODEPRINTZEROGOTOONEONEONEZEROZEROONELINENUMBERONEONEONE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CODEPRINTONEGOTOONEONEONEZEROONEZEROLINENUMBERONEONEONEZEROONEZEROCODEPRI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GOTOONEONEONEZEROONEONELINENUMBERONEONEONEZEROONEONECODEPRINTZEROGOTOONEONE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ONEZEROZEROLINENUMBERONEONEONEONEZEROZEROCODEPRINTONEGOTOONEONEONEONEZEROO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ENUMBERONEONEONEONEZEROONECODEPRINTONEGOTOONEONEONEONEONEZEROLINENUMBER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ZEROCODEPRINTONEGOTOONEONEONEONEONEONELINENUMBERONEONEONEONEONEONECO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NTONEGOTOONEZEROZEROZEROZEROZEROZEROLINENUMBERONEZEROZEROZEROZEROZEROZERO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ZEROGOTOONEZEROZEROZEROZEROZEROONELINENUMBERONEZEROZEROZEROZEROZERO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ZEROZEROZEROONEZEROLINENUMBERONEZEROZEROZEROZEROONEZEROCO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NTONEGOTOONEZEROZEROZEROZEROONEONELINENUMBERONEZEROZEROZEROZEROONEONECODEPR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TONEGOTOONEZEROZEROZEROONEZEROZEROLINENUMBERONEZEROZEROZEROONEZEROZEROCODEPRI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ZEROGOTOONEZEROZEROZEROONEZEROONELINENUMBERONEZEROZEROZEROONEZEROONECODEPRINT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GOTOONEZEROZEROZEROONEONEZEROLINENUMBERONEZEROZEROZEROONEONEZEROCODEPRINT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OTOONEZEROZEROZEROONEONEONELINENUMBERONEZEROZEROZEROONEONEONECODEPRINTZEROGO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ZEROZEROZEROLINENUMBERONEZEROZEROONEZEROZEROZEROCODEPRINTZEROGO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ZEROZEROONELINENUMBERONEZEROZEROONEZEROZEROONECODEPRINTONE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ONEZEROONEZEROLINENUMBERONEZEROZEROONEZEROONEZEROCODEPRINTONEGOTOONE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ZEROONEZEROONEONELINENUMBERONEZEROZEROONEZEROONEONECODEPRINTZEROGOTOONE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ONEZEROZEROLINENUMBERONEZEROZEROONEONEZEROZEROCODEPRINTONEGOTOONEZERO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ZEROONELINENUMBERONEZEROZEROONEONEZEROONECODEPRINTONEGOTOONEZEROZEROONEONE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ZEROLINENUMBERONEZEROZEROONEONEONEZEROCODEPRINTZEROGOTOONEZEROZEROONEONE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INENUMBERONEZEROZEROONEONEONEONECODEPRINTZEROGOTOONEZEROONEZEROZEROZEROZEROL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NUMBERONEZEROONEZEROZEROZEROZEROCODEPRINTZEROGOTOONEZEROONEZEROZEROZEROONELI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NUMBERONEZEROONEZEROZEROZEROONECODEPRINTONEGOTOONEZEROONEZEROZEROONEZEROLINEN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BERONEZEROONEZEROZEROONEZEROCODEPRINTONEGOTOONEZEROONEZEROZEROONEONELINE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ONEZEROZEROONEONECODEPRINTZEROGOTOONEZEROONEZEROONEZEROZERO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ZEROONEZEROZEROCODEPRINTZEROGOTOONEZEROONEZEROONEZEROONELINENUMBERONE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ZEROONEZEROONECODEPRINTONEGOTOONEZEROONEZEROONEONEZEROLINENUMBERONEZEROONE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ONEONEZEROCODEPRINTZEROGOTOONEZEROONEZEROONEONEONELINENUMBERONEZERO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CODEPRINTZEROGOTOONEZEROONEONEZEROZEROZEROLINENUMBERONEZEROONEONE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ZEROCODEPRINTZEROGOTOONEZEROONEONEZEROZEROONELINENUMBERONEZEROONEONEZERO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CODEPRINTZEROGOTOONEZEROONEONEZEROONEZEROLINENUMBERONEZEROONEONEZEROONEZERO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ONEONEZEROONEONELINENUMBERONEZEROONEONEZEROONEONECODEPRINT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GOTOONEZEROONEONEONEZEROZEROLINENUMBERONEZEROONEONEONEZEROZEROCODEPRINTZERO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TOONEZEROONEONEONEZEROONELINENUMBERONEZEROONEONEONEZEROONECODEPRINTZERO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ONEONEONEZEROLINENUMBERONEZEROONEONEONEONEZEROCODEPRINTZEROGOTO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ONEONELINENUMBERONEZEROONEONEONEONEONECODEPRINT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162920" y="32767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c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lbol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952880" cy="4091040"/>
          </a:xfrm>
          <a:prstGeom prst="rect">
            <a:avLst/>
          </a:prstGeom>
          <a:ln w="0">
            <a:noFill/>
          </a:ln>
        </p:spPr>
      </p:pic>
      <p:sp>
        <p:nvSpPr>
          <p:cNvPr id="1349" name=""/>
          <p:cNvSpPr/>
          <p:nvPr/>
        </p:nvSpPr>
        <p:spPr>
          <a:xfrm>
            <a:off x="4268520" y="2819520"/>
            <a:ext cx="3533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&gt;0&gt; 5+  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@'+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&gt;0&gt;4*+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+,  / 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vXv/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\   \  \  \  \  \  \  \  \  \  \  \  \  \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4@ 6@ 7@ 7@ 7@ 0@ 5@ 7@ 8@ 7@ 6@ 0@ 2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*&lt;&lt;&lt;&lt;&lt;&lt;&lt;&lt;&lt;&lt;&lt;&lt;&lt;&lt;&lt;&lt;&lt;&lt;&lt;&lt;&lt;&lt;&lt;&lt;&lt;&lt;&lt;&lt;&lt;&lt;&lt;&lt;&lt;&lt;&lt;&lt;~&lt;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P++&lt;&lt;&lt;&lt;&lt;&lt;&lt;&lt;&lt;&lt;&lt;&lt;&lt;&lt;&lt;&lt;&lt;&lt;&lt;&lt;&lt;&lt;&lt;&lt;&lt;&lt;&lt;&lt;&lt;&lt;&lt;&lt;&lt;&lt;&lt;&lt;~&lt;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Q  0@ 9@ 6@ 6@ 9@ 0@ 5@ 9@ 2@ 6@ 8@ 1@ 2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\     /  /  /  /  /  /  /  /  /  /  /  /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526400" y="228600"/>
            <a:ext cx="696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ce22"/>
                </a:solidFill>
                <a:latin typeface="Courier New"/>
                <a:ea typeface="ＭＳ Ｐゴシック"/>
              </a:rPr>
              <a:t>(=&lt;`#9]~6ZY32Vw/.R,+Op(L,+k#Gh&amp;}Cdz@aw=;zyKw%ut4Uqp0/mlejihtfrHcbaC2^W\&gt;Z,XW)UTSL53\HGFj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1905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1680" y="76320"/>
            <a:ext cx="472464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ENUMBERZEROCODEPRINTZEROGOTOONELINENUMBERONECODEPRINTONEGOTOONEZEROLINENUMB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NEZEROCODEPRINTZEROGOTOONEONELINENUMBERONEONECODEPRINTZEROGOTOONEZEROZEROLI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UMBERONEZEROZEROCODEPRINTONEGOTOONEZEROONELINENUMBERONEZEROONECODEPRINTZEROG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ONEZEROLINENUMBERONEONEZEROCODEPRINTZEROGOTOONEONEONELINENUMBERONEONE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ZEROGOTOONEZEROZEROZEROLINENUMBERONEZEROZEROZEROCODEPRINTZEROGOTOONEZERO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ONELINENUMBERONEZEROZEROONECODEPRINTONEGOTOONEZEROONEZEROLINENUMBER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CODEPRINTONEGOTOONEZEROONEONELINENUMBERONEZEROONEONECODEPRINTZEROGOTO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ZEROLINENUMBERONEONEZEROZEROCODEPRINTZEROGOTOONEONEZEROONELINENUMBER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CODEPRINTONEGOTOONEONEONEZEROLINENUMBERONEONEONEZEROCODEPRINTZERO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LINENUMBERONEONEONEONECODEPRINTONEGOTOONEZEROZEROZEROZERO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ZEROZEROCODEPRINTZEROGOTOONEZEROZEROZEROONELINENUMBERONEZEROZERO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DEPRINTONEGOTOONEZEROZEROONEZEROLINENUMBERONEZEROZEROONEZEROCODEPRINTONEGOTO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ZEROZEROONEONELINENUMBERONEZEROZEROONEONECODEPRINTZEROGOTOONEZEROONEZEROZERO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ENUMBERONEZEROONEZEROZEROCODEPRINTONEGOTOONEZEROONEZEROONELINENUMBER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ZEROONECODEPRINTONEGOTOONEZEROONEONEZEROLINENUMBERONEZEROONEONEZEROCODEPRINT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GOTOONEZEROONEONEONELINENUMBERONEZEROONEONEONECODEPRINTZEROGOTOONEONEZERO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LINENUMBERONEONEZEROZEROZEROCODEPRINTZEROGOTOONEONEZEROZEROONE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CODEPRINTONEGOTOONEONEZEROONEZEROLINENUMBERONEONEZEROONEZEROCOD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INTONEGOTOONEONEZEROONEONELINENUMBERONEONEZEROONEONECODEPRINTZEROGOTOONE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LINENUMBERONEONEONEZEROZEROCODEPRINTONEGOTOONEONEONEZEROONELINENUMBER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ZEROONECODEPRINTONEGOTOONEONEONEONEZEROLINENUMBERONEONEONEONEZEROCODEPR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TZEROGOTOONEONEONEONEONELINENUMBERONEONEONEONEONECODEPRINTZEROGOTOONEZEROZERO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ZEROZEROLINENUMBERONEZEROZEROZEROZEROZEROCODEPRINTZEROGOTOONEZEROZERO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LINENUMBERONEZEROZEROZEROZEROONECODEPRINTONEGOTOONEZEROZEROZEROONEZEROLIN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MBERONEZEROZEROZEROONEZEROCODEPRINTONEGOTOONEZEROZEROZEROONEONELINENUMBERONE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ZEROZEROONEONECODEPRINTZEROGOTOONEZEROZEROONEZEROZEROLINENUMBERONEZERO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CODEPRINTONEGOTOONEZEROZEROONEZEROONELINENUMBERONEZEROZEROONEZERO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ZEROONEONEZEROLINENUMBERONEZEROZEROONEONEZEROCODEPRINTONE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ONEZEROZEROONEONEONELINENUMBERONEZEROZEROONEONEONECODEPRINTONEGOTOONEZEROONE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ZEROZEROLINENUMBERONEZEROONEZEROZEROZEROCODEPRINTZEROGOTOONEZEROONEZEROZERO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LINENUMBERONEZEROONEZEROZEROONECODEPRINTZEROGOTOONEZEROONEZEROONEZEROLINENUM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NEZEROONEZEROONEZEROCODEPRINTONEGOTOONEZEROONEZEROONEONELINENUMBERONEZER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ONECODEPRINTZEROGOTOONEZEROONEONEZEROZEROLINENUMBERONEZEROONEONEZERO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DEPRINTZEROGOTOONEZEROONEONEZEROONELINENUMBERONEZEROONEONEZEROONECODEPRINT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GOTOONEZEROONEONEONEZEROLINENUMBERONEZEROONEONEONEZEROCODEPRINTZEROGOTOONEZER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ONELINENUMBERONEZEROONEONEONEONECODEPRINTZEROGOTOONEONEZEROZERO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LINENUMBERONEONEZEROZEROZEROZEROCODEPRINTZEROGOTOONEONEZEROZEROZEROONELINENUM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NEONEZEROZEROZEROONECODEPRINTONEGOTOONEONEZEROZEROONEZEROLINENUMBERONEONE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ZEROONEZEROCODEPRINTONEGOTOONEONEZEROZEROONEONELINENUMBERONEONEZEROZEROONEO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DEPRINTONEGOTOONEONEZEROONEZEROZEROLINENUMBERONEONEZEROONEZEROZEROCODEPRINT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GOTOONEONEZEROONEZEROONELINENUMBERONEONEZEROONEZEROONECODEPRINTONEGOTOONEONEZ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NEONEZEROLINENUMBERONEONEZEROONEONEZEROCODEPRINTONEGOTOONEONEZEROONEONEONEL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NUMBERONEONEZEROONEONEONECODEPRINTONEGOTOONEONEONEZEROZEROZEROLINENUMBER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ZEROZEROZEROCODEPRINTZEROGOTOONEONEONEZEROZEROONELINENUMBERONEONEONE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CODEPRINTONEGOTOONEONEONEZEROONEZEROLINENUMBERONEONEONEZEROONEZEROCODEPRI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GOTOONEONEONEZEROONEONELINENUMBERONEONEONEZEROONEONECODEPRINTZEROGOTOONEONE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ONEZEROZEROLINENUMBERONEONEONEONEZEROZEROCODEPRINTONEGOTOONEONEONEONEZEROO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ENUMBERONEONEONEONEZEROONECODEPRINTONEGOTOONEONEONEONEONEZEROLINENUMBERON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ONEONEZEROCODEPRINTONEGOTOONEONEONEONEONEONELINENUMBERONEONEONEONEONEONECO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NTONEGOTOONEZEROZEROZEROZEROZEROZEROLINENUMBERONEZEROZEROZEROZEROZEROZERO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ZEROGOTOONEZEROZEROZEROZEROZEROONELINENUMBERONEZEROZEROZEROZEROZEROONE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ZEROZEROZEROONEZEROLINENUMBERONEZEROZEROZEROZEROONEZEROCO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NTONEGOTOONEZEROZEROZEROZEROONEONELINENUMBERONEZEROZEROZEROZEROONEONECODEPR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TONEGOTOONEZEROZEROZEROONEZEROZEROLINENUMBERONEZEROZEROZEROONEZEROZEROCODEPRI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ZEROGOTOONEZEROZEROZEROONEZEROONELINENUMBERONEZEROZEROZEROONEZEROONECODEPRINT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GOTOONEZEROZEROZEROONEONEZEROLINENUMBERONEZEROZEROZEROONEONEZEROCODEPRINT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OTOONEZEROZEROZEROONEONEONELINENUMBERONEZEROZEROZEROONEONEONECODEPRINTZEROGO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ZEROZEROZEROLINENUMBERONEZEROZEROONEZEROZEROZEROCODEPRINTZEROGO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ZEROONEZEROZEROONELINENUMBERONEZEROZEROONEZEROZEROONECODEPRINTONE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ZEROONEZEROONEZEROLINENUMBERONEZEROZEROONEZEROONEZEROCODEPRINTONEGOTOONE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ZEROONEZEROONEONELINENUMBERONEZEROZEROONEZEROONEONECODEPRINTZEROGOTOONE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ONEZEROZEROLINENUMBERONEZEROZEROONEONEZEROZEROCODEPRINTONEGOTOONEZERO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ZEROONELINENUMBERONEZEROZEROONEONEZEROONECODEPRINTONEGOTOONEZEROZEROONEONE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ZEROLINENUMBERONEZEROZEROONEONEONEZEROCODEPRINTZEROGOTOONEZEROZEROONEONEONE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INENUMBERONEZEROZEROONEONEONEONECODEPRINTZEROGOTOONEZEROONEZEROZEROZEROZEROL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ENUMBERONEZEROONEZEROZEROZEROZEROCODEPRINTZEROGOTOONEZEROONEZEROZEROZEROONELI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NUMBERONEZEROONEZEROZEROZEROONECODEPRINTONEGOTOONEZEROONEZEROZEROONEZEROLINEN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BERONEZEROONEZEROZEROONEZEROCODEPRINTONEGOTOONEZEROONEZEROZEROONEONELINE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NEZEROONEZEROZEROONEONECODEPRINTZEROGOTOONEZEROONEZEROONEZEROZEROLINENUMBER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ZEROONEZEROZEROCODEPRINTZEROGOTOONEZEROONEZEROONEZEROONELINENUMBERONE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ONEZEROONEZEROONECODEPRINTONEGOTOONEZEROONEZEROONEONEZEROLINENUMBERONEZEROONE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ONEONEZEROCODEPRINTZEROGOTOONEZEROONEZEROONEONEONELINENUMBERONEZERO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CODEPRINTZEROGOTOONEZEROONEONEZEROZEROZEROLINENUMBERONEZEROONEONEZEROZ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ZEROCODEPRINTZEROGOTOONEZEROONEONEZEROZEROONELINENUMBERONEZEROONEONEZERO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CODEPRINTZEROGOTOONEZEROONEONEZEROONEZEROLINENUMBERONEZEROONEONEZEROONEZEROCO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PRINTONEGOTOONEZEROONEONEZEROONEONELINENUMBERONEZEROONEONEZEROONEONECODEPRINT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ROGOTOONEZEROONEONEONEZEROZEROLINENUMBERONEZEROONEONEONEZEROZEROCODEPRINTZERO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TOONEZEROONEONEONEZEROONELINENUMBERONEZEROONEONEONEZEROONECODEPRINTZEROGOTO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ZEROONEONEONEONEZEROLINENUMBERONEZEROONEONEONEONEZEROCODEPRINTZEROGOTOONEZ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ONEONEONEONELINENUMBERONEZEROONEONEONEONEONECODEPRINT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202520" y="4626000"/>
            <a:ext cx="17524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c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lb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581280" cy="295776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>
            <a:off x="3278160" y="2590920"/>
            <a:ext cx="3533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&gt;0&gt; 5+  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@'+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&gt;0&gt;4*+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+,  / 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vXv/ 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\   \  \  \  \  \  \  \  \  \  \  \  \  \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4@ 6@ 7@ 7@ 7@ 0@ 5@ 7@ 8@ 7@ 6@ 0@ 2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*&lt;&lt;&lt;&lt;&lt;&lt;&lt;&lt;&lt;&lt;&lt;&lt;&lt;&lt;&lt;&lt;&lt;&lt;&lt;&lt;&lt;&lt;&lt;&lt;&lt;&lt;&lt;&lt;&lt;&lt;&lt;&lt;&lt;&lt;&lt;&lt;~&lt;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P++&lt;&lt;&lt;&lt;&lt;&lt;&lt;&lt;&lt;&lt;&lt;&lt;&lt;&lt;&lt;&lt;&lt;&lt;&lt;&lt;&lt;&lt;&lt;&lt;&lt;&lt;&lt;&lt;&lt;&lt;&lt;&lt;&lt;&lt;&lt;&lt;~&lt;&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   </a:t>
            </a: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Q  0@ 9@ 6@ 6@ 9@ 0@ 5@ 9@ 2@ 6@ 8@ 1@ 2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50311"/>
                </a:solidFill>
                <a:latin typeface="Courier New"/>
                <a:ea typeface="ＭＳ Ｐゴシック"/>
              </a:rPr>
              <a:t>\     /  /  /  /  /  /  /  /  /  /  /  / 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49840" y="4805280"/>
            <a:ext cx="3657600" cy="398520"/>
          </a:xfrm>
          <a:prstGeom prst="rect">
            <a:avLst/>
          </a:prstGeom>
          <a:noFill/>
          <a:ln w="9360">
            <a:solidFill>
              <a:srgbClr val="0dc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ce22"/>
                </a:solidFill>
                <a:latin typeface="Courier New"/>
                <a:ea typeface="ＭＳ Ｐゴシック"/>
              </a:rPr>
              <a:t>(=&lt;`#9]~6ZY32Vw/.R,+Op(L,+k#Gh&amp;}Cdz@aw=;zyKw%ut4Uqp0/mlejihtfrHcbaC2^W\&gt;Z,XW)UTSL53\HGFj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1904760" cy="108900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2741760" y="4871880"/>
            <a:ext cx="3838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+B+B+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||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||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FF%FFF%FFF%CCC%CCC%CCC%FFF%FFF%FFF%FFFFFF%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GG%GGG%GGG%DDD%DDD%DDD%GGGGGGGGG%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EEE%%%EEE%EEE%%%%%%EEE%EEE%EEE%EEE%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CC%%%%%CCC%DDD%%%%%EEE%FFF%FFF%FFF%FFFF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%%%%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86560" y="609480"/>
            <a:ext cx="94986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34t l33tN3$$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3h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41n't s0 7rIck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33t sP33k is U8er keWl 4nD eA5y wehn u 7hink 1t tHr0uG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f u w4nn4be UB3R-l33t u d3f1n1t3lY w4nt in 0n a b4d4sS h4xX0r1ng s1tE!!! ;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4r3Z c0ll3cT10n2 r 7eh l3Et3r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4k3 cL4nS r 7eh bE5t tH1ng 1n teh 3nTIr3 w0rlD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4m3s wh3r3 u g3t to 5h00t ppl r 70tAl1_y w1cK1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'M teh fr4GM4stEr aN I'lL t0t41_1Ly wIpE teh phr34k1ng fL00r ***j3d1 5tYlE*** wItH y0uR h1dE!!!! L0L0L0L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3lEphR4gG1nG l4m3rs wit mY m8tes r34lLy k1kK$ A$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33t hAxX0r$ CrE4t3 u8er- k3wL 5tUff lIkE n34t pR0gR4mm1nG lAnguidGe$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0m3tIm3$ teh l4nGu4gES l00k jUst l1k3 rE41_ 0neS 7o mAkE ppl Th1nk th3y'r3 ju$t n0rMal lEE7 5pEEk but th3y're 5ecRetLy c0dE!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080DY unDer5tAnD$ l33t SpEaK 4p4rT fr0m j3d1!!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0mE kId 0n A me$$4gEb04rD m1ghT 8E a r0xX0r1nG hAxX0r wH0 w4nT2 t0 bR34k 5tuFf, 0r mAyb3 ju5t sh0w 7eh wAy5 l33t ppl cAn 8E m0re lIkE y0d4!!! hE i5 teh u8ER!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t m1ght 8E 5omE v1rus 0r a Pl4ySt4tI0n ch34t c0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t 3v3n MiTe jUs7 s4y "H3LL0 W0RLD!!!" u ju5t cAn'T gu3s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3r3's n3v3r anY p0iNt l00KiNg sC3pT1c4l c0s th4t, be1_1Ev3 iT 0r n0t, 1s whAt th1s 1s!!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uxX0r5!!!L0L0L0L0L!!!!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2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18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32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M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nimum spanning tre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m’s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810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ywhere and repeatedly choose the next-smallest edge out from your current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79981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28:52Z</dcterms:created>
  <dc:creator>keller</dc:creator>
  <dc:description/>
  <cp:keywords/>
  <dc:language>en-US</dc:language>
  <cp:lastModifiedBy>Zachary Dodds</cp:lastModifiedBy>
  <cp:lastPrinted>2008-02-26T21:46:59Z</cp:lastPrinted>
  <dcterms:modified xsi:type="dcterms:W3CDTF">2008-02-27T01:21:45Z</dcterms:modified>
  <cp:revision>895</cp:revision>
  <dc:subject/>
  <dc:title>CS 60 Slides</dc:title>
</cp:coreProperties>
</file>