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22.pct" ContentType="image/x-pict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ct" ContentType="image/x-pict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ct" ContentType="image/x-pict"/>
  <Override PartName="/ppt/media/image16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c5be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0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8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a21"/>
              </a:buClr>
              <a:buSzPct val="45000"/>
              <a:buFont typeface="Monotype Sort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3.pct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360" y="885960"/>
            <a:ext cx="4941720" cy="180360"/>
            <a:chOff x="468360" y="885960"/>
            <a:chExt cx="4941720" cy="180360"/>
          </a:xfrm>
        </p:grpSpPr>
        <p:sp>
          <p:nvSpPr>
            <p:cNvPr id="42" name=""/>
            <p:cNvSpPr/>
            <p:nvPr/>
          </p:nvSpPr>
          <p:spPr>
            <a:xfrm>
              <a:off x="468360" y="885960"/>
              <a:ext cx="494172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8360" y="990360"/>
              <a:ext cx="494172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76440" y="152280"/>
            <a:ext cx="43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fin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160" y="1224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ery summ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840" y="3473280"/>
            <a:ext cx="2257200" cy="3353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contrast="24000"/>
          </a:blip>
          <a:srcRect l="47121" t="33797" r="10721" b="50152"/>
          <a:stretch/>
        </p:blipFill>
        <p:spPr>
          <a:xfrm>
            <a:off x="6400800" y="228600"/>
            <a:ext cx="2514600" cy="1405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>
            <a:lum contrast="30000"/>
          </a:blip>
          <a:srcRect l="6488" t="77204" r="50690" b="9225"/>
          <a:stretch/>
        </p:blipFill>
        <p:spPr>
          <a:xfrm>
            <a:off x="380880" y="1981080"/>
            <a:ext cx="2514600" cy="1219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819520" y="3581280"/>
            <a:ext cx="6019560" cy="301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29080" y="19890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est jotto game ever :-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29080" y="241452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ACM problem solved in Latex, toda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9080" y="28414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ing ahead to CS 189 this fal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840" y="6093000"/>
            <a:ext cx="11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visit to Googlet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13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76440" y="228600"/>
            <a:ext cx="77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ete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34440" y="64342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est 14!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680" y="444348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3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299232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umber of meteors that will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26840" y="3633840"/>
            <a:ext cx="7347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78000" y="4495680"/>
            <a:ext cx="62712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4120" y="42800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x,y,t) location and time of each meteor in the first quadr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262160" y="4572000"/>
            <a:ext cx="64296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285920" y="4653000"/>
            <a:ext cx="60336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293480" y="5745240"/>
            <a:ext cx="5698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54200" y="5708520"/>
            <a:ext cx="22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eor 4 will drop on location (0,3) at time t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000" y="1308240"/>
            <a:ext cx="37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teors destroy the location they hit and each of the four compass neighbors (NEW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392200"/>
            <a:ext cx="106848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6520" y="542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8240" y="1371600"/>
            <a:ext cx="292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5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4|.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3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|.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1|# * * #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|*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 1 2 3 4 5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4560" y="4433760"/>
            <a:ext cx="17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Must be outside the meteors' range at each time step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718240" y="4094280"/>
            <a:ext cx="292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t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5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4|#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3|* #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|#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1|# # # #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|#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 1 2 3 4 5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33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6440" y="228600"/>
            <a:ext cx="77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ete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34440" y="64342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est 14!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6680" y="444348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3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1720" y="299232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umber of meteors that will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6840" y="3633840"/>
            <a:ext cx="7347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278000" y="4495680"/>
            <a:ext cx="62712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4120" y="42800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x,y,t) location and time of each meteor in the first quadr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262160" y="4572000"/>
            <a:ext cx="64296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285920" y="4653000"/>
            <a:ext cx="60336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3480" y="5745240"/>
            <a:ext cx="5698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4200" y="5708520"/>
            <a:ext cx="22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eor 4 will drop on location (0,3) at time t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000" y="1308240"/>
            <a:ext cx="37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teors destroy the location they hit and each of the four compass neighbors (NEW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8960" y="2392200"/>
            <a:ext cx="106848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6520" y="542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440" y="3365640"/>
            <a:ext cx="1704960" cy="733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How many steps does it take to get to a safe location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8240" y="1371600"/>
            <a:ext cx="292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5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4|.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3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|.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1|# * * #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|* # #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 1 2 3 4 5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11480" y="2808360"/>
            <a:ext cx="126684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5824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5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s last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1301760"/>
            <a:ext cx="8534160" cy="5403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60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. Am. qualifying t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89240" y="5262480"/>
            <a:ext cx="7066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 Flor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07240" y="2214720"/>
            <a:ext cx="7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 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2200" y="4405320"/>
            <a:ext cx="4687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D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04520" y="3510000"/>
            <a:ext cx="3985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11760" y="3121200"/>
            <a:ext cx="901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W Mad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1880" y="4384800"/>
            <a:ext cx="6699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 North Tex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99800" y="3173400"/>
            <a:ext cx="5893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orn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64320" y="3316320"/>
            <a:ext cx="711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Waterl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94160" y="3511440"/>
            <a:ext cx="432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42080" y="5946840"/>
            <a:ext cx="997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 Guadalaja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82040" y="2117880"/>
            <a:ext cx="447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U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6640" y="4441680"/>
            <a:ext cx="3909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76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1432080"/>
            <a:ext cx="89154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81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read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00200" y="5410080"/>
            <a:ext cx="6248520" cy="1175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543800" cy="388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87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read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920" y="1305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ver 2007 finals' problems B, H, and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6120" y="1401840"/>
            <a:ext cx="4921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hich was hardest? middle? easi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tch these attempts/solved numbers to each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) Grand 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)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2101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66 attempts / 0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2406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131 attempts / 33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2711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140 attempts / 77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99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read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920" y="1305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ver 2007 finals' problems B, H, and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6120" y="1401840"/>
            <a:ext cx="4921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hich was hardest? middle? easi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atch these attempts/solved numbers to each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) Grand 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)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2101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66 attempts / 0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2406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131 attempts / 33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2711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140 attempts / 77 sol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2268360"/>
            <a:ext cx="762120" cy="2256120"/>
          </a:xfrm>
          <a:custGeom>
            <a:avLst/>
            <a:gdLst/>
            <a:ahLst/>
            <a:rect l="l" t="t" r="r" b="b"/>
            <a:pathLst>
              <a:path w="480" h="1355">
                <a:moveTo>
                  <a:pt x="0" y="11"/>
                </a:moveTo>
                <a:lnTo>
                  <a:pt x="480" y="0"/>
                </a:lnTo>
                <a:lnTo>
                  <a:pt x="480" y="923"/>
                </a:lnTo>
                <a:lnTo>
                  <a:pt x="48" y="1355"/>
                </a:lnTo>
              </a:path>
            </a:pathLst>
          </a:custGeom>
          <a:noFill/>
          <a:ln w="126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97480" y="2603520"/>
            <a:ext cx="479160" cy="1957320"/>
          </a:xfrm>
          <a:custGeom>
            <a:avLst/>
            <a:gdLst/>
            <a:ahLst/>
            <a:rect l="l" t="t" r="r" b="b"/>
            <a:pathLst>
              <a:path w="302" h="1233">
                <a:moveTo>
                  <a:pt x="302" y="0"/>
                </a:moveTo>
                <a:lnTo>
                  <a:pt x="0" y="0"/>
                </a:lnTo>
                <a:lnTo>
                  <a:pt x="0" y="1233"/>
                </a:lnTo>
              </a:path>
            </a:pathLst>
          </a:custGeom>
          <a:noFill/>
          <a:ln w="126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905120" y="2895480"/>
            <a:ext cx="3047760" cy="167652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2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ACM, Fall 2008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7150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re beverages    -    more donuts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16002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etter coverage of Java's and C++'s librari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41911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Labs vs. lecture meetings: still half and hal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10666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ll of the Fall 2007 So CA regional problems will be back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21337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utomatic updating of the web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60880" y="2139840"/>
            <a:ext cx="135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his might actually happen someda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68604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is semester's individual-vs-teamwork mode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3429000"/>
            <a:ext cx="8458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6186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ther suggestio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26668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allenging sets of test cases for every problem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48909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ny languag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vs. only Java, C, and C++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5554800"/>
            <a:ext cx="8458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5240" y="4476600"/>
            <a:ext cx="55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UCSD has </a:t>
            </a:r>
            <a:r>
              <a:rPr b="1" i="1" lang="en-US" sz="1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several</a:t>
            </a:r>
            <a:r>
              <a:rPr b="0" lang="en-US" sz="1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 practice contests instead of an ACM class… . Should w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981080" y="1295280"/>
            <a:ext cx="541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Until next semester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080" y="228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ring 2008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74992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python 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java  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++  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20" y="5931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llies per problem and per language (thus far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4720" y="5694480"/>
            <a:ext cx="5506920" cy="108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8204040" cy="47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183" b="0"/>
          <a:stretch/>
        </p:blipFill>
        <p:spPr>
          <a:xfrm>
            <a:off x="152280" y="1486080"/>
            <a:ext cx="867096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62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6212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4632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876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504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935000"/>
            <a:ext cx="533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1935000"/>
            <a:ext cx="441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16680" y="193500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5800" y="19350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8098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9200" y="38098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8320" y="38098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8098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43480" y="3809880"/>
            <a:ext cx="4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809880"/>
            <a:ext cx="441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9120" y="3809880"/>
            <a:ext cx="5652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3400" y="3809880"/>
            <a:ext cx="5652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48440" y="38098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7680" y="3809880"/>
            <a:ext cx="565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380988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380988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53480" y="3809880"/>
            <a:ext cx="5652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(+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86000" y="4274640"/>
            <a:ext cx="719280" cy="22068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94440" y="4501800"/>
            <a:ext cx="718920" cy="22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6720" y="4487760"/>
            <a:ext cx="99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number of 2x sc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46720" y="4732200"/>
            <a:ext cx="990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number of 4x sc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574668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     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ruby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chem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74668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lua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awk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js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78600" y="5767560"/>
            <a:ext cx="11131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sq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cob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bas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x86 a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mathema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sh, lat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61280" y="5986440"/>
            <a:ext cx="485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02640" y="5791320"/>
            <a:ext cx="122040" cy="906480"/>
          </a:xfrm>
          <a:custGeom>
            <a:avLst/>
            <a:gdLst>
              <a:gd name="textAreaLeft" fmla="*/ 78120 w 122040"/>
              <a:gd name="textAreaRight" fmla="*/ 122040 w 122040"/>
              <a:gd name="textAreaTop" fmla="*/ 23400 h 906480"/>
              <a:gd name="textAreaBottom" fmla="*/ 883080 h 9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ACM 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5302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UCSD has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veral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practice contests instead of an ACM class… . Should w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212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re explicit work on different parts of Java's library (Fall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31845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ewer, more difficult problems? (Spring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10666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re scheduling and constraint-satisfaction problem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4243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Use any language that can be checked… (Spring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562720" y="4038120"/>
            <a:ext cx="833400" cy="775080"/>
            <a:chOff x="5562720" y="4038120"/>
            <a:chExt cx="833400" cy="775080"/>
          </a:xfrm>
        </p:grpSpPr>
        <p:sp>
          <p:nvSpPr>
            <p:cNvPr id="335" name=""/>
            <p:cNvSpPr/>
            <p:nvPr/>
          </p:nvSpPr>
          <p:spPr>
            <a:xfrm>
              <a:off x="5562720" y="4584600"/>
              <a:ext cx="2286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786280" y="4038120"/>
              <a:ext cx="609840" cy="762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975200" y="3176640"/>
            <a:ext cx="450720" cy="479520"/>
            <a:chOff x="4975200" y="3176640"/>
            <a:chExt cx="450720" cy="479520"/>
          </a:xfrm>
        </p:grpSpPr>
        <p:sp>
          <p:nvSpPr>
            <p:cNvPr id="338" name=""/>
            <p:cNvSpPr/>
            <p:nvPr/>
          </p:nvSpPr>
          <p:spPr>
            <a:xfrm>
              <a:off x="4976640" y="3176640"/>
              <a:ext cx="447840" cy="47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975200" y="3189240"/>
              <a:ext cx="450720" cy="45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7858080" y="19512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72480" y="9460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12000" y="52531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152280"/>
            <a:ext cx="861048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62640" y="103320"/>
            <a:ext cx="3362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to choose fro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83808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O moO MoO mOo MOO OOM MMM moO moO MMM mOo mOo moO MMM mOo MMM moO moO MOO MOo mOo MoO moO moo mOo mOo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2800" y="2590920"/>
            <a:ext cx="337212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0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tarchild Numerology: west 1st left, 2nd right,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west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21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Babelfishe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Babelfishery: south 1st left,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" " is waiting at Writer's Depo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Writer's Depot: north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Post Office: north, 1st right, 2nd righ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1st right, 1st left, 1st left, 1st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Zoom Zoom: nort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Addition Alley: west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north 1st left, 1st lef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Undergroun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Underground: south 1st left, 1st righ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57" if no one is wait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south 2nd righ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210"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5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Taxi Garage: south 2nd lef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783120" y="4038480"/>
            <a:ext cx="1735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lI'moH A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lI'moH B ch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cha' B 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8 {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bo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tl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"A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"B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vangq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905120"/>
            <a:ext cx="528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=&lt;`$9]7&lt;5YXz7wT.3,+O/o'K%$H"'~D|#z@b=`{^Lx8%$Xmrkpohm-Ni;gsedcba`_^]\[ZYXWVUTSRQPONMLKJIHGFEDCBA@?&gt;=&lt;;:9876543s+O&lt;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92400" y="6419880"/>
            <a:ext cx="45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:-O 8-D 8-O ===||8-&lt; :-( 8-Q [8=\ [8~E S:oP :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31240" y="16812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93000" y="3200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33120" y="43578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00360" y="494352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8880" y="60498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Qu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280" y="1015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03880" y="224640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48520" y="18334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1000" y="3352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Ta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37800" y="451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P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15120" y="509580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Var'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5120" y="620244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Emot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" y="2541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Whit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61760" y="239868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Malbol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8680" y="152280"/>
            <a:ext cx="74880" cy="10749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34160" y="1349280"/>
            <a:ext cx="280332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98640" y="19368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ach of these three LANGUAGES will be worth doub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6815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57200" y="228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ACM this spr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oose you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051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1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0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674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536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13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4674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674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2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674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7480" y="6095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19400" y="152280"/>
            <a:ext cx="1137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ily  - ici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lxy  - cyli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oo  - foli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llo  - hill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lpr  - pril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oov  - ovol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moy  - yomim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pr  - primp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5120" y="152280"/>
            <a:ext cx="1320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hop  - epoch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oy  - coo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vy  - cov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yz  - coz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pry  - crep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fory  - foy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hopr  - ephor hop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r  - repro rop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v  - prov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w  - pow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7621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ost  - dolt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7760" y="1600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nty  - tee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960" y="152280"/>
            <a:ext cx="129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hps  - pasha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hsy  - ayah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ssy  - assa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ffsy  - yaff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gry  - ragg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hpr  - graph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rvy  - grav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pss  - hasp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psw  - pshaw whaps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9000" y="228600"/>
            <a:ext cx="1258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ssy  - shay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swy  - wash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iprt  - atrip tapir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pssw  - swaps wasps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ssy  - sass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swy  - sway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vvy  - savv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lnt  - flint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mnty  - mint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18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-first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295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st-first sear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readth-first tree search u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43560" y="20653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so that it always takes the best node to explore nex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0400" y="1886040"/>
            <a:ext cx="4569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riorityQueue(Queue.Queu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 _put(self, item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, priority =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f._insort_right((priority, data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 _get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self.queue.pop(0)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 _insort_right(self, x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""Insert item x in list, and keep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sorted assuming a is sorted. If x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already in the list, insert it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right of the rightmost x.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= self.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 = 0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 = len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 lo &lt; 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d = (lo+hi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x[0] &lt; a[mid][0]: hi = 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: lo = mid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.insert(lo,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4520" y="3962520"/>
            <a:ext cx="2558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 test(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 = PriorityQueu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.put(('b', 1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.put(('a', 1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.put(('c', 1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.put(('z', 0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q.put(('d', 2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 not pq.empty(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 pq.get()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()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# prints z b a c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46240" y="830160"/>
            <a:ext cx="1563840" cy="36720"/>
          </a:xfrm>
          <a:custGeom>
            <a:avLst/>
            <a:gdLst/>
            <a:ahLst/>
            <a:rect l="l" t="t" r="r" b="b"/>
            <a:pathLst>
              <a:path w="4341" h="100">
                <a:moveTo>
                  <a:pt x="8186" y="2307"/>
                </a:moveTo>
                <a:cubicBezTo>
                  <a:pt x="8412" y="2307"/>
                  <a:pt x="8630" y="2332"/>
                  <a:pt x="8855" y="2356"/>
                </a:cubicBezTo>
                <a:cubicBezTo>
                  <a:pt x="9272" y="2401"/>
                  <a:pt x="9701" y="2402"/>
                  <a:pt x="10120" y="2406"/>
                </a:cubicBezTo>
                <a:cubicBezTo>
                  <a:pt x="10860" y="2413"/>
                  <a:pt x="11618" y="2446"/>
                  <a:pt x="12353" y="2381"/>
                </a:cubicBezTo>
                <a:cubicBezTo>
                  <a:pt x="12410" y="2376"/>
                  <a:pt x="12469" y="2381"/>
                  <a:pt x="12526" y="23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rcRect l="0" t="10607" r="0" b="0"/>
          <a:stretch/>
        </p:blipFill>
        <p:spPr>
          <a:xfrm>
            <a:off x="312840" y="1397160"/>
            <a:ext cx="3476520" cy="5244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666240" y="3438360"/>
            <a:ext cx="4021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++++++[&gt;+++++++++ % hello-wor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-]&gt;.&lt;+++++[&gt;++++++&lt;-]&gt;-.+++++++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+.&lt;++++++++[&gt;&gt;++++&lt;&lt;-]&gt;&gt;.&lt;&lt;++++[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&lt;-]&gt;.&lt;++++[&gt;++++++&lt;-]&gt;.+++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.--------.&gt;+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+[&gt;+++++++[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% Print alphabet, A-Z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 + + + + +++++++++++++++++++++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+++++++++++++++++++++++++++++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+++++++++++++++++++++++++++++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&lt; [ &gt;.+&lt;-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29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1080" y="1859040"/>
            <a:ext cx="317160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0000" y="483084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238880" y="5634000"/>
            <a:ext cx="525600" cy="509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43640" y="539604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 number of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83200" y="1371600"/>
            <a:ext cx="335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#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 World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#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ILE ERR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#3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1611360"/>
            <a:ext cx="134136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88080" y="212580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results of those program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rcRect l="0" t="10607" r="0" b="0"/>
          <a:stretch/>
        </p:blipFill>
        <p:spPr>
          <a:xfrm>
            <a:off x="312840" y="1397160"/>
            <a:ext cx="3476520" cy="524484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41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2658960"/>
            <a:ext cx="328464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72320" y="133992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829560" y="1825560"/>
            <a:ext cx="474480" cy="433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46520" y="21924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your hole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64440" y="1362240"/>
            <a:ext cx="151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D3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H5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DAC2DQ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S3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C3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D5DJHA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S7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HK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ADKS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8440" y="4751280"/>
            <a:ext cx="13428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956120"/>
            <a:ext cx="37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the river cards that maximize your winn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98800" y="2430360"/>
            <a:ext cx="30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opponent's hold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6668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first four face-up cards (sh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870600" y="2090880"/>
            <a:ext cx="42696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918480" y="2370240"/>
            <a:ext cx="371160" cy="425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rcRect l="0" t="10607" r="0" b="0"/>
          <a:stretch/>
        </p:blipFill>
        <p:spPr>
          <a:xfrm>
            <a:off x="312840" y="1397160"/>
            <a:ext cx="3476520" cy="524484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57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2658960"/>
            <a:ext cx="328464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72320" y="133992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829560" y="1825560"/>
            <a:ext cx="474480" cy="433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46520" y="21924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your hole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64440" y="1362240"/>
            <a:ext cx="151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D3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H5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DAC2DQ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S3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C3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D5DJHA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S7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HK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ADKS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54880" y="5330880"/>
            <a:ext cx="6032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 TS 3D 4D 5D 6D 7D 8D 9D TD AD TH 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 4S 5S 6S 7S 8S 9S TS JS QS KS AS 2D 3D 6D 7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D 9D TD JD QD KD AD 2H 3H 4H 5H 6H 7H 8H 9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 QH KH 4C 5C 6C 7C 8C 9C TC JC QC KC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 LO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8440" y="4751280"/>
            <a:ext cx="13428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4956120"/>
            <a:ext cx="37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the river cards that maximize your winn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98800" y="2430360"/>
            <a:ext cx="30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opponent's hold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62520" y="26668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first four face-up cards (sh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870600" y="2090880"/>
            <a:ext cx="42696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918480" y="2370240"/>
            <a:ext cx="371160" cy="4255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Contest insigh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838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int code and debug o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1371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Watch out for tricky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449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8c1b"/>
                </a:solidFill>
                <a:latin typeface="Courier New"/>
                <a:ea typeface="ＭＳ Ｐゴシック"/>
              </a:rPr>
              <a:t>ACGH|BJ|I|DEF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90720" y="23464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8c1b"/>
                </a:solidFill>
                <a:latin typeface="Georgia"/>
                <a:ea typeface="ＭＳ Ｐゴシック"/>
              </a:rPr>
              <a:t>How to order lists like this one alphabetically…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2819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e ready for a problem you've already d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6172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actice a couple of scheduling/constraint proble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33447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1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minimize trip costs - lots o' ru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52480" y="37288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2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brute force: find maximum average with dropped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41133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3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understand the problem: booklet pag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4498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4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server-type problem: solving the game of C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48830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0329"/>
                </a:solidFill>
                <a:latin typeface="Arial"/>
                <a:ea typeface="ＭＳ Ｐゴシック"/>
              </a:rPr>
              <a:t>#5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yahoo! (longest increasing subsequence probl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526716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6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graph and constraint-based reasoning: network conn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56530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c1b"/>
                </a:solidFill>
                <a:latin typeface="Arial"/>
                <a:ea typeface="ＭＳ Ｐゴシック"/>
              </a:rPr>
              <a:t>#7</a:t>
            </a:r>
            <a:r>
              <a:rPr b="0" lang="en-US" sz="1800" spc="-1" strike="noStrike">
                <a:solidFill>
                  <a:srgbClr val="190be9"/>
                </a:solidFill>
                <a:latin typeface="Arial"/>
                <a:ea typeface="ＭＳ Ｐゴシック"/>
              </a:rPr>
              <a:t>  scheduling tasks based on power an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rcRect l="0" t="10607" r="0" b="0"/>
          <a:stretch/>
        </p:blipFill>
        <p:spPr>
          <a:xfrm>
            <a:off x="312840" y="1397160"/>
            <a:ext cx="3476520" cy="524484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88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0680" y="3487680"/>
            <a:ext cx="332424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62520" y="133992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14680" y="2014560"/>
            <a:ext cx="5481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 1.0 4.4 7.8 1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1.0 3.0 5.0 7.0 9.0 1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 1.0 3.0 5.0 7.0 9.0 11.0 13.0 15.0 17.0 2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1.0 4.4 7.8 14.6 1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283000" y="1555920"/>
            <a:ext cx="500040" cy="483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45240" y="1360440"/>
            <a:ext cx="203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x-coordinates of cylinders in the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tom row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 of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191120" y="3603600"/>
            <a:ext cx="45860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444600"/>
            <a:ext cx="2075040" cy="51051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798640" y="884160"/>
            <a:ext cx="5583240" cy="182160"/>
            <a:chOff x="2798640" y="884160"/>
            <a:chExt cx="5583240" cy="182160"/>
          </a:xfrm>
        </p:grpSpPr>
        <p:sp>
          <p:nvSpPr>
            <p:cNvPr id="103" name=""/>
            <p:cNvSpPr/>
            <p:nvPr/>
          </p:nvSpPr>
          <p:spPr>
            <a:xfrm>
              <a:off x="2798640" y="884160"/>
              <a:ext cx="5583240" cy="766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98640" y="989640"/>
              <a:ext cx="5583240" cy="766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08240" y="1760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M Spr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07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6480" y="574992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ython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uby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ava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574992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++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erl     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ostscript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9520" y="5938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llies of languages used per problem thus f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9400" y="5694480"/>
            <a:ext cx="2908440" cy="108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58920" y="2036880"/>
            <a:ext cx="2156040" cy="27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83160" y="1357200"/>
            <a:ext cx="2178000" cy="4116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0" t="0" r="13118" b="0"/>
          <a:stretch/>
        </p:blipFill>
        <p:spPr>
          <a:xfrm>
            <a:off x="7066080" y="1476360"/>
            <a:ext cx="1958760" cy="387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3040" y="1479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3040" y="2130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82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7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540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862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52960" y="3016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49520" y="3551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2360" y="4049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4840" y="4657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97360" y="232236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07080" y="2927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3080" y="3503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0320" y="4040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6800" y="46562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4320" y="52722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6040" y="24177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0800" y="29829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0960" y="353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8640" y="413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56560" y="460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02560" y="5149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rcRect l="0" t="10607" r="0" b="0"/>
          <a:stretch/>
        </p:blipFill>
        <p:spPr>
          <a:xfrm>
            <a:off x="312840" y="1397160"/>
            <a:ext cx="3476520" cy="52448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99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0680" y="3487680"/>
            <a:ext cx="332424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133992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14680" y="2014560"/>
            <a:ext cx="5481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 1.0 4.4 7.8 1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1.0 3.0 5.0 7.0 9.0 1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 1.0 3.0 5.0 7.0 9.0 11.0 13.0 15.0 17.0 2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1.0 4.4 7.8 14.6 1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283000" y="1555920"/>
            <a:ext cx="500040" cy="483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45240" y="1360440"/>
            <a:ext cx="203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x-coordinates of cylinders in the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tom row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 of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6156360" y="3076560"/>
            <a:ext cx="2681280" cy="17924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807000" y="5114880"/>
            <a:ext cx="223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.1000 4.16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0000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.0000 9.66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7000 15.9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.8000 5.2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67280" y="4511520"/>
            <a:ext cx="125388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45320" y="5418000"/>
            <a:ext cx="203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x- and y-coordinates of cylinders of the single cylinder in the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top row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of the box, after piling them up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818320" y="5315040"/>
            <a:ext cx="907920" cy="210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468360" y="885960"/>
            <a:ext cx="4941720" cy="180360"/>
            <a:chOff x="468360" y="885960"/>
            <a:chExt cx="4941720" cy="180360"/>
          </a:xfrm>
        </p:grpSpPr>
        <p:sp>
          <p:nvSpPr>
            <p:cNvPr id="513" name=""/>
            <p:cNvSpPr/>
            <p:nvPr/>
          </p:nvSpPr>
          <p:spPr>
            <a:xfrm>
              <a:off x="468360" y="885960"/>
              <a:ext cx="494172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360" y="990360"/>
              <a:ext cx="494172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76440" y="152280"/>
            <a:ext cx="43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fin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1160" y="1224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ery summ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33840" y="253836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 to work for Google?  Try the GLA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2462040" cy="3657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>
            <a:lum contrast="24000"/>
          </a:blip>
          <a:srcRect l="47121" t="33797" r="10721" b="50152"/>
          <a:stretch/>
        </p:blipFill>
        <p:spPr>
          <a:xfrm>
            <a:off x="228600" y="1981080"/>
            <a:ext cx="2514600" cy="1405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3">
            <a:lum contrast="30000"/>
          </a:blip>
          <a:srcRect l="6488" t="19512" r="50690" b="57583"/>
          <a:stretch/>
        </p:blipFill>
        <p:spPr>
          <a:xfrm>
            <a:off x="2971800" y="3124080"/>
            <a:ext cx="2514600" cy="2057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21" name="" descr=""/>
          <p:cNvPicPr/>
          <p:nvPr/>
        </p:nvPicPr>
        <p:blipFill>
          <a:blip r:embed="rId4">
            <a:lum contrast="30000"/>
          </a:blip>
          <a:srcRect l="6488" t="77204" r="50690" b="9225"/>
          <a:stretch/>
        </p:blipFill>
        <p:spPr>
          <a:xfrm>
            <a:off x="2971800" y="5410080"/>
            <a:ext cx="2514600" cy="1219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22" name="" descr=""/>
          <p:cNvPicPr/>
          <p:nvPr/>
        </p:nvPicPr>
        <p:blipFill>
          <a:blip r:embed="rId5">
            <a:lum contrast="30000"/>
          </a:blip>
          <a:srcRect l="6488" t="42421" r="50690" b="23650"/>
          <a:stretch/>
        </p:blipFill>
        <p:spPr>
          <a:xfrm>
            <a:off x="228600" y="3581280"/>
            <a:ext cx="2514600" cy="3048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5867280" y="152280"/>
            <a:ext cx="31244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52280" y="444600"/>
            <a:ext cx="2075040" cy="510516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2798640" y="884160"/>
            <a:ext cx="5583240" cy="182160"/>
            <a:chOff x="2798640" y="884160"/>
            <a:chExt cx="5583240" cy="182160"/>
          </a:xfrm>
        </p:grpSpPr>
        <p:sp>
          <p:nvSpPr>
            <p:cNvPr id="526" name=""/>
            <p:cNvSpPr/>
            <p:nvPr/>
          </p:nvSpPr>
          <p:spPr>
            <a:xfrm>
              <a:off x="2798640" y="884160"/>
              <a:ext cx="5583240" cy="766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98640" y="989640"/>
              <a:ext cx="5583240" cy="766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952800" y="17604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16480" y="574992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ython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uby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ava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574992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++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erl     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ostscript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09520" y="5938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llies of languages used per problem thus f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89400" y="5694480"/>
            <a:ext cx="2908440" cy="108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2158920" y="2036880"/>
            <a:ext cx="2156040" cy="2757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583160" y="1357200"/>
            <a:ext cx="2178000" cy="4116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rcRect l="0" t="0" r="13118" b="0"/>
          <a:stretch/>
        </p:blipFill>
        <p:spPr>
          <a:xfrm>
            <a:off x="7066080" y="1476360"/>
            <a:ext cx="1958760" cy="38797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473040" y="1479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3040" y="21304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2882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" y="367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4540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52862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52960" y="3016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49520" y="3551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62360" y="4049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74840" y="4657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97360" y="232236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7080" y="2927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653080" y="3503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0320" y="4040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46800" y="46562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24320" y="52722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36040" y="24177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40800" y="29829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770960" y="353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48640" y="413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756560" y="460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02560" y="5149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559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 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525780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You may hand in problems until exams end (5/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54800" y="5302080"/>
            <a:ext cx="220680" cy="198720"/>
          </a:xfrm>
          <a:prstGeom prst="star5">
            <a:avLst/>
          </a:prstGeom>
          <a:solidFill>
            <a:srgbClr val="cd0329"/>
          </a:solidFill>
          <a:ln w="12600">
            <a:solidFill>
              <a:srgbClr val="cd0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624852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ll lines have been reduced: </a:t>
            </a:r>
            <a:r>
              <a:rPr b="1" lang="en-US" sz="1400" spc="-1" strike="noStrike">
                <a:solidFill>
                  <a:srgbClr val="058c1b"/>
                </a:solidFill>
                <a:latin typeface="Arial"/>
              </a:rPr>
              <a:t>these replace the handouts'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465360" cy="38102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828800" y="571500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Graduating seniors have a slightly earlier deadline… (5/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35200" y="1461960"/>
            <a:ext cx="1390680" cy="669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52760" y="1463760"/>
            <a:ext cx="887400" cy="669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570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29360" y="3360600"/>
            <a:ext cx="28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ach of these three problems will be worth doub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rcRect l="0" t="0" r="13118" b="0"/>
          <a:stretch/>
        </p:blipFill>
        <p:spPr>
          <a:xfrm>
            <a:off x="457200" y="1371600"/>
            <a:ext cx="2654280" cy="5257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488960" y="26906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9560" y="3390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68600" y="4103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62120" y="4871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70040" y="56181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93760" y="6369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596680" y="3900600"/>
            <a:ext cx="2691000" cy="2379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123720" y="3813120"/>
            <a:ext cx="2124360" cy="9874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131640" y="3686040"/>
            <a:ext cx="20862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585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7080" y="1420920"/>
            <a:ext cx="28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ach of these three problems will be worth doub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rcRect l="0" t="0" r="13118" b="0"/>
          <a:stretch/>
        </p:blipFill>
        <p:spPr>
          <a:xfrm>
            <a:off x="457200" y="1371600"/>
            <a:ext cx="2654280" cy="5257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488960" y="26906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09560" y="3390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68600" y="4103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62120" y="4871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70040" y="56181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3760" y="6369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098960" y="2824200"/>
            <a:ext cx="1501920" cy="223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1840" y="3809880"/>
            <a:ext cx="3074760" cy="6955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76760" y="2376360"/>
            <a:ext cx="22096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6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5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4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3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2 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51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52680" y="16002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4065480" y="2522160"/>
            <a:ext cx="1020960" cy="176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49720" y="239724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number of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78560" y="269244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number of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18440" y="2989440"/>
            <a:ext cx="156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height and thickness of each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811760" y="3111480"/>
            <a:ext cx="1589040" cy="381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22600" y="5345280"/>
            <a:ext cx="16765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19840" y="5905440"/>
            <a:ext cx="253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minimum area of a three-shelf bookcase for these book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29400" y="5402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4920" y="152280"/>
            <a:ext cx="861048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62640" y="103320"/>
            <a:ext cx="3362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to choose fro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" y="83808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O moO MoO mOo MOO OOM MMM moO moO MMM mOo mOo moO MMM mOo MMM moO moO MOO MOo mOo MoO moO moo mOo mOo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2800" y="2590920"/>
            <a:ext cx="337212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0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tarchild Numerology: west 1st left, 2nd right,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west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21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Babelfishe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Babelfishery: south 1st left,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" " is waiting at Writer's Depo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Writer's Depot: north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Post Office: north, 1st right, 2nd righ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1st right, 1st left, 1st left, 1st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Zoom Zoom: nort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Addition Alley: west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north 1st left, 1st lef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Undergroun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Underground: south 1st left, 1st righ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57" if no one is wait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south 2nd righ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210"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5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Taxi Garage: south 2nd lef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6783120" y="4038480"/>
            <a:ext cx="1735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lI'moH A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lI'moH B ch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cha' B 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8 {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bo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tl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"A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"B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vangq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1905120"/>
            <a:ext cx="528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=&lt;`$9]7&lt;5YXz7wT.3,+O/o'K%$H"'~D|#z@b=`{^Lx8%$Xmrkpohm-Ni;gsedcba`_^]\[ZYXWVUTSRQPONMLKJIHGFEDCBA@?&gt;=&lt;;:9876543s+O&lt;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92400" y="6419880"/>
            <a:ext cx="45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:-O 8-D 8-O ===||8-&lt; :-( 8-Q [8=\ [8~E S:oP :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31240" y="16812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93000" y="3200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33120" y="43578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100360" y="494352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18880" y="60498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Qu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80" y="1015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03880" y="224640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48520" y="18334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11000" y="3352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Ta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37800" y="451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P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115120" y="509580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Var'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95120" y="620244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Emot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720" y="2541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Whit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1760" y="239868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Malbol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38680" y="152280"/>
            <a:ext cx="74880" cy="10749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34160" y="1349280"/>
            <a:ext cx="280332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98640" y="19368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ach of these three LANGUAGES will be worth doub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572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ACM 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66680" y="5302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UCSD has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veral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practice contests instead of an ACM class… . Should w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212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re explicit work on different parts of Java's library (Fall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318456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ewer, more difficult problems? (Spring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10666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re scheduling and constraint-satisfaction problem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66680" y="4243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Use any language that can be checked… (Spring onl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562720" y="4038120"/>
            <a:ext cx="833400" cy="775080"/>
            <a:chOff x="5562720" y="4038120"/>
            <a:chExt cx="833400" cy="775080"/>
          </a:xfrm>
        </p:grpSpPr>
        <p:sp>
          <p:nvSpPr>
            <p:cNvPr id="640" name=""/>
            <p:cNvSpPr/>
            <p:nvPr/>
          </p:nvSpPr>
          <p:spPr>
            <a:xfrm>
              <a:off x="5562720" y="4584600"/>
              <a:ext cx="2286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786280" y="4038120"/>
              <a:ext cx="609840" cy="762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975200" y="3176640"/>
            <a:ext cx="450720" cy="479520"/>
            <a:chOff x="4975200" y="3176640"/>
            <a:chExt cx="450720" cy="479520"/>
          </a:xfrm>
        </p:grpSpPr>
        <p:sp>
          <p:nvSpPr>
            <p:cNvPr id="643" name=""/>
            <p:cNvSpPr/>
            <p:nvPr/>
          </p:nvSpPr>
          <p:spPr>
            <a:xfrm>
              <a:off x="4976640" y="3176640"/>
              <a:ext cx="447840" cy="47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975200" y="3189240"/>
              <a:ext cx="450720" cy="45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858080" y="19512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72480" y="9460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812000" y="52531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51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41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0120" y="2057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913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4674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536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u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623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67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e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623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913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674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6232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11480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9132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67480" y="5181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5181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62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148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91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674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913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67480" y="6095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19400" y="152280"/>
            <a:ext cx="1137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ily  - ici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lxy  - cyli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oo  - foli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llo  - hill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lpr  - pril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oov  - ovol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moy  - yomim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pr  - primp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65120" y="152280"/>
            <a:ext cx="1320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hop  - epoch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oy  - coo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vy  - cov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oyz  - coze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pry  - crep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fory  - foy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hopr  - ephor hop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r  - repro rop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v  - prov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oprw  - pow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6200" y="7621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ost  - dolt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57760" y="16002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nty  - tee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960" y="152280"/>
            <a:ext cx="129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hps  - pasha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hsy  - ayah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assy  - assa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ffsy  - yaff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gry  - ragg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hpr  - graph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grvy  - grav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pss  - hasp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psw  - pshaw whaps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9000" y="228600"/>
            <a:ext cx="1258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ssy  - shay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hswy  - wash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iprt  - atrip tapir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pssw  - swaps wasps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ssy  - sass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swy  - sways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vvy  - savv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lnt  - flint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mnty  - mint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1295280"/>
            <a:ext cx="541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90be9"/>
                </a:solidFill>
                <a:latin typeface="Georgia"/>
                <a:ea typeface="ＭＳ Ｐゴシック"/>
              </a:rPr>
              <a:t>Until next semester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7920" y="1523880"/>
            <a:ext cx="33879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37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ping up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85144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You may hand in problems until exams end (5/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7440" y="5896080"/>
            <a:ext cx="220680" cy="198360"/>
          </a:xfrm>
          <a:prstGeom prst="star5">
            <a:avLst/>
          </a:prstGeom>
          <a:solidFill>
            <a:srgbClr val="cd0329"/>
          </a:solidFill>
          <a:ln w="12600">
            <a:solidFill>
              <a:srgbClr val="cd0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438280"/>
            <a:ext cx="366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may work in teams of 2 or 3 on any problems from here on in, as long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624852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Graduating seniors have an earlier deadline… (5/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562040"/>
            <a:ext cx="1390680" cy="669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02080" y="1563840"/>
            <a:ext cx="887400" cy="669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75280" y="300528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am works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75280" y="3325680"/>
            <a:ext cx="34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am starts from scratch (or from a starting point from a prev. l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93552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ms larger than 3 should split into smaller 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2680" y="2305080"/>
            <a:ext cx="4091040" cy="2387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51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outreac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040" y="1300320"/>
            <a:ext cx="400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laremont school district needs judges for a robotics competition, from 11am-3pm on Friday, April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8840" y="2327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Judging head-to-head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0640" y="283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Judging student po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354480" cy="5410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4800" y="2819520"/>
            <a:ext cx="1828800" cy="1523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480" y="54021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680" y="304920"/>
            <a:ext cx="8763120" cy="6161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86520" y="5108400"/>
            <a:ext cx="2743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ck the problem list… let me know if there are err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52280"/>
            <a:ext cx="861048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62640" y="103320"/>
            <a:ext cx="3362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to choose fro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83808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O moO MoO mOo MOO OOM MMM moO moO MMM mOo mOo moO MMM mOo MMM moO moO MOO MOo mOo MoO moO moo mOo mOo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800" y="2590920"/>
            <a:ext cx="337212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0 is waiting at Starchild Numerolog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tarchild Numerology: west 1st left, 2nd right,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west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21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Babelfishe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Babelfishery: south 1st left,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" " is waiting at Writer's Depo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Writer's Depot: north 1st left, 1st lef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Post Off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Post Office: north, 1st right, 2nd righ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1st right, 1st left, 1st left, 1st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Cyclone: south 1st left, 1st lef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Addition All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Cycl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Zoom Zoom: nort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Addition Alley: west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Rob's Res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north 1st left, 1st left, 1st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The Undergroun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Underground: south 1st left, 1st right, 2nd lef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57" if no one is wait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ickup a passenger going to Sunny Skies Par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Sunny Skies Park: south 2nd right, 1st lef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Rob's Rest: south 2nd right, 1st righ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 to plan "Route 210"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Route 5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o to the Taxi Garage: south 2nd lef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783120" y="4038480"/>
            <a:ext cx="1735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lI'moH A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lI'moH B ch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cha' B 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8 {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bo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tl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"A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"B" 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vangq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905120"/>
            <a:ext cx="528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=&lt;`$9]7&lt;5YXz7wT.3,+O/o'K%$H"'~D|#z@b=`{^Lx8%$Xmrkpohm-Ni;gsedcba`_^]\[ZYXWVUTSRQPONMLKJIHGFEDCBA@?&gt;=&lt;;:9876543s+O&lt;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2400" y="6419880"/>
            <a:ext cx="45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:-O 8-D 8-O ===||8-&lt; :-( 8-Q [8=\ [8~E S:oP :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31240" y="16812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3000" y="3200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3120" y="43578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00360" y="494352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bona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8880" y="60498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Qu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280" y="1015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03880" y="224640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Hello, Wor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8520" y="18334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1000" y="3352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Ta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7800" y="451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P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5120" y="509580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Var'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120" y="620244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Emot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" y="2541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Whit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61760" y="239868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Malbol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152280"/>
            <a:ext cx="74880" cy="10749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34160" y="1349280"/>
            <a:ext cx="280332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98640" y="19368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ach of these three LANGUAGES will be worth doub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88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76440" y="272880"/>
            <a:ext cx="77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rchiv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Pyth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7440" y="1752480"/>
            <a:ext cx="8562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import s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 = sys.stdin.readline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 = list(dict(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ma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:[x,0],(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ma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l:(l[20:29],l[16:19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ma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:(x[20:29],x[16:19]),M).count((l[20:29],l[16:19]))),M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.sort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b:int(a[0]+a[1])-int(b[0]+b[1]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redu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b:a+"\n"+b,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ma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9933"/>
                </a:solidFill>
                <a:latin typeface="Courier New"/>
              </a:rPr>
              <a:t>lambd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:x[0]+" "+x[1]+" "+str(x[2]),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4560" y="4734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er than this, any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94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76440" y="228600"/>
            <a:ext cx="77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ete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6680" y="444348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0 3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71720" y="299232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umber of meteors that will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26840" y="3633840"/>
            <a:ext cx="7347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278000" y="4495680"/>
            <a:ext cx="62712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4120" y="42800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(x,y,t) location and time of each meteor in the first quadr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262160" y="4572000"/>
            <a:ext cx="64296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285920" y="4653000"/>
            <a:ext cx="60336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293480" y="5745240"/>
            <a:ext cx="5698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4200" y="5708520"/>
            <a:ext cx="22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eor 4 will drop on location (0,3) at time t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000" y="1308240"/>
            <a:ext cx="37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teors destroy the location they hit and each of the four compass neighbors (NEW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8960" y="2392200"/>
            <a:ext cx="106848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75480" y="1481040"/>
            <a:ext cx="292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5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4|.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3|. . . .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|.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1|.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|B . . . . . 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0 1 2 3 4 5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2976480"/>
            <a:ext cx="7318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6520" y="542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133720"/>
            <a:ext cx="170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Bessie starts at (0,0) and can move NEWS one step per second, but can never be where a meteor has h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28:52Z</dcterms:created>
  <dc:creator>keller</dc:creator>
  <dc:description/>
  <cp:keywords/>
  <dc:language>en-US</dc:language>
  <cp:lastModifiedBy>Zachary Dodds</cp:lastModifiedBy>
  <cp:lastPrinted>2008-04-01T20:39:14Z</cp:lastPrinted>
  <dcterms:modified xsi:type="dcterms:W3CDTF">2008-04-01T22:41:59Z</dcterms:modified>
  <cp:revision>1040</cp:revision>
  <dc:subject/>
  <dc:title>CS 60 Slides</dc:title>
</cp:coreProperties>
</file>