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A8EF-D550-4606-82DD-CA383B6D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7CE4-AAAB-4DEB-974D-928446C3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DF9-FE8B-462A-B7C3-EBCD8F89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690-C3F8-411F-938E-37D319C6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E97E-4108-4BFB-90A5-A55EF719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B96-E6B3-4D64-B25A-23E808E9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85B-E23A-4490-92F9-3C437EFE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54C-BC36-4EFD-984A-3B5F3262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2FE3-AF0F-40F3-9F97-02916ED5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B57-57F2-479B-AA34-1B3534A9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65C-26FA-449D-818C-ADBD91EC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6BC-4EB5-4771-BAC1-5A1698B8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3DF4-EA4F-4E82-8053-BE52E7837EF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orkshop 2 Action Item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aximizing our Impact on Societ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fternoon Discussion Topics (14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447920"/>
            <a:ext cx="8839080" cy="51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A:  Undergraduate Research Center/Institu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B:  HMC Institutional support for K-12: office/curriculum/legitimac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C:  An HMC community service outreach center: fac/students/staf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D:  Ensuring/seeking clinics with a socially responsible end produ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F:  Ways of teaching leadership / making leadership visible @ HM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G:  How to create innovative programs to help K-12 educato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H: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How do we use alums, curriculum, internships… to promote entrepreneurship+leadership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J: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How do we use alums, curriculum, internships… to promote entrepreneurship+leadership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K: Changing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missions/curriculum/bridge programs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to support divers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L: How do we create an HMC culture that embraces diversity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M:  How do we create an HMC culture that embraces diversity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N: Implement a faculty exchange w/other colleges + univ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O: Ethics should be part of (co-)curriculum @ HMC: paper, debate, 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P: Requiring an experiential component for all HMCers: study abroad, research, internships, 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9144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0b13"/>
                </a:solidFill>
                <a:latin typeface="Arial"/>
              </a:rPr>
              <a:t>Moderators/scribes: same as 11am sess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: Educational Outreach (Higher E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MC host a science competition parterne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Use alumni database to identify faculty at other institu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Increase internet presence of our curricul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Require and off-campus experie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Support a 3-2 program with other institu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Institute faculty exchan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Make a docu-drama video with social impa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: Entrepreneurshi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More visibilit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opportunities and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More courses under the humsoc requir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valuable regardless of where you end up and studnets want to do 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Integrate entrepreneurship with leadershi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Faculty support and involv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Build broad external networks – alumni, internships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rk with CMC or other colleges to develop joint progra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Fund these opportun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: Divers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Admission and outreach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More student involvement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More staff for broader recruiting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Partnerships with other organizations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Change requirements so possible for students from other backgrounds to succeed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Find good ways to get input from faculty members on the kinds of students they want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: Bridge and Summer institute program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Summer programs for students prior to freshman year that emphasizes leadership and teamwork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Put together an effective bridge program with academic content to bring them up to speed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:Faculty Diversity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Faculty need increased awareness of diversity and be diverse themselves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We have a homogeneous image of what a successful faculty member looks like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3366"/>
                </a:solidFill>
                <a:latin typeface="Symbol"/>
                <a:ea typeface="Symbol"/>
              </a:rPr>
              <a:t>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: Diversity from all groups is broadly conceived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Race, Sexual orientation, economics, ideological perspectives, etc.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: Climate and Cultur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Cannot just bring a more diverse population here and expect them to be successful unless we adapt the climate and culture to make them feel welcome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Sponsor activities to help community to get out of our comfort zones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Offer diversity education for everyone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Faculty members need to be involved in building community because they are our leaders – need to make this possible in their schedules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Make use of the 5C community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If we want to be more diverse, we must change in many ways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3366"/>
                </a:solidFill>
                <a:latin typeface="Symbol"/>
                <a:ea typeface="Symbol"/>
              </a:rPr>
              <a:t>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: Curriculum change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Quality balanced with quantity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4: Community Outreach and Serv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nstitutional Suppor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ssion statement directly reflect this as a valu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ndowments, scholarships, staff suppor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 Cultur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munity service requirement vs. culture of community servi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centive driven program defeat spirit?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 How-t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lance workload by integrating community service into the curricul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ore integrative experienc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ngaged scholarship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3366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Structur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ow will community service work at Mud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ing the websit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uild a committe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ervice learning Cen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uild community between us and the 5C and claremon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5: Educational Outreach (K-1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Target our efforts in our local community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Support and encourage Mudd students to become teacher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ajor tracks directed towards teach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signments that address teaching and teaching skil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Entire cours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Full-time staff member and office to coordinate outreach activit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dentify funds, partners, teachers, alumni who are teacher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3366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Providing time to our community members to participa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tudent leadership service IE credi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hanges in curricul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aculty need to validate this activ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Summer opportunities to target programs on campu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Bring in teachers from community to develop their skil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AT prep programs for students who can’t afford these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ime in May we were are out of class but public schools are not is a good time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3366"/>
                </a:solidFill>
                <a:latin typeface="Symbol"/>
                <a:ea typeface="Symbol"/>
              </a:rPr>
              <a:t>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We should focus on teaching teachers as wel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6: Leadershi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an and should be taught formally at HMC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corporate into existing curriculu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tudy motivations of HMC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verse a perceived diminishment of this program by bringing back older progra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ould require an experiential progra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y need to change or alter current curricul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 Occurs in all areas of student/faculty lif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ports, clubs, clinic and research tea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quirement for gradu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velop a certificate program for leadership who meet criteri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ervice learning requiremen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eaders should be visible, may require a new spa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College wide commit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eed to define i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ssess i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lumni mentor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fessional development for faculty and staff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corporate historical perspectiv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7: Research Imp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6932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: The undergraduate research institut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Central research office that assists faculty with business management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Helps students identify opportunitie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Infrastructure, funding, ID aspect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Housing, etc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: Mission Statemen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xplicitly connect research with our broader societal goal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Research needs to be credible and relevant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: Recognize faculty sacrifice (volunteer effort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Coordinate grant writing activitie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Maintain student fac rati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3366"/>
                </a:solidFill>
                <a:latin typeface="Symbol"/>
                <a:ea typeface="Symbol"/>
              </a:rPr>
              <a:t>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:Bal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Best research project for student may not equal the one for faculty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ducational focus and a deliverable (paper, prototype, etc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: Research Early and Ofte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very student should have an opportunity to do research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We should be THE undergrad research institution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3366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:Year-round HMC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Allow flexibility for courses during the summer and research during the academic year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3366"/>
                </a:solidFill>
                <a:latin typeface="Symbol"/>
                <a:ea typeface="Symbol"/>
              </a:rPr>
              <a:t>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:Research is teach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Incorporate it into the curriculu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Course on research methods, or build into existing course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7g Center/Building for Innovation on campu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tudents, alums, community, corporation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ultimate goal: profit center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tanford as a role model…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8: Eth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cademic and professional integrity is high, but if the college grows will it weaken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How can the honor code be nurtured so students will be more respectful of other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Ethics should be formally integrated into the curriculum and in our co-curricular activit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ollege fund a newspap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rmal debate socie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 apathy among students today – or is it an issue of tim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ponsor a campus-wide yearly event on issues relevant to social responsibil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3366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Ethical issues should be discussed among faculty in a formal forum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ollaboration on how to incorporate into the curricul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Clinic projects should include an ethical or societal impact statem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Office of ethics at HMC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22:42:42Z</dcterms:created>
  <dc:creator>Computing and Information Services</dc:creator>
  <dc:description/>
  <dc:language>en-US</dc:language>
  <cp:lastModifiedBy>Michael</cp:lastModifiedBy>
  <dcterms:modified xsi:type="dcterms:W3CDTF">2006-10-19T00:15:55Z</dcterms:modified>
  <cp:revision>19</cp:revision>
  <dc:subject/>
  <dc:title>Workshop 1 Action Items</dc:title>
</cp:coreProperties>
</file>