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B0F-7523-40E1-B994-9BEEB94E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96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82840"/>
            <a:ext cx="7696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F22-A5E2-4CBF-B4B9-6285CE8E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205740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8284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418284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3C7-4693-496C-AF32-D4A578A3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247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2057400"/>
            <a:ext cx="247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2057400"/>
            <a:ext cx="247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82840"/>
            <a:ext cx="247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4182840"/>
            <a:ext cx="247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4182840"/>
            <a:ext cx="247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112-371C-45F0-BBFC-421033BE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B061-DD12-4187-80B6-339D02F1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696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8336-CBCE-47A4-B0C8-5C72F47D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96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F249-E9E1-4BC3-AD90-814E978F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555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2057400"/>
            <a:ext cx="37555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4336-B400-4E63-928B-5B6EBD2F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9EFC-52A0-4C91-B11B-B7F4706F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76176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366F-0A75-46B2-A351-746ADA17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2057400"/>
            <a:ext cx="37555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8284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2664-3A1D-4F0E-8232-1BC32CCF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696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85C-AA5A-4E4E-B45D-CF399805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555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205740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418284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6772-D366-4234-9C97-154CBC4B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205740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82840"/>
            <a:ext cx="7696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FE5A-0F9F-4A14-948E-47FABACA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96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82840"/>
            <a:ext cx="7696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4983-0693-4C0E-B853-1448C07F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205740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8284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418284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1B6E-9C51-40FE-BC6E-0EF4E833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247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2057400"/>
            <a:ext cx="247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2057400"/>
            <a:ext cx="247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82840"/>
            <a:ext cx="247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4182840"/>
            <a:ext cx="247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4182840"/>
            <a:ext cx="247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5E13-FCA3-40E0-916E-01D32984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96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564-0A81-4B78-B32C-C8FD2C72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555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2057400"/>
            <a:ext cx="37555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EBA-D2A8-4C33-9E43-3F7C247C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6A1-9F8A-4B09-B04A-3D736B47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176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EF0-418F-4F9C-9C26-613A4940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2057400"/>
            <a:ext cx="37555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8284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024-B838-4735-A95E-FA46DFA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555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205740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418284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7EC-E4A0-495F-9631-69581FBF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2057400"/>
            <a:ext cx="37555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82840"/>
            <a:ext cx="7696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F97-E698-4FAC-A1DD-1EAD48DA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7696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DB0B-11F4-4E33-8C01-44A8E3DA07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265E-D849-4C9D-AACD-1B1D7F8C19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Network Game Agent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or Teaching AI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. Andrew Lamo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udong W. Y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ry Wein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Motivation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96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tudents an interesting hands-on experience with heuristic 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iterative improvement of their heuristic evaluation fun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n aspect of competition to the standard AI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Feature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735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 vs. Ag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server to ease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I hides network details from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connections are made to reduce over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24440" y="2244600"/>
            <a:ext cx="3754440" cy="369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Feature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735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 vs. Hu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-and-Click 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CR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Move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currently playing agent at any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913280" y="2363760"/>
            <a:ext cx="3773520" cy="345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Invitation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96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terested in having 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ollegiate competi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interested contact 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ry Weinberg (jweinbe@siue.ed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. Andrew Lamonica (rlamoni@siue.ed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 Science Dept. </cp:lastModifiedBy>
  <dcterms:modified xsi:type="dcterms:W3CDTF">2004-03-23T18:34:12Z</dcterms:modified>
  <cp:revision>5</cp:revision>
  <dc:subject/>
  <dc:title>PowerPoint Presentation</dc:title>
</cp:coreProperties>
</file>