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FE4-B0B9-48BE-AFA2-74BBDFD6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FC2-01E3-4548-8D18-22A360A7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79A-1158-4720-9A95-CA113E2B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F22-58C0-415F-80B6-7C1F2E7D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63D-C66B-4323-880A-3F52C2DB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EDC-A567-4436-870A-FADDB6E0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BAD-14EA-4768-81BA-22BD1E11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912-B724-46D8-8267-F0A56CC9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09B-CAA8-41B4-8A28-F0E06B29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36E-5E58-489D-9F2B-45B84573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C9E-BC58-41A6-85FC-D2882D58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03F-D245-496C-B819-1B03A6B6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0C4D-DCB3-4094-807E-2D012796D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ing Deliberative Navigation Using the LEGO RCX and Standard LEGO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ry R. Mayer, Dr. Jerry Weinberg, Dr. Xudong 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lekith@alum.wpi.edu, jweinbe@siue.edu, xyu@siue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ern Illinois University at Edwards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March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457200"/>
            <a:ext cx="75438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n Association for Artificial Intelli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ring Symposium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ssion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ible Hands-On Artificial Intelligence and Robotics Educ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oratory Exercise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positive; worthwhile and educat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were annoyed with sensor limit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 two robots for two labs; too time consu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 reactive architecture first; had to rebuilt to more stringent requirements for deliberative architec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Approach as Hybrid Lab in Two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b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architecture built to more demanding deliberative requirements; reactive incorporated into existing deliberative archite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I Spring Symposium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358-DD38-490D-BD30-318E7366B9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March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ne’s R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85360" y="56386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1828800"/>
            <a:ext cx="5334120" cy="36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I Spring Symposium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CF9-6288-41B3-ACAD-938EE73D9D6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March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01609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iberative Navigation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should have knowled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Representation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tion (using ded recko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Planning (using wavefront algorith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berative Robotic Paradi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s of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ars, steering, building balanced LEGO co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O Sensor Abilities and 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I Spring Symposium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779-9B76-46F4-B5E9-B11D18EFFE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March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id-base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x 6 usable graph of 10” squ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x 8 in memory, counting b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t only traveled horizontally and ver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dual-differential and centrally mounted wheel axel to turn in pl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 is either an obstacle, a goal, or o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firmware replacement that frees memory resources for programs; such as Interactive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wise encoding possible but may detract from les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2971800" cy="14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I Spring Symposium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0A0-4223-4421-B8CC-F17B472C97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March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objects, like the border obstacles, are hard co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puts known obstacles, known goals, start position, and start h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programming language like IC4, the RCX buttons can be reprogrammed for a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utility if map, goals and obstacles are separate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maintenance of goals and obsta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multiple goal searches with wavefront pla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I Spring Symposium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9D6-AA69-4DFC-B02E-A0B58CEB80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March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vefront Path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ested loops traverse entire grid; a change flag notes if a vertex is upd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until no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shortest path, not just first path to go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ultiple goals, plan to one goal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ther goals to spaces. If there is goal priority, use obsta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takes &lt; 10 sec to determine nearest goal and plan a path to it on a 4 x 6 usable grid with 2 go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s path to each goal to determine shortest path; then re-plans to closest and saves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minimize turns when constructing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dy approach at each step may work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I Spring Symposium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3CF-CF06-4152-8221-290E1595D9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March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Success and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current processes are run - Goal Retrieval and Plan Failure Moni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robot detects a new obstacle, detects a new goal, or determines that a goal isn’t present, then the robot stops, backs to the last known empty space, updates the respective data structure and re-calculates closest goal and path from the current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robot has reached target, it can update the goal locations and plan a path to the next go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obot is to return to start position, it can follow the path backward. However, if the plan failed along the way, this may no longer be the shortest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I Spring Symposium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44A-430B-419B-8C8E-B06716E968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March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rain difficulty can be modeled in wave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simply assigning a value 1 greater than the current node, a value of 1 + some difficulty value can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e complex approach may be used where nodes are positions with either goals, the robot, or empty. Obstacles are represented by the edge values between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would require additional memory to store information about each edge leading from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is approach, one-way paths could be cr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I Spring Symposium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4D0-7A87-4205-A75F-DBF96FA42A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March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Lab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s required to design, build, and program LEGO robo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ot required to travel shortest path from start position to goal using a deliberative architec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, obstacle, and start positions unknown to students before demonst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ot required to recover from plan failure by giving auditory cue if another goal was found or stopping and re-planning if an unknown obstacle was fou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o start position was not required as it was felt that it provided little educational benefit but greatly increased the chance of localization fail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obstacles also removed; impacts tend to decay localiz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ack colored tape outlined obstacle grid spa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reduce complexity of hardware design, robot was not required to trap a physical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d complexity of accuracy between target and trap desig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s represented by green colored tape spanning grid space ed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I Spring Symposium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08F-63FB-4FFB-B1FD-B45F34CA84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March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68332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Dian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600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 run for completion of deliberative lab assig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I Spring Symposium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E75-01CB-4D4C-81BD-FA07C83BB3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March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644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12:50Z</dcterms:created>
  <dc:creator>Gary R. Mayer</dc:creator>
  <dc:description/>
  <dc:language>en-US</dc:language>
  <cp:lastModifiedBy>Jerry Weinberg</cp:lastModifiedBy>
  <dcterms:modified xsi:type="dcterms:W3CDTF">2004-04-01T20:38:13Z</dcterms:modified>
  <cp:revision>22</cp:revision>
  <dc:subject/>
  <dc:title>Teaching Deliberative Navigation Using the LEGO RCX and Standard LEGO Components</dc:title>
</cp:coreProperties>
</file>