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4F8-A563-4089-8DA3-3157E15A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825-7EA5-42A3-A60C-7D68BAAE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AAB-4602-48F7-9C81-F875B16A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272-1A50-482C-9F6C-2484C981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096-F0C5-4327-A490-82E92AE4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5A0-BF0E-4EEA-84ED-35FD364A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16C-2B8E-4B53-BAE7-D2321C9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44D-624F-46B0-81CE-748C1C0B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3DC-9025-4714-AB12-28DED3A3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F4C-3947-4FF2-9497-BAE72BB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713-0ADD-4135-9E79-B9618F3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111-2FC3-40CE-83AF-8275C5E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379D-B19C-463A-B2B3-5F0EC8D7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43080" y="738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nl.jpeg"/>
          <p:cNvPicPr/>
          <p:nvPr/>
        </p:nvPicPr>
        <p:blipFill>
          <a:blip r:embed="rId1"/>
          <a:stretch/>
        </p:blipFill>
        <p:spPr>
          <a:xfrm>
            <a:off x="2448000" y="3049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7010280" y="738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fi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fires.jpeg"/>
          <p:cNvPicPr/>
          <p:nvPr/>
        </p:nvPicPr>
        <p:blipFill>
          <a:blip r:embed="rId2"/>
          <a:stretch/>
        </p:blipFill>
        <p:spPr>
          <a:xfrm>
            <a:off x="4114800" y="76320"/>
            <a:ext cx="2540160" cy="1904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971800" y="4495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 possible summary of E11 so fa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78312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539400" y="3840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240680" y="6039000"/>
            <a:ext cx="17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C has only half of Python's punctuation 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173640" y="48308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  }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759720" y="6193080"/>
            <a:ext cx="532800" cy="539640"/>
            <a:chOff x="6759720" y="6193080"/>
            <a:chExt cx="532800" cy="539640"/>
          </a:xfrm>
        </p:grpSpPr>
        <p:sp>
          <p:nvSpPr>
            <p:cNvPr id="174" name="Freeform 5"/>
            <p:cNvSpPr/>
            <p:nvPr/>
          </p:nvSpPr>
          <p:spPr>
            <a:xfrm>
              <a:off x="7213320" y="624996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 rot="7012800">
              <a:off x="7157880" y="6282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 rot="14887200">
              <a:off x="7161840" y="6212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6759720" y="6606000"/>
              <a:ext cx="453600" cy="1267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6780240" y="6341760"/>
              <a:ext cx="43632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 rot="19632600">
              <a:off x="6821640" y="6414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"/>
            <p:cNvSpPr/>
            <p:nvPr/>
          </p:nvSpPr>
          <p:spPr>
            <a:xfrm>
              <a:off x="6946560" y="6414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"/>
            <p:cNvSpPr/>
            <p:nvPr/>
          </p:nvSpPr>
          <p:spPr>
            <a:xfrm rot="19528800">
              <a:off x="7091280" y="6438600"/>
              <a:ext cx="831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3"/>
            <p:cNvSpPr/>
            <p:nvPr/>
          </p:nvSpPr>
          <p:spPr>
            <a:xfrm>
              <a:off x="6865920" y="6463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"/>
            <p:cNvSpPr/>
            <p:nvPr/>
          </p:nvSpPr>
          <p:spPr>
            <a:xfrm>
              <a:off x="6990840" y="6471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5"/>
            <p:cNvSpPr/>
            <p:nvPr/>
          </p:nvSpPr>
          <p:spPr>
            <a:xfrm>
              <a:off x="7104240" y="6499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 rot="16200000">
              <a:off x="6964560" y="6482520"/>
              <a:ext cx="39240" cy="2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6867000" y="6284520"/>
              <a:ext cx="362880" cy="1303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6942240" y="6245280"/>
              <a:ext cx="247320" cy="97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"/>
            <p:cNvSpPr/>
            <p:nvPr/>
          </p:nvSpPr>
          <p:spPr>
            <a:xfrm>
              <a:off x="7061040" y="6229080"/>
              <a:ext cx="154440" cy="54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6814080" y="6627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flipH="1">
              <a:off x="7055280" y="6633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9"/>
          <p:cNvSpPr/>
          <p:nvPr/>
        </p:nvSpPr>
        <p:spPr>
          <a:xfrm>
            <a:off x="5842080" y="14414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riable decla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6289920" y="2057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0ff"/>
                </a:solidFill>
                <a:latin typeface="Courier New"/>
              </a:rPr>
              <a:t>int n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8226360" y="183672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I'm her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33"/>
          <p:cNvSpPr/>
          <p:nvPr/>
        </p:nvSpPr>
        <p:spPr>
          <a:xfrm>
            <a:off x="8354880" y="2066760"/>
            <a:ext cx="53352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34"/>
          <p:cNvSpPr/>
          <p:nvPr/>
        </p:nvSpPr>
        <p:spPr>
          <a:xfrm flipV="1">
            <a:off x="8029440" y="2071800"/>
            <a:ext cx="409680" cy="1108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995480" y="7632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Math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368960" y="76320"/>
            <a:ext cx="2869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Syntax!?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2895480" y="6248520"/>
            <a:ext cx="302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00"/>
                </a:solidFill>
                <a:latin typeface="Calibri"/>
                <a:ea typeface="Calibri"/>
              </a:rPr>
              <a:t>powers of two... ouch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00"/>
                </a:solidFill>
                <a:latin typeface="Calibri"/>
                <a:ea typeface="Calibri"/>
              </a:rPr>
              <a:t>swap two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304920" y="843120"/>
            <a:ext cx="739116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s11: m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hows off some arithmetic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um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num is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 num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um % 2 == 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317760" y="108000"/>
            <a:ext cx="252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Typ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006560" y="2076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60040" y="55548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32 bit floating-poi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934200" y="3743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213480" y="2743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unsigned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228960" y="4419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unsigned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931680" y="5450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996120" y="6411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ther stuf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5338800" y="46576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0 to 4,294,967,2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5338440" y="3895560"/>
            <a:ext cx="37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-2,147,483,648 to 2,147,483,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013640" y="42242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4013640" y="25052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6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5326920" y="28875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0 to 65,5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5330160" y="22017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-32,768 to 32,7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5500800" y="641196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e Arduino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918000" y="124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4168440" y="13683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325480" y="14400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0 to 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Brace 21"/>
          <p:cNvSpPr/>
          <p:nvPr/>
        </p:nvSpPr>
        <p:spPr>
          <a:xfrm>
            <a:off x="3649680" y="388296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219320"/>
              <a:gd name="textAreaBottom" fmla="*/ 1194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4"/>
                  <a:pt x="10800" y="1407"/>
                </a:cubicBezTo>
                <a:lnTo>
                  <a:pt x="10800" y="9393"/>
                </a:lnTo>
                <a:cubicBezTo>
                  <a:pt x="10800" y="10097"/>
                  <a:pt x="16200" y="10800"/>
                  <a:pt x="21600" y="10800"/>
                </a:cubicBezTo>
                <a:cubicBezTo>
                  <a:pt x="16200" y="10800"/>
                  <a:pt x="10800" y="11504"/>
                  <a:pt x="10800" y="12207"/>
                </a:cubicBezTo>
                <a:lnTo>
                  <a:pt x="10800" y="20193"/>
                </a:lnTo>
                <a:cubicBezTo>
                  <a:pt x="10800" y="208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ight Brace 22"/>
          <p:cNvSpPr/>
          <p:nvPr/>
        </p:nvSpPr>
        <p:spPr>
          <a:xfrm>
            <a:off x="3657600" y="218124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219320"/>
              <a:gd name="textAreaBottom" fmla="*/ 1194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4"/>
                  <a:pt x="10800" y="1407"/>
                </a:cubicBezTo>
                <a:lnTo>
                  <a:pt x="10800" y="9393"/>
                </a:lnTo>
                <a:cubicBezTo>
                  <a:pt x="10800" y="10097"/>
                  <a:pt x="16200" y="10800"/>
                  <a:pt x="21600" y="10800"/>
                </a:cubicBezTo>
                <a:cubicBezTo>
                  <a:pt x="16200" y="10800"/>
                  <a:pt x="10800" y="11504"/>
                  <a:pt x="10800" y="12207"/>
                </a:cubicBezTo>
                <a:lnTo>
                  <a:pt x="10800" y="20193"/>
                </a:lnTo>
                <a:cubicBezTo>
                  <a:pt x="10800" y="208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4"/>
          <p:cNvSpPr/>
          <p:nvPr/>
        </p:nvSpPr>
        <p:spPr>
          <a:xfrm>
            <a:off x="533520" y="1976400"/>
            <a:ext cx="807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5"/>
          <p:cNvSpPr/>
          <p:nvPr/>
        </p:nvSpPr>
        <p:spPr>
          <a:xfrm>
            <a:off x="533520" y="3637080"/>
            <a:ext cx="80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6"/>
          <p:cNvSpPr/>
          <p:nvPr/>
        </p:nvSpPr>
        <p:spPr>
          <a:xfrm>
            <a:off x="533520" y="6292800"/>
            <a:ext cx="807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005000" y="55101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943600" y="20016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Comic Sans MS"/>
              </a:rPr>
              <a:t>Deliberate design vs. encouraging experi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531720" y="200160"/>
            <a:ext cx="268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You MUST declare your variables beforehand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5"/>
          <p:cNvSpPr/>
          <p:nvPr/>
        </p:nvSpPr>
        <p:spPr>
          <a:xfrm>
            <a:off x="4724280" y="2895480"/>
            <a:ext cx="396252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76760" y="206280"/>
            <a:ext cx="4175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"Quiz"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648320" y="297180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4 errors here... can you find them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5105520" y="3809880"/>
            <a:ext cx="30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te added by Professor Lape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tended behavior of this code is self-evident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457200" y="304920"/>
            <a:ext cx="63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iz challe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arris = 10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ape = harris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harris &gt; l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Impossible!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Of course.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"/>
          <p:cNvSpPr/>
          <p:nvPr/>
        </p:nvSpPr>
        <p:spPr>
          <a:xfrm>
            <a:off x="304920" y="766800"/>
            <a:ext cx="761976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ight = 5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5, OUTPUT); // 5 is 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6, OUTPUT); // 6 is yel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7, OUTPUT); // 7 is gre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\nHola, mundo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Light is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light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alWrite( light, HIGH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(5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alWrite( light, LOW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erial.available(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light = Serial.read() - 48; // What?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905120" y="10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put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hysic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tp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6031440" y="54864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's this stu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6030720" y="35053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al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5424840" y="182880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Set the mode of your pi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6029640" y="457200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 will this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460200" y="4876920"/>
            <a:ext cx="15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nd how to improve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7543800" y="228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SC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3" descr="Picture 8.png"/>
          <p:cNvPicPr/>
          <p:nvPr/>
        </p:nvPicPr>
        <p:blipFill>
          <a:blip r:embed="rId1"/>
          <a:stretch/>
        </p:blipFill>
        <p:spPr>
          <a:xfrm>
            <a:off x="11160" y="0"/>
            <a:ext cx="745632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3"/>
          <p:cNvSpPr/>
          <p:nvPr/>
        </p:nvSpPr>
        <p:spPr>
          <a:xfrm>
            <a:off x="8001000" y="5562720"/>
            <a:ext cx="1047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In my eyes, that should be spelled ASCI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7848720" y="6166080"/>
            <a:ext cx="532800" cy="539640"/>
            <a:chOff x="7848720" y="6166080"/>
            <a:chExt cx="532800" cy="539640"/>
          </a:xfrm>
        </p:grpSpPr>
        <p:sp>
          <p:nvSpPr>
            <p:cNvPr id="242" name="Freeform 5"/>
            <p:cNvSpPr/>
            <p:nvPr/>
          </p:nvSpPr>
          <p:spPr>
            <a:xfrm>
              <a:off x="8302320" y="622296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 rot="7012800">
              <a:off x="8246880" y="6255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"/>
            <p:cNvSpPr/>
            <p:nvPr/>
          </p:nvSpPr>
          <p:spPr>
            <a:xfrm rot="14887200">
              <a:off x="8250840" y="6185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"/>
            <p:cNvSpPr/>
            <p:nvPr/>
          </p:nvSpPr>
          <p:spPr>
            <a:xfrm>
              <a:off x="7848720" y="6579000"/>
              <a:ext cx="453600" cy="1267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9"/>
            <p:cNvSpPr/>
            <p:nvPr/>
          </p:nvSpPr>
          <p:spPr>
            <a:xfrm>
              <a:off x="7869240" y="6314760"/>
              <a:ext cx="43632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"/>
            <p:cNvSpPr/>
            <p:nvPr/>
          </p:nvSpPr>
          <p:spPr>
            <a:xfrm rot="19632600">
              <a:off x="7910640" y="6387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1"/>
            <p:cNvSpPr/>
            <p:nvPr/>
          </p:nvSpPr>
          <p:spPr>
            <a:xfrm>
              <a:off x="8035560" y="6387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2"/>
            <p:cNvSpPr/>
            <p:nvPr/>
          </p:nvSpPr>
          <p:spPr>
            <a:xfrm rot="19528800">
              <a:off x="8180280" y="6411600"/>
              <a:ext cx="831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>
              <a:off x="7954920" y="6436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4"/>
            <p:cNvSpPr/>
            <p:nvPr/>
          </p:nvSpPr>
          <p:spPr>
            <a:xfrm>
              <a:off x="8079840" y="6444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5"/>
            <p:cNvSpPr/>
            <p:nvPr/>
          </p:nvSpPr>
          <p:spPr>
            <a:xfrm>
              <a:off x="8193240" y="6472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6"/>
            <p:cNvSpPr/>
            <p:nvPr/>
          </p:nvSpPr>
          <p:spPr>
            <a:xfrm rot="16200000">
              <a:off x="8053560" y="6455520"/>
              <a:ext cx="39240" cy="2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7956000" y="6257520"/>
              <a:ext cx="362880" cy="1303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8031240" y="6218280"/>
              <a:ext cx="247320" cy="97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8150040" y="6202080"/>
              <a:ext cx="154440" cy="54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7903080" y="6600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flipH="1">
              <a:off x="8144280" y="6606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228600" y="83808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ST_PIN = 0; // the range sensor's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PEAKER_PIN = 4; // the speaker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aw_distanc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DIST_PIN, INPU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SPEAKER_PIN, OUTPU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,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_distance = analogRead(DIST_P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I read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raw_distanc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tone( SPEAKER_PIN, 440 /* raw_distance*2 */ ); // 44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(100); // 1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noTone( SPEAKER_PIN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905120" y="10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put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hysic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tp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5951520" y="1828800"/>
            <a:ext cx="2427120" cy="459720"/>
          </a:xfrm>
          <a:prstGeom prst="rect">
            <a:avLst/>
          </a:prstGeom>
          <a:noFill/>
          <a:ln w="9360">
            <a:solidFill>
              <a:srgbClr val="cb07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What's new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362320" y="3049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action-tim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98160" y="106668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See if you can determine the algorithm he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362320" y="3049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action-tim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380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it until the user places her hand in the range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91320" y="10666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The algorith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838080" y="2971800"/>
            <a:ext cx="76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it a random number of m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(maybe between 500 and 150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838080" y="236232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 playing a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838080" y="358128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 playing a different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838080" y="419112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sure the "starting"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83808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it until the range sensor changes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838080" y="5410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sure the "ending"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83808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port the resul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7473960" y="4719600"/>
            <a:ext cx="137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see next slid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ight Brace 14"/>
          <p:cNvSpPr/>
          <p:nvPr/>
        </p:nvSpPr>
        <p:spPr>
          <a:xfrm>
            <a:off x="7062840" y="4387680"/>
            <a:ext cx="304920" cy="153036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530360"/>
              <a:gd name="textAreaBottom" fmla="*/ 1505520 h 15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1"/>
                  <a:pt x="10800" y="1121"/>
                </a:cubicBezTo>
                <a:lnTo>
                  <a:pt x="10800" y="9679"/>
                </a:lnTo>
                <a:cubicBezTo>
                  <a:pt x="10800" y="10240"/>
                  <a:pt x="16200" y="10800"/>
                  <a:pt x="21600" y="10800"/>
                </a:cubicBezTo>
                <a:cubicBezTo>
                  <a:pt x="16200" y="10800"/>
                  <a:pt x="10800" y="11361"/>
                  <a:pt x="10800" y="11921"/>
                </a:cubicBezTo>
                <a:lnTo>
                  <a:pt x="10800" y="20479"/>
                </a:lnTo>
                <a:cubicBezTo>
                  <a:pt x="10800" y="2104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304920" y="3200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_time = milli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analogRead(DIST_PIN) &gt; END_THRE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_time = milli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22240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action-time game: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6172200" y="4122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More loops next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time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ight Brace 14"/>
          <p:cNvSpPr/>
          <p:nvPr/>
        </p:nvSpPr>
        <p:spPr>
          <a:xfrm>
            <a:off x="8153280" y="3733920"/>
            <a:ext cx="381240" cy="1371600"/>
          </a:xfrm>
          <a:custGeom>
            <a:avLst/>
            <a:gdLst>
              <a:gd name="textAreaLeft" fmla="*/ 0 w 381240"/>
              <a:gd name="textAreaRight" fmla="*/ 137520 w 381240"/>
              <a:gd name="textAreaTop" fmla="*/ 30960 h 1371600"/>
              <a:gd name="textAreaBottom" fmla="*/ 13406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2"/>
                  <a:pt x="10800" y="1563"/>
                </a:cubicBezTo>
                <a:lnTo>
                  <a:pt x="10800" y="9237"/>
                </a:lnTo>
                <a:cubicBezTo>
                  <a:pt x="10800" y="10019"/>
                  <a:pt x="16200" y="10800"/>
                  <a:pt x="21600" y="10800"/>
                </a:cubicBezTo>
                <a:cubicBezTo>
                  <a:pt x="16200" y="10800"/>
                  <a:pt x="10800" y="11582"/>
                  <a:pt x="10800" y="12363"/>
                </a:cubicBezTo>
                <a:lnTo>
                  <a:pt x="10800" y="20037"/>
                </a:lnTo>
                <a:cubicBezTo>
                  <a:pt x="10800" y="208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33520" y="1523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start_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end_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155600" y="250920"/>
            <a:ext cx="259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Hel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235800" y="16765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Arduino tutors availabl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936000" y="493092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S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941640" y="4930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Ber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312240" y="49309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Phil (with shir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885680" y="5796000"/>
            <a:ext cx="53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aturdays 1-3pm in the LAC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4439520" y="250920"/>
            <a:ext cx="323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b071e"/>
                </a:solidFill>
                <a:latin typeface="Calibri"/>
                <a:ea typeface="Calibri"/>
              </a:rPr>
              <a:t>Work in pair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0" descr="sj.jpg"/>
          <p:cNvPicPr/>
          <p:nvPr/>
        </p:nvPicPr>
        <p:blipFill>
          <a:blip r:embed="rId1"/>
          <a:stretch/>
        </p:blipFill>
        <p:spPr>
          <a:xfrm>
            <a:off x="593640" y="2340000"/>
            <a:ext cx="1611360" cy="2513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be.jpg"/>
          <p:cNvPicPr/>
          <p:nvPr/>
        </p:nvPicPr>
        <p:blipFill>
          <a:blip r:embed="rId2"/>
          <a:srcRect l="0" t="11052" r="0" b="15863"/>
          <a:stretch/>
        </p:blipFill>
        <p:spPr>
          <a:xfrm>
            <a:off x="2959200" y="2276640"/>
            <a:ext cx="2666880" cy="2598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pam.jpg"/>
          <p:cNvPicPr/>
          <p:nvPr/>
        </p:nvPicPr>
        <p:blipFill>
          <a:blip r:embed="rId3"/>
          <a:srcRect l="0" t="27529" r="0" b="0"/>
          <a:stretch/>
        </p:blipFill>
        <p:spPr>
          <a:xfrm>
            <a:off x="5952960" y="2268360"/>
            <a:ext cx="2678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43080" y="738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5228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nl.jpeg"/>
          <p:cNvPicPr/>
          <p:nvPr/>
        </p:nvPicPr>
        <p:blipFill>
          <a:blip r:embed="rId1"/>
          <a:stretch/>
        </p:blipFill>
        <p:spPr>
          <a:xfrm>
            <a:off x="2448000" y="3049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arris.jpg"/>
          <p:cNvPicPr/>
          <p:nvPr/>
        </p:nvPicPr>
        <p:blipFill>
          <a:blip r:embed="rId2"/>
          <a:stretch/>
        </p:blipFill>
        <p:spPr>
          <a:xfrm>
            <a:off x="2438280" y="2286000"/>
            <a:ext cx="1468440" cy="2050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010280" y="738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fi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5800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wir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Picture 6.png"/>
          <p:cNvPicPr/>
          <p:nvPr/>
        </p:nvPicPr>
        <p:blipFill>
          <a:blip r:embed="rId3"/>
          <a:stretch/>
        </p:blipFill>
        <p:spPr>
          <a:xfrm>
            <a:off x="4114800" y="2359080"/>
            <a:ext cx="257976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fires.jpeg"/>
          <p:cNvPicPr/>
          <p:nvPr/>
        </p:nvPicPr>
        <p:blipFill>
          <a:blip r:embed="rId4"/>
          <a:stretch/>
        </p:blipFill>
        <p:spPr>
          <a:xfrm>
            <a:off x="4114800" y="763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7315200" y="152280"/>
            <a:ext cx="1676520" cy="581400"/>
          </a:xfrm>
          <a:prstGeom prst="rect">
            <a:avLst/>
          </a:prstGeom>
          <a:noFill/>
          <a:ln w="9360">
            <a:solidFill>
              <a:srgbClr val="141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10ff"/>
                </a:solidFill>
                <a:latin typeface="Arial"/>
              </a:rPr>
              <a:t>Why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Screen shot 2010-09-08 at 7"/>
          <p:cNvPicPr/>
          <p:nvPr/>
        </p:nvPicPr>
        <p:blipFill>
          <a:blip r:embed="rId1"/>
          <a:stretch/>
        </p:blipFill>
        <p:spPr>
          <a:xfrm>
            <a:off x="0" y="0"/>
            <a:ext cx="6665760" cy="678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0"/>
          <p:cNvSpPr/>
          <p:nvPr/>
        </p:nvSpPr>
        <p:spPr>
          <a:xfrm>
            <a:off x="8106120" y="1222200"/>
            <a:ext cx="566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 flipH="1" flipV="1">
            <a:off x="6476760" y="76176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 flipH="1" flipV="1">
            <a:off x="6477120" y="1066320"/>
            <a:ext cx="161136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 flipH="1" flipV="1">
            <a:off x="6477120" y="1447560"/>
            <a:ext cx="162216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6476760" y="1662120"/>
            <a:ext cx="16239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6477120" y="1735200"/>
            <a:ext cx="1652400" cy="17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5927040" y="6391440"/>
            <a:ext cx="31021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tiobe.com/index.php/content/paperinfo/tpci/index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7278840" y="5373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071e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8"/>
          <p:cNvSpPr/>
          <p:nvPr/>
        </p:nvSpPr>
        <p:spPr>
          <a:xfrm flipH="1" flipV="1">
            <a:off x="6552720" y="2819520"/>
            <a:ext cx="838440" cy="266688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9"/>
          <p:cNvSpPr/>
          <p:nvPr/>
        </p:nvSpPr>
        <p:spPr>
          <a:xfrm flipH="1" flipV="1">
            <a:off x="6503760" y="3236400"/>
            <a:ext cx="887400" cy="232596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 flipH="1" flipV="1">
            <a:off x="6477120" y="3962520"/>
            <a:ext cx="914400" cy="167328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 flipH="1" flipV="1">
            <a:off x="6480000" y="4327200"/>
            <a:ext cx="912960" cy="139068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2"/>
          <p:cNvSpPr/>
          <p:nvPr/>
        </p:nvSpPr>
        <p:spPr>
          <a:xfrm flipH="1" flipV="1">
            <a:off x="6424200" y="5160960"/>
            <a:ext cx="996840" cy="61272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4979160" y="6567480"/>
            <a:ext cx="4050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4c50"/>
                </a:solidFill>
                <a:latin typeface="Arial"/>
              </a:rPr>
              <a:t>based on the number of skilled engineers world-wide, courses and third party vend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"/>
          <p:cNvSpPr/>
          <p:nvPr/>
        </p:nvSpPr>
        <p:spPr>
          <a:xfrm>
            <a:off x="380880" y="1079640"/>
            <a:ext cx="70866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ST_PIN = 0; // the range sensor's p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PEAKER_PIN = 4; // the speaker p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aw_distance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DIST_PIN, INPUT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SPEAKER_PIN, OUTPUT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, world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aw_distance = analogRead(DIST_PIN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I read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raw_distanc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tone( SPEAKER_PIN, 440 /* raw_distance*2 */ ); // 440h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(100); // 100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noTone( SPEAKER_PIN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905120" y="10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lass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5486400" y="21337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start here and make a range/traffic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633240" y="298440"/>
            <a:ext cx="79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308960" y="3200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levat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378400" y="6062760"/>
            <a:ext cx="34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Robotics, Spr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43080" y="738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228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52280" y="5348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nl.jpeg"/>
          <p:cNvPicPr/>
          <p:nvPr/>
        </p:nvPicPr>
        <p:blipFill>
          <a:blip r:embed="rId1"/>
          <a:stretch/>
        </p:blipFill>
        <p:spPr>
          <a:xfrm>
            <a:off x="2448000" y="3049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arris.jpg"/>
          <p:cNvPicPr/>
          <p:nvPr/>
        </p:nvPicPr>
        <p:blipFill>
          <a:blip r:embed="rId2"/>
          <a:stretch/>
        </p:blipFill>
        <p:spPr>
          <a:xfrm>
            <a:off x="2438280" y="2286000"/>
            <a:ext cx="1468440" cy="20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010280" y="738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fi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5800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wir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8000" y="5348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vampir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Picture 6.png"/>
          <p:cNvPicPr/>
          <p:nvPr/>
        </p:nvPicPr>
        <p:blipFill>
          <a:blip r:embed="rId3"/>
          <a:stretch/>
        </p:blipFill>
        <p:spPr>
          <a:xfrm>
            <a:off x="4114800" y="2359080"/>
            <a:ext cx="257976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fires.jpeg"/>
          <p:cNvPicPr/>
          <p:nvPr/>
        </p:nvPicPr>
        <p:blipFill>
          <a:blip r:embed="rId4"/>
          <a:stretch/>
        </p:blipFill>
        <p:spPr>
          <a:xfrm>
            <a:off x="4114800" y="763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Picture 7.png"/>
          <p:cNvPicPr/>
          <p:nvPr/>
        </p:nvPicPr>
        <p:blipFill>
          <a:blip r:embed="rId5"/>
          <a:srcRect l="3077" t="4581" r="3417" b="0"/>
          <a:stretch/>
        </p:blipFill>
        <p:spPr>
          <a:xfrm>
            <a:off x="4419720" y="4648320"/>
            <a:ext cx="18968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2752560" y="5172840"/>
            <a:ext cx="838440" cy="922680"/>
            <a:chOff x="2752560" y="5172840"/>
            <a:chExt cx="838440" cy="922680"/>
          </a:xfrm>
        </p:grpSpPr>
        <p:sp>
          <p:nvSpPr>
            <p:cNvPr id="66" name="Freeform 5"/>
            <p:cNvSpPr/>
            <p:nvPr/>
          </p:nvSpPr>
          <p:spPr>
            <a:xfrm>
              <a:off x="3466080" y="5268600"/>
              <a:ext cx="124920" cy="70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 rot="7012800">
              <a:off x="3374280" y="5327640"/>
              <a:ext cx="123840" cy="71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 rot="14887200">
              <a:off x="3379320" y="5207760"/>
              <a:ext cx="123840" cy="71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2752560" y="5878440"/>
              <a:ext cx="713520" cy="217080"/>
            </a:xfrm>
            <a:custGeom>
              <a:avLst/>
              <a:gdLst>
                <a:gd name="textAreaLeft" fmla="*/ 0 w 713520"/>
                <a:gd name="textAreaRight" fmla="*/ 713520 w 7135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2784960" y="5425560"/>
              <a:ext cx="686160" cy="5860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0"/>
            <p:cNvSpPr/>
            <p:nvPr/>
          </p:nvSpPr>
          <p:spPr>
            <a:xfrm rot="19632600">
              <a:off x="2850120" y="5550120"/>
              <a:ext cx="163800" cy="16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1"/>
            <p:cNvSpPr/>
            <p:nvPr/>
          </p:nvSpPr>
          <p:spPr>
            <a:xfrm>
              <a:off x="3046680" y="5550480"/>
              <a:ext cx="195480" cy="20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2"/>
            <p:cNvSpPr/>
            <p:nvPr/>
          </p:nvSpPr>
          <p:spPr>
            <a:xfrm rot="19528800">
              <a:off x="3274920" y="5591880"/>
              <a:ext cx="131040" cy="20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3"/>
            <p:cNvSpPr/>
            <p:nvPr/>
          </p:nvSpPr>
          <p:spPr>
            <a:xfrm>
              <a:off x="2919960" y="5634360"/>
              <a:ext cx="4932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4"/>
            <p:cNvSpPr/>
            <p:nvPr/>
          </p:nvSpPr>
          <p:spPr>
            <a:xfrm>
              <a:off x="3116160" y="5648040"/>
              <a:ext cx="482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5"/>
            <p:cNvSpPr/>
            <p:nvPr/>
          </p:nvSpPr>
          <p:spPr>
            <a:xfrm>
              <a:off x="3294000" y="5695200"/>
              <a:ext cx="4752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6"/>
            <p:cNvSpPr/>
            <p:nvPr/>
          </p:nvSpPr>
          <p:spPr>
            <a:xfrm rot="16200000">
              <a:off x="3072240" y="5685480"/>
              <a:ext cx="6696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2921400" y="5328000"/>
              <a:ext cx="570600" cy="223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039480" y="5260680"/>
              <a:ext cx="389160" cy="16740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26320" y="5232600"/>
              <a:ext cx="243000" cy="939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2837880" y="5916240"/>
              <a:ext cx="189360" cy="1213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 flipH="1">
              <a:off x="3217320" y="5925600"/>
              <a:ext cx="189360" cy="121320"/>
            </a:xfrm>
            <a:custGeom>
              <a:avLst/>
              <a:gdLst>
                <a:gd name="textAreaLeft" fmla="*/ 360 w 189360"/>
                <a:gd name="textAreaRight" fmla="*/ 190080 w 189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Down Arrow 36"/>
          <p:cNvSpPr/>
          <p:nvPr/>
        </p:nvSpPr>
        <p:spPr>
          <a:xfrm>
            <a:off x="304920" y="6172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3240" y="298440"/>
            <a:ext cx="79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Set #1: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gramming your Muddu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parkfun_arduino-1"/>
          <p:cNvPicPr/>
          <p:nvPr/>
        </p:nvPicPr>
        <p:blipFill>
          <a:blip r:embed="rId1"/>
          <a:stretch/>
        </p:blipFill>
        <p:spPr>
          <a:xfrm>
            <a:off x="533520" y="198108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571720" y="255888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ust like the Ardui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262480" y="399096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"</a:t>
            </a:r>
            <a:r>
              <a:rPr b="1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the</a:t>
            </a:r>
            <a:r>
              <a:rPr b="0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 best way to get your own hardware to talk to your computer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09480" y="127620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725560" y="128520"/>
            <a:ext cx="3603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Problem Set  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9480" y="249552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09480" y="371484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9480" y="493380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505320" y="1338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Harris numbe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Arithmetic and prin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505320" y="255744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Lightin' it up..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LEDs and serial 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505320" y="377676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That's random?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delay and ran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505320" y="4995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React!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range sensing and ti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6563880" y="180972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1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563880" y="305424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2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563880" y="429912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3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6563880" y="554364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4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42560" y="6264360"/>
            <a:ext cx="710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00"/>
                </a:solidFill>
                <a:latin typeface="Calibri"/>
                <a:ea typeface="Calibri"/>
              </a:rPr>
              <a:t>Submit these to       </a:t>
            </a:r>
            <a:r>
              <a:rPr b="1" lang="en-US" sz="1500" spc="-1" strike="noStrike">
                <a:solidFill>
                  <a:srgbClr val="800000"/>
                </a:solidFill>
                <a:latin typeface="Courier New"/>
                <a:ea typeface="Courier New"/>
              </a:rPr>
              <a:t>www.cs.hmc.edu/~submissions/submissions/home.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2922120" y="76320"/>
            <a:ext cx="35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Take-home</a:t>
            </a:r>
            <a:r>
              <a:rPr b="0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Screen shot 2010-09-08 at 6"/>
          <p:cNvPicPr/>
          <p:nvPr/>
        </p:nvPicPr>
        <p:blipFill>
          <a:blip r:embed="rId1"/>
          <a:stretch/>
        </p:blipFill>
        <p:spPr>
          <a:xfrm>
            <a:off x="507960" y="795240"/>
            <a:ext cx="6350040" cy="57578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1981080" y="966960"/>
            <a:ext cx="3627720" cy="250560"/>
          </a:xfrm>
          <a:prstGeom prst="rect">
            <a:avLst/>
          </a:prstGeom>
          <a:noFill/>
          <a:ln w="38160">
            <a:solidFill>
              <a:srgbClr val="141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8458200" y="6166080"/>
            <a:ext cx="533520" cy="539640"/>
            <a:chOff x="8458200" y="6166080"/>
            <a:chExt cx="533520" cy="539640"/>
          </a:xfrm>
        </p:grpSpPr>
        <p:sp>
          <p:nvSpPr>
            <p:cNvPr id="106" name="Freeform 5"/>
            <p:cNvSpPr/>
            <p:nvPr/>
          </p:nvSpPr>
          <p:spPr>
            <a:xfrm>
              <a:off x="8912160" y="6222960"/>
              <a:ext cx="79560" cy="41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7012800">
              <a:off x="8856720" y="6255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 rot="14887200">
              <a:off x="8860680" y="6185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8458200" y="6579000"/>
              <a:ext cx="453960" cy="1267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8478720" y="6314760"/>
              <a:ext cx="43668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 rot="19632600">
              <a:off x="8520120" y="6387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"/>
            <p:cNvSpPr/>
            <p:nvPr/>
          </p:nvSpPr>
          <p:spPr>
            <a:xfrm>
              <a:off x="8645400" y="6387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2"/>
            <p:cNvSpPr/>
            <p:nvPr/>
          </p:nvSpPr>
          <p:spPr>
            <a:xfrm rot="19528800">
              <a:off x="8790480" y="6411600"/>
              <a:ext cx="8352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3"/>
            <p:cNvSpPr/>
            <p:nvPr/>
          </p:nvSpPr>
          <p:spPr>
            <a:xfrm>
              <a:off x="8564400" y="6436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8689680" y="6444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5"/>
            <p:cNvSpPr/>
            <p:nvPr/>
          </p:nvSpPr>
          <p:spPr>
            <a:xfrm>
              <a:off x="8802720" y="6472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"/>
            <p:cNvSpPr/>
            <p:nvPr/>
          </p:nvSpPr>
          <p:spPr>
            <a:xfrm rot="16200000">
              <a:off x="8663400" y="6455520"/>
              <a:ext cx="3924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8565840" y="6257520"/>
              <a:ext cx="363240" cy="1303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8640720" y="6218280"/>
              <a:ext cx="247680" cy="9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8759520" y="6202080"/>
              <a:ext cx="154800" cy="547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8512560" y="6600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1"/>
            <p:cNvSpPr/>
            <p:nvPr/>
          </p:nvSpPr>
          <p:spPr>
            <a:xfrm flipH="1">
              <a:off x="8754120" y="6606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4"/>
          <p:cNvSpPr/>
          <p:nvPr/>
        </p:nvSpPr>
        <p:spPr>
          <a:xfrm>
            <a:off x="7037280" y="57992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000"/>
                </a:solidFill>
                <a:latin typeface="Comic Sans MS"/>
              </a:rPr>
              <a:t>This site is the secret to all Mudduino programming happiness and/or vampiric secrets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wn Arrow 25"/>
          <p:cNvSpPr/>
          <p:nvPr/>
        </p:nvSpPr>
        <p:spPr>
          <a:xfrm>
            <a:off x="1066680" y="211608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own Arrow 26"/>
          <p:cNvSpPr/>
          <p:nvPr/>
        </p:nvSpPr>
        <p:spPr>
          <a:xfrm>
            <a:off x="1600200" y="2133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Arrow 27"/>
          <p:cNvSpPr/>
          <p:nvPr/>
        </p:nvSpPr>
        <p:spPr>
          <a:xfrm>
            <a:off x="2133720" y="2133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n Arrow 28"/>
          <p:cNvSpPr/>
          <p:nvPr/>
        </p:nvSpPr>
        <p:spPr>
          <a:xfrm>
            <a:off x="3048120" y="2133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614680" y="133200"/>
            <a:ext cx="41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Hello, World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699080" cy="5638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5410080" y="5791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0ff"/>
                </a:solidFill>
                <a:latin typeface="Calibri"/>
                <a:ea typeface="Calibri"/>
              </a:rPr>
              <a:t>"Computational Mode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802840" y="132228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anguage:  </a:t>
            </a:r>
            <a:r>
              <a:rPr b="0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89520" y="1933560"/>
            <a:ext cx="225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ctually, it's Arduino's version of C called, not surprisingly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rdui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6404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78880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7238880" y="294480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 rot="16200000">
            <a:off x="6180840" y="39772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MUST have these two functions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614680" y="133200"/>
            <a:ext cx="41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Hello, World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410080" y="5791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0ff"/>
                </a:solidFill>
                <a:latin typeface="Calibri"/>
                <a:ea typeface="Calibri"/>
              </a:rPr>
              <a:t>"Computational Mode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802840" y="132228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anguage:  </a:t>
            </a:r>
            <a:r>
              <a:rPr b="0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89520" y="1933560"/>
            <a:ext cx="225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ctually, it's Arduino's version of C called, not surprisingly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rdui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6404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578880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7238880" y="294480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 rot="16200000">
            <a:off x="6180840" y="39772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MUST have these two functions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741240" y="5800680"/>
            <a:ext cx="30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print in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delay and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1143000"/>
            <a:ext cx="480060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vid_Harris@hm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est the serial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etu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95480" y="7632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Math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368960" y="76320"/>
            <a:ext cx="2869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Syntax!?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7240680" y="6039000"/>
            <a:ext cx="17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C must stand for Crazy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6759720" y="6193080"/>
            <a:ext cx="532800" cy="539640"/>
            <a:chOff x="6759720" y="6193080"/>
            <a:chExt cx="532800" cy="539640"/>
          </a:xfrm>
        </p:grpSpPr>
        <p:sp>
          <p:nvSpPr>
            <p:cNvPr id="151" name="Freeform 5"/>
            <p:cNvSpPr/>
            <p:nvPr/>
          </p:nvSpPr>
          <p:spPr>
            <a:xfrm>
              <a:off x="7213320" y="624996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7012800">
              <a:off x="7157880" y="6282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 rot="14887200">
              <a:off x="7161840" y="6212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6759720" y="6606000"/>
              <a:ext cx="453600" cy="1267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>
              <a:off x="6780240" y="6341760"/>
              <a:ext cx="43632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 rot="19632600">
              <a:off x="6821640" y="6414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6946560" y="6414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 rot="19528800">
              <a:off x="7091280" y="6438600"/>
              <a:ext cx="831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6865920" y="6463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990840" y="6471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5"/>
            <p:cNvSpPr/>
            <p:nvPr/>
          </p:nvSpPr>
          <p:spPr>
            <a:xfrm>
              <a:off x="7104240" y="6499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"/>
            <p:cNvSpPr/>
            <p:nvPr/>
          </p:nvSpPr>
          <p:spPr>
            <a:xfrm rot="16200000">
              <a:off x="6964560" y="6482520"/>
              <a:ext cx="39240" cy="2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>
              <a:off x="6867000" y="6284520"/>
              <a:ext cx="362880" cy="1303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"/>
            <p:cNvSpPr/>
            <p:nvPr/>
          </p:nvSpPr>
          <p:spPr>
            <a:xfrm>
              <a:off x="6942240" y="6245280"/>
              <a:ext cx="247320" cy="97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9"/>
            <p:cNvSpPr/>
            <p:nvPr/>
          </p:nvSpPr>
          <p:spPr>
            <a:xfrm>
              <a:off x="7061040" y="6229080"/>
              <a:ext cx="154440" cy="54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0"/>
            <p:cNvSpPr/>
            <p:nvPr/>
          </p:nvSpPr>
          <p:spPr>
            <a:xfrm>
              <a:off x="6814080" y="6627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1"/>
            <p:cNvSpPr/>
            <p:nvPr/>
          </p:nvSpPr>
          <p:spPr>
            <a:xfrm flipH="1">
              <a:off x="7055280" y="6633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23"/>
          <p:cNvSpPr/>
          <p:nvPr/>
        </p:nvSpPr>
        <p:spPr>
          <a:xfrm>
            <a:off x="304920" y="843120"/>
            <a:ext cx="739116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s11: m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hows off some arithmetic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um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num is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 num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um % 2 == 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5:26:37Z</dcterms:created>
  <dc:creator>Zachary Dodds</dc:creator>
  <dc:description/>
  <dc:language>en-US</dc:language>
  <cp:lastModifiedBy>dodds</cp:lastModifiedBy>
  <dcterms:modified xsi:type="dcterms:W3CDTF">2010-09-08T17:57:47Z</dcterms:modified>
  <cp:revision>8</cp:revision>
  <dc:subject/>
  <dc:title>PowerPoint Presentation</dc:title>
</cp:coreProperties>
</file>