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916-23CA-4359-96F0-1A8B5AE4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510-1567-4758-A942-019732A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C71-158F-4F09-99E7-C63C6A81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510-7CD9-4126-832B-96E6AC19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78F-8034-41EF-AEF1-51E7D482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388-05DC-4F49-BF3D-3213EF0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2C1-AF69-4207-9E0C-5493A3FC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DB3-DDD4-4E39-911E-DE749131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6EC-191D-478F-9364-B1EA282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45E-B59F-43AB-8AB6-3E70D9D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8BD-0578-44C8-AF8F-402D680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3CE-E2CE-45CE-BE63-B17B4C8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9AC7-9C67-49DB-9485-4C3E76576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Setting and Changing Tempo and Volum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ways know the 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80880" y="3733920"/>
            <a:ext cx="8610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f you check the checkbox next to the “tempo” block,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urrent tempo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ill be displayed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stag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rcRect l="0" t="32763" r="84765" b="42860"/>
          <a:stretch/>
        </p:blipFill>
        <p:spPr>
          <a:xfrm>
            <a:off x="1752480" y="990720"/>
            <a:ext cx="2438640" cy="2438280"/>
          </a:xfrm>
          <a:prstGeom prst="rect">
            <a:avLst/>
          </a:prstGeom>
          <a:ln w="0">
            <a:noFill/>
          </a:ln>
        </p:spPr>
      </p:pic>
      <p:cxnSp>
        <p:nvCxnSpPr>
          <p:cNvPr id="48" name="Straight Arrow Connector 6"/>
          <p:cNvCxnSpPr/>
          <p:nvPr/>
        </p:nvCxnSpPr>
        <p:spPr>
          <a:xfrm>
            <a:off x="457200" y="2666880"/>
            <a:ext cx="1372320" cy="4579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9" name="Picture 6" descr=""/>
          <p:cNvPicPr/>
          <p:nvPr/>
        </p:nvPicPr>
        <p:blipFill>
          <a:blip r:embed="rId2"/>
          <a:srcRect l="69048" t="6857" r="9525" b="63432"/>
          <a:stretch/>
        </p:blipFill>
        <p:spPr>
          <a:xfrm>
            <a:off x="5486400" y="1219320"/>
            <a:ext cx="2725560" cy="236196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9"/>
          <p:cNvCxnSpPr/>
          <p:nvPr/>
        </p:nvCxnSpPr>
        <p:spPr>
          <a:xfrm>
            <a:off x="4800600" y="1218960"/>
            <a:ext cx="915120" cy="22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: Set 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380880" y="3048120"/>
            <a:ext cx="861084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tempo block sets the speed at which notes play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any beats play per minu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hen using the set tempo block,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oes not matt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hat the current tempo is.  Set tempo will set the new tempo to the number you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ype in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et tempo block"/>
          <p:cNvPicPr/>
          <p:nvPr/>
        </p:nvPicPr>
        <p:blipFill>
          <a:blip r:embed="rId1"/>
          <a:stretch/>
        </p:blipFill>
        <p:spPr>
          <a:xfrm>
            <a:off x="2286000" y="1523880"/>
            <a:ext cx="5029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e Temp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04920" y="2362320"/>
            <a:ext cx="86104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change tempo block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increase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decreases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tempo by whatever amount you want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You can change how much to increase or decrease the tempo.  You may us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ositiv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o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egativ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numb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When using the change tempo block,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does matter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hat the current tempo is.  Set tempo will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dd or subtrac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from the current temp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hange tempo block.gif"/>
          <p:cNvPicPr/>
          <p:nvPr/>
        </p:nvPicPr>
        <p:blipFill>
          <a:blip r:embed="rId1"/>
          <a:stretch/>
        </p:blipFill>
        <p:spPr>
          <a:xfrm>
            <a:off x="2819520" y="1600200"/>
            <a:ext cx="3504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Which gives you a faster temp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set and change tempo compare.gif"/>
          <p:cNvPicPr/>
          <p:nvPr/>
        </p:nvPicPr>
        <p:blipFill>
          <a:blip r:embed="rId1"/>
          <a:stretch/>
        </p:blipFill>
        <p:spPr>
          <a:xfrm>
            <a:off x="1295280" y="1905120"/>
            <a:ext cx="5926320" cy="761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33520" y="2895480"/>
            <a:ext cx="350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ats per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572000" y="29718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the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tempo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ts per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me works the same wa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2860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eckbo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xt to the “volume” block to always see the volu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t volu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to reset the volume to the level you w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ange volu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lock to increase or decrease the volume by a certain am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the time that’s lef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 the Setting and Changing Tempo and Volume work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write the scripts for each question in Scratch to help you find the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finish early, you may play with Scrat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was.student</cp:lastModifiedBy>
  <dcterms:modified xsi:type="dcterms:W3CDTF">2011-07-12T14:59:30Z</dcterms:modified>
  <cp:revision>22</cp:revision>
  <dc:subject/>
  <dc:title>Slide 1</dc:title>
</cp:coreProperties>
</file>