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883-ECA8-4DB1-B3A0-EDF2A9BD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6C7-6EEC-459E-AA01-DF021D84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CBA-9229-4120-A5AD-5EC87DD8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3E5-8722-40F3-B66C-7BF08C93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8C23-5693-4603-96C1-7EBB7BF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68F-45D2-43F0-B0CB-C11CD6E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F8B-D79B-440C-B577-21FE8AD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25C-AC39-4611-BBD9-90A100D8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E36-8CE4-47E6-B48E-69B779B5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F2D-A643-412A-8401-87904D0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C92-8784-4F45-8A99-6F2D391B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BFD-EC14-4ACA-8822-6D55BFF2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3EC9-5BE5-4E5B-997F-35242B7A5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dtechvision.org/wp-content/uploads/2008/10/scratch_logo.png"/>
          <p:cNvPicPr/>
          <p:nvPr/>
        </p:nvPicPr>
        <p:blipFill>
          <a:blip r:embed="rId1"/>
          <a:stretch/>
        </p:blipFill>
        <p:spPr>
          <a:xfrm>
            <a:off x="1905120" y="152280"/>
            <a:ext cx="4983120" cy="4610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28600" y="533412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Controlling Scripts with the Keyboar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ping” Commands to the Key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3"/>
          <p:cNvSpPr/>
          <p:nvPr/>
        </p:nvSpPr>
        <p:spPr>
          <a:xfrm>
            <a:off x="304920" y="2666880"/>
            <a:ext cx="86104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“when key pressed” block  is a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block.  I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run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a script when a button on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keyboar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is pressed.  It has 1 variab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ou can chang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which key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ill start the scrip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he “when key pressed” block only works at th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beginning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f a script.  (You can think of it as a “hat” for the script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when key pressed block.gif"/>
          <p:cNvPicPr/>
          <p:nvPr/>
        </p:nvPicPr>
        <p:blipFill>
          <a:blip r:embed="rId1"/>
          <a:stretch/>
        </p:blipFill>
        <p:spPr>
          <a:xfrm>
            <a:off x="3124080" y="1676520"/>
            <a:ext cx="2909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ping Commands to the Keyboar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304920" y="1600200"/>
            <a:ext cx="8610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o control a script with the keyboard, place a “when key pressed” block o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top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f it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hoos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which key will run the scrip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when key pressed example 1.gif"/>
          <p:cNvPicPr/>
          <p:nvPr/>
        </p:nvPicPr>
        <p:blipFill>
          <a:blip r:embed="rId1"/>
          <a:stretch/>
        </p:blipFill>
        <p:spPr>
          <a:xfrm>
            <a:off x="3591000" y="2819520"/>
            <a:ext cx="2452680" cy="1523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9"/>
          <p:cNvSpPr/>
          <p:nvPr/>
        </p:nvSpPr>
        <p:spPr>
          <a:xfrm>
            <a:off x="228600" y="5029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n a key on the keyboard starts a script, we say that script has been “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mapped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” to that ke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3:48:57Z</dcterms:created>
  <dc:creator>Paul</dc:creator>
  <dc:description/>
  <dc:language>en-US</dc:language>
  <cp:lastModifiedBy>was.student</cp:lastModifiedBy>
  <dcterms:modified xsi:type="dcterms:W3CDTF">2011-07-12T15:08:27Z</dcterms:modified>
  <cp:revision>25</cp:revision>
  <dc:subject/>
  <dc:title>Slide 1</dc:title>
</cp:coreProperties>
</file>