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D97-1C7D-4D16-AC22-FEEF5326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2AE-4C1D-4DD1-B4E2-3B76BA94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C4B-D33A-4BA7-84C2-7DA7C3E8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80D-B315-47DE-88C3-D6CE0DE1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B28-0815-46FA-B685-87AA554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01F-AACD-4322-9F72-3630BFA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DFA-4E7C-4AD0-B6A8-275D668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295-72EF-4121-829B-9D1291CA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C9E-189B-499A-835E-45DC1FE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AFD-DC6C-40AA-BFE2-F297366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1E6-6BB9-4A0B-A182-67FD6F8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DBC-29B6-4B5F-96ED-4102EAE7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2A28-0B31-4CF9-82CA-FA62C5BCC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Making Variab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 You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04920" y="2666880"/>
            <a:ext cx="86104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 variable is anything tha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ang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ver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have already used 2 variables in Scratc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olume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emp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But what if we want to change something else besides the volume or temp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volume block.gif"/>
          <p:cNvPicPr/>
          <p:nvPr/>
        </p:nvPicPr>
        <p:blipFill>
          <a:blip r:embed="rId1"/>
          <a:stretch/>
        </p:blipFill>
        <p:spPr>
          <a:xfrm>
            <a:off x="1523880" y="1447920"/>
            <a:ext cx="18655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tempo block.gif"/>
          <p:cNvPicPr/>
          <p:nvPr/>
        </p:nvPicPr>
        <p:blipFill>
          <a:blip r:embed="rId2"/>
          <a:stretch/>
        </p:blipFill>
        <p:spPr>
          <a:xfrm>
            <a:off x="5562720" y="1447920"/>
            <a:ext cx="17208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a New Varia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3"/>
          <p:cNvSpPr/>
          <p:nvPr/>
        </p:nvSpPr>
        <p:spPr>
          <a:xfrm>
            <a:off x="228600" y="426708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make a new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ick on the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ta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lick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ake a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Give your variable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20000" t="16000" r="59525" b="48954"/>
          <a:stretch/>
        </p:blipFill>
        <p:spPr>
          <a:xfrm>
            <a:off x="3200400" y="1143000"/>
            <a:ext cx="2590920" cy="277164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/>
          <p:nvPr/>
        </p:nvCxnSpPr>
        <p:spPr>
          <a:xfrm>
            <a:off x="2286000" y="1447920"/>
            <a:ext cx="18295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7"/>
          <p:cNvCxnSpPr/>
          <p:nvPr/>
        </p:nvCxnSpPr>
        <p:spPr>
          <a:xfrm flipV="1">
            <a:off x="1371600" y="2666160"/>
            <a:ext cx="1905840" cy="3056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4" name="Picture 6" descr=""/>
          <p:cNvPicPr/>
          <p:nvPr/>
        </p:nvPicPr>
        <p:blipFill>
          <a:blip r:embed="rId2"/>
          <a:srcRect l="40952" t="46478" r="40000" b="36763"/>
          <a:stretch/>
        </p:blipFill>
        <p:spPr>
          <a:xfrm>
            <a:off x="5486400" y="5029200"/>
            <a:ext cx="3048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a New Variable, continu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3048120" y="1600200"/>
            <a:ext cx="5790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now ha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new block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use with your variabl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add your variable to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any block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at has a vari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266920" cy="466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my variable in note block.gif"/>
          <p:cNvPicPr/>
          <p:nvPr/>
        </p:nvPicPr>
        <p:blipFill>
          <a:blip r:embed="rId2"/>
          <a:stretch/>
        </p:blipFill>
        <p:spPr>
          <a:xfrm>
            <a:off x="3505320" y="4191120"/>
            <a:ext cx="46227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Your Variabl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0" y="251460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your variable using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et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ange variab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s, just like you did with tempo and volu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emember to use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eckbox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to keep track of what your variable is at any ti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new variable with note.gif"/>
          <p:cNvPicPr/>
          <p:nvPr/>
        </p:nvPicPr>
        <p:blipFill>
          <a:blip r:embed="rId1"/>
          <a:stretch/>
        </p:blipFill>
        <p:spPr>
          <a:xfrm>
            <a:off x="2971800" y="1066680"/>
            <a:ext cx="3124080" cy="12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4479840" cy="24318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"/>
          <p:cNvCxnSpPr/>
          <p:nvPr/>
        </p:nvCxnSpPr>
        <p:spPr>
          <a:xfrm>
            <a:off x="1981080" y="5334120"/>
            <a:ext cx="18295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7"/>
          <p:cNvCxnSpPr/>
          <p:nvPr/>
        </p:nvCxnSpPr>
        <p:spPr>
          <a:xfrm>
            <a:off x="6095880" y="4495320"/>
            <a:ext cx="152496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was.student</cp:lastModifiedBy>
  <dcterms:modified xsi:type="dcterms:W3CDTF">2011-07-12T15:07:30Z</dcterms:modified>
  <cp:revision>19</cp:revision>
  <dc:subject/>
  <dc:title>Slide 1</dc:title>
</cp:coreProperties>
</file>