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535-1893-4342-8909-8ADF092E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373-3252-41AE-8247-E5897CA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949-94B4-4D7E-B8B4-14EDD465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CD9-2AB1-495C-AFB7-B1829BD7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96C-F526-411F-89C9-AA72B677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D5C-6335-4C77-887E-57BEC78C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3E5-AB14-4063-AFFC-9CE171CA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7F5-B504-43D1-A1A2-5EC07369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607-F54E-4428-A2B9-83841D85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E72-48B1-46ED-A598-007A8B53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5C3-0895-41F1-B255-7F36FEC9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B14-5C5D-4C1F-97BF-55569E68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6248-A0E0-4A65-96C6-6B8310F3A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Pick Random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k Ran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2438280"/>
            <a:ext cx="87631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pick rando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lock is a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perato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Using this block will make the computer pick a random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umb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owes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highes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number possib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t1.gstatic.com/images?q=tbn:ANd9GcRQLZTAmUGi1ejb9qt8P_KFLzr5NUYlkkDCKcqp0elWU1jYZKbv"/>
          <p:cNvPicPr/>
          <p:nvPr/>
        </p:nvPicPr>
        <p:blipFill>
          <a:blip r:embed="rId1"/>
          <a:stretch/>
        </p:blipFill>
        <p:spPr>
          <a:xfrm>
            <a:off x="228600" y="762120"/>
            <a:ext cx="1933560" cy="236196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http://www.mayer-roulette-strategy.co.uk/img/roulette2.jpg"/>
          <p:cNvPicPr/>
          <p:nvPr/>
        </p:nvPicPr>
        <p:blipFill>
          <a:blip r:embed="rId2"/>
          <a:stretch/>
        </p:blipFill>
        <p:spPr>
          <a:xfrm>
            <a:off x="6095880" y="914400"/>
            <a:ext cx="290988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pick random block.gif"/>
          <p:cNvPicPr/>
          <p:nvPr/>
        </p:nvPicPr>
        <p:blipFill>
          <a:blip r:embed="rId3"/>
          <a:stretch/>
        </p:blipFill>
        <p:spPr>
          <a:xfrm>
            <a:off x="2362320" y="2057400"/>
            <a:ext cx="3606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rand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152280" y="609480"/>
            <a:ext cx="86108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Use the pick random block when you want something in your program to b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unpredict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 For 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Where should a power-up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ppea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on the stag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Make a character say something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each time you run a movi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go to random coordinates.gif"/>
          <p:cNvPicPr/>
          <p:nvPr/>
        </p:nvPicPr>
        <p:blipFill>
          <a:blip r:embed="rId1"/>
          <a:stretch/>
        </p:blipFill>
        <p:spPr>
          <a:xfrm>
            <a:off x="2666880" y="2743200"/>
            <a:ext cx="3943440" cy="26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random greetings.gif"/>
          <p:cNvPicPr/>
          <p:nvPr/>
        </p:nvPicPr>
        <p:blipFill>
          <a:blip r:embed="rId2"/>
          <a:stretch/>
        </p:blipFill>
        <p:spPr>
          <a:xfrm>
            <a:off x="3581280" y="4191120"/>
            <a:ext cx="24004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152280" y="2514600"/>
            <a:ext cx="86108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at different things will the sprite say if the number picked is 1, 2 or 3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random greetings.gif"/>
          <p:cNvPicPr/>
          <p:nvPr/>
        </p:nvPicPr>
        <p:blipFill>
          <a:blip r:embed="rId1"/>
          <a:stretch/>
        </p:blipFill>
        <p:spPr>
          <a:xfrm>
            <a:off x="2895480" y="1066680"/>
            <a:ext cx="350532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2-16T05:01:57Z</dcterms:modified>
  <cp:revision>53</cp:revision>
  <dc:subject/>
  <dc:title>Slide 1</dc:title>
</cp:coreProperties>
</file>