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AFA-C5F5-438C-91C1-E9615BF2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1D9-E8B0-4157-B33A-A55DE8BE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2B5-3913-4DD5-92A1-B3CF59D2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F94-F67E-42AF-99D7-78D475AA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C3A-01BD-46EC-9153-D6BE343D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07A-FB5B-4FA5-8D72-6534544B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981-9BD2-40B0-9FB5-059E52DE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597-61A0-499B-8F6B-014A83B3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F4F-90EC-458C-92B9-E6057879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180-11DC-4562-8F7B-752E143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A22-D77F-4614-A471-7F2F841C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0BA-D381-4340-B335-8779499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9885-B81E-4E0E-88F8-0A3EEBEBF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Setting and Changing Tempo and Volum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ways know the temp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373392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you check the checkbox next to the “tempo” block,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urrent tempo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ill be displayed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tag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rcRect l="0" t="32763" r="84765" b="42860"/>
          <a:stretch/>
        </p:blipFill>
        <p:spPr>
          <a:xfrm>
            <a:off x="1752480" y="990720"/>
            <a:ext cx="2438640" cy="2438280"/>
          </a:xfrm>
          <a:prstGeom prst="rect">
            <a:avLst/>
          </a:prstGeom>
          <a:ln w="0">
            <a:noFill/>
          </a:ln>
        </p:spPr>
      </p:pic>
      <p:cxnSp>
        <p:nvCxnSpPr>
          <p:cNvPr id="48" name="Straight Arrow Connector 6"/>
          <p:cNvCxnSpPr/>
          <p:nvPr/>
        </p:nvCxnSpPr>
        <p:spPr>
          <a:xfrm>
            <a:off x="457200" y="2666880"/>
            <a:ext cx="1372320" cy="4579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9" name="Picture 6" descr=""/>
          <p:cNvPicPr/>
          <p:nvPr/>
        </p:nvPicPr>
        <p:blipFill>
          <a:blip r:embed="rId2"/>
          <a:srcRect l="69048" t="6857" r="9525" b="63432"/>
          <a:stretch/>
        </p:blipFill>
        <p:spPr>
          <a:xfrm>
            <a:off x="5486400" y="1219320"/>
            <a:ext cx="2725560" cy="2361960"/>
          </a:xfrm>
          <a:prstGeom prst="rect">
            <a:avLst/>
          </a:prstGeom>
          <a:ln w="0">
            <a:noFill/>
          </a:ln>
        </p:spPr>
      </p:pic>
      <p:cxnSp>
        <p:nvCxnSpPr>
          <p:cNvPr id="50" name="Straight Arrow Connector 9"/>
          <p:cNvCxnSpPr/>
          <p:nvPr/>
        </p:nvCxnSpPr>
        <p:spPr>
          <a:xfrm>
            <a:off x="4800600" y="1218960"/>
            <a:ext cx="915120" cy="22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: Set Temp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3"/>
          <p:cNvSpPr/>
          <p:nvPr/>
        </p:nvSpPr>
        <p:spPr>
          <a:xfrm>
            <a:off x="380880" y="3048120"/>
            <a:ext cx="8610840" cy="31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tempo block sets the speed at which notes play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many beats play per minu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When using the set tempo block,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oes not matt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what the current tempo is.  Set tempo will set the new tempo to the number you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ype i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et tempo block"/>
          <p:cNvPicPr/>
          <p:nvPr/>
        </p:nvPicPr>
        <p:blipFill>
          <a:blip r:embed="rId1"/>
          <a:stretch/>
        </p:blipFill>
        <p:spPr>
          <a:xfrm>
            <a:off x="2286000" y="1523880"/>
            <a:ext cx="50292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Temp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04920" y="2362320"/>
            <a:ext cx="86104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change tempo block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crease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decrease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tempo by whatever amount you want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much to increase or decrease the tempo.  You may us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positiv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o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egativ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numb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When using the change tempo block,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oes matt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what the current tempo is.  Set tempo will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dd or subtrac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from the current temp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hange tempo block.gif"/>
          <p:cNvPicPr/>
          <p:nvPr/>
        </p:nvPicPr>
        <p:blipFill>
          <a:blip r:embed="rId1"/>
          <a:stretch/>
        </p:blipFill>
        <p:spPr>
          <a:xfrm>
            <a:off x="2819520" y="1600200"/>
            <a:ext cx="3504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Which gives you a faster temp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set and change tempo compare.gif"/>
          <p:cNvPicPr/>
          <p:nvPr/>
        </p:nvPicPr>
        <p:blipFill>
          <a:blip r:embed="rId1"/>
          <a:stretch/>
        </p:blipFill>
        <p:spPr>
          <a:xfrm>
            <a:off x="1295280" y="1905120"/>
            <a:ext cx="5926320" cy="76176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33520" y="2895480"/>
            <a:ext cx="350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the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the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rea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ats per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572000" y="297180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the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the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re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ts per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me works the same wa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5800" y="22860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eckbo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ext to the “volume” block to always see the volu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et volu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to reset the volume to the level you w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ange volu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lock to increase or decrease the volume by a certain am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he time that’s lef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the Setting and Changing Tempo and Volume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the scripts for each question in Scratch to help you find the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finish early, you may play with Scrat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09-23T05:46:50Z</dcterms:modified>
  <cp:revision>22</cp:revision>
  <dc:subject/>
  <dc:title>Slide 1</dc:title>
</cp:coreProperties>
</file>