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8DB-4A5F-40F0-B997-69B673FB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DE2-FBC4-4457-A680-F37A7A59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F88-72EC-4C94-BF10-0AE49D8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3E0-52DD-48D2-9D47-EEEEA4C5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464-453F-4D3D-A80E-65C46B2E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EB4-8578-4FEB-B519-6A178FF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7C9-A522-4D35-85B5-F2BEABF6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450-7032-4B44-991D-BC594687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D84-1FCA-44D1-A44C-7CC7EB6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6FE-587C-47C5-B28C-5E59A49D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E3D-BD85-44DB-AF7D-AF25289B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BE9-6AD1-4FAD-A5D5-3C9D3A1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71C2-FFCB-437C-B82C-1F2767B53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Keeping Score with a Variab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S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playing a game, the score c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ang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Since it can change, we will need to use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o keep track of 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will first need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reat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 variable and call it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core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robbinssports.com/sporting-goods-store/images/digital-indoor-tabletop-scoreboard.jpg"/>
          <p:cNvPicPr/>
          <p:nvPr/>
        </p:nvPicPr>
        <p:blipFill>
          <a:blip r:embed="rId1"/>
          <a:srcRect l="0" t="22405" r="0" b="13599"/>
          <a:stretch/>
        </p:blipFill>
        <p:spPr>
          <a:xfrm>
            <a:off x="2666880" y="914400"/>
            <a:ext cx="37339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S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243828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ur basic game of cat and mouse, the cat wins when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tches the mou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The mouse wins if it doesn’t get cau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we want to keep track of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t’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score, IF the cat catches the mouse, THEN we want the score to g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p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The variable needs to go in 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f block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ag with score.gif"/>
          <p:cNvPicPr/>
          <p:nvPr/>
        </p:nvPicPr>
        <p:blipFill>
          <a:blip r:embed="rId1"/>
          <a:srcRect l="0" t="71018" r="0" b="0"/>
          <a:stretch/>
        </p:blipFill>
        <p:spPr>
          <a:xfrm>
            <a:off x="6019920" y="1295280"/>
            <a:ext cx="18288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tag - cat scripts.gif"/>
          <p:cNvPicPr/>
          <p:nvPr/>
        </p:nvPicPr>
        <p:blipFill>
          <a:blip r:embed="rId2"/>
          <a:srcRect l="0" t="73441" r="0" b="0"/>
          <a:stretch/>
        </p:blipFill>
        <p:spPr>
          <a:xfrm>
            <a:off x="1143000" y="137160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S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380880" y="2438280"/>
            <a:ext cx="8610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make the scoring more complicated, you c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ubtrac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 point from the cat’s score when something good happens to the mo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lternatively, you can make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ew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for the mouse’s score that increases every time the mouse does something goo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1-05T03:50:48Z</dcterms:modified>
  <cp:revision>39</cp:revision>
  <dc:subject/>
  <dc:title>Slide 1</dc:title>
</cp:coreProperties>
</file>