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0F7-76D7-41A9-89DC-579AF0BF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36A-8AF1-40DD-B856-EA14A308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52D-C43A-458B-BA9F-EC83BA49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41F-AC5C-4117-9B3A-DC0A6A73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B53-1A84-44CB-AD7E-07B2F3CC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D52-7B2C-4C6C-9C8F-02B1AC09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793-CAAF-46F1-B7C3-F1792006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0F5-9417-4205-A87C-AF5B7A12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FE5-4FD8-4D5C-8563-19E7DFFC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FF0-39D4-42F9-B393-3E86EB3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D9A-0161-41EC-B99A-D7CD8F0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99B-BD37-47EA-9B00-6CF6953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C5D6-849C-47B4-97F9-C32AC6191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Controlling Scripts with the Keyboar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ping” Commands to the Key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04920" y="2666880"/>
            <a:ext cx="86104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“when key pressed” block  is 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event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lock. 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un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 script when a button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keyboar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s pressed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hang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which key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ill start the scrip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“when key pressed” block only works at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beginn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f a script.  (You can think of it as a “hat” for the script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when key pressed block.gif"/>
          <p:cNvPicPr/>
          <p:nvPr/>
        </p:nvPicPr>
        <p:blipFill>
          <a:blip r:embed="rId1"/>
          <a:stretch/>
        </p:blipFill>
        <p:spPr>
          <a:xfrm>
            <a:off x="3124080" y="1676520"/>
            <a:ext cx="2909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ping Commands to the Keyboar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04920" y="1600200"/>
            <a:ext cx="8610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control a script with the keyboard, place a “when key pressed” block o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op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f it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oo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which key will run the scrip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when key pressed example 1.gif"/>
          <p:cNvPicPr/>
          <p:nvPr/>
        </p:nvPicPr>
        <p:blipFill>
          <a:blip r:embed="rId1"/>
          <a:stretch/>
        </p:blipFill>
        <p:spPr>
          <a:xfrm>
            <a:off x="3591000" y="2819520"/>
            <a:ext cx="245268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228600" y="5029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n a key on the keyboard starts a script, we say that script has been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appe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to that ke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Desktop</cp:lastModifiedBy>
  <dcterms:modified xsi:type="dcterms:W3CDTF">2013-08-25T20:09:07Z</dcterms:modified>
  <cp:revision>26</cp:revision>
  <dc:subject/>
  <dc:title>Slide 1</dc:title>
</cp:coreProperties>
</file>