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0D1-E4EC-4DC7-8BB1-97C572D2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E926-156B-4D50-9221-FB074622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6DD5-69A6-46ED-8290-130C12D0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6025-B430-4F7E-A7B5-A1602B7A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CBF0-3AF8-4CCF-83AA-4D13F075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D30-3F63-4AB3-9654-98D49A39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F15-A979-4904-9351-174C1462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169-4CF5-4363-85C0-F1201C8C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F976-EE99-4556-9164-08EF967A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B1C-AE02-4029-8BFA-DC4D3480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24BD-2E3B-4774-9E70-DB7DEB83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817C-035B-43B2-951F-112837E4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7345-97A8-467C-BB72-5BF46D8B8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28600" y="5334120"/>
            <a:ext cx="891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Using the Pen 2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 pen color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80880" y="3048120"/>
            <a:ext cx="86108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set pen color block changes the color of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the line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sprite draws when the pen is down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licking on the color box will let you choose the color you want from 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palett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set pen color block.gif"/>
          <p:cNvPicPr/>
          <p:nvPr/>
        </p:nvPicPr>
        <p:blipFill>
          <a:blip r:embed="rId1"/>
          <a:stretch/>
        </p:blipFill>
        <p:spPr>
          <a:xfrm>
            <a:off x="3124080" y="1523880"/>
            <a:ext cx="31244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 pen siz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3"/>
          <p:cNvSpPr/>
          <p:nvPr/>
        </p:nvSpPr>
        <p:spPr>
          <a:xfrm>
            <a:off x="380880" y="3048120"/>
            <a:ext cx="86108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set pen size block changes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thicknes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of the line the sprite draws as it moves.  It has 1 variab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 can change how thick the line is.  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bigger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number makes a wider lin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set pen size block.gif"/>
          <p:cNvPicPr/>
          <p:nvPr/>
        </p:nvPicPr>
        <p:blipFill>
          <a:blip r:embed="rId1"/>
          <a:stretch/>
        </p:blipFill>
        <p:spPr>
          <a:xfrm>
            <a:off x="2971800" y="1523880"/>
            <a:ext cx="3174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w and Hid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3"/>
          <p:cNvSpPr/>
          <p:nvPr/>
        </p:nvSpPr>
        <p:spPr>
          <a:xfrm>
            <a:off x="304920" y="1828800"/>
            <a:ext cx="861048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f you do not want to see the sprite on the stage, use the hide block to make it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invisibl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  The sprite will still move and draw lines while it is invisibl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f you want to make the sprit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visibl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again, use the show block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Both the show and hide blocks can be found in the “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Look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” ta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hide block.gif"/>
          <p:cNvPicPr/>
          <p:nvPr/>
        </p:nvPicPr>
        <p:blipFill>
          <a:blip r:embed="rId1"/>
          <a:stretch/>
        </p:blipFill>
        <p:spPr>
          <a:xfrm>
            <a:off x="3809880" y="990720"/>
            <a:ext cx="1143000" cy="741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show block.gif"/>
          <p:cNvPicPr/>
          <p:nvPr/>
        </p:nvPicPr>
        <p:blipFill>
          <a:blip r:embed="rId2"/>
          <a:stretch/>
        </p:blipFill>
        <p:spPr>
          <a:xfrm>
            <a:off x="3886200" y="4343400"/>
            <a:ext cx="12063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Paul</cp:lastModifiedBy>
  <dcterms:modified xsi:type="dcterms:W3CDTF">2010-10-11T00:14:47Z</dcterms:modified>
  <cp:revision>24</cp:revision>
  <dc:subject/>
  <dc:title>Slide 1</dc:title>
</cp:coreProperties>
</file>