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CDB-DBDA-4E5A-954F-E16AA551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C20-55C2-41F7-AFAF-5EF48DC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47C-B67F-41D9-B1D9-D02E644F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AED-55F5-4CEB-9D93-C67E4C63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92F-5730-4A07-A8DC-F3C07A6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88C-7132-4F79-B0DC-81F8A5FA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247-55AA-4362-AAD0-590DD164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C14-9F7E-414F-9FAD-7DA425B0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40E-721A-4562-8C0B-BE91DD51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F66-2350-4D3C-ABD4-CE5D1A9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D3B-44D1-44EE-9756-778682D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36E-2D3C-40DA-88A1-F5038C5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5212-C409-4256-AE2E-4FD46A3C6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  <a:ea typeface="Arial"/>
              </a:rPr>
              <a:t>Using Costu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stu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stum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changes the way a sprit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ook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By using costumes, you can continue to control a sprite using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ame script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but you can also change it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ppeara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prlog.org/10335931-stormtrooper-costume.jpg"/>
          <p:cNvPicPr/>
          <p:nvPr/>
        </p:nvPicPr>
        <p:blipFill>
          <a:blip r:embed="rId1"/>
          <a:stretch/>
        </p:blipFill>
        <p:spPr>
          <a:xfrm>
            <a:off x="6248520" y="228600"/>
            <a:ext cx="25606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rcRect l="22061" t="5882" r="50002" b="60225"/>
          <a:stretch/>
        </p:blipFill>
        <p:spPr>
          <a:xfrm>
            <a:off x="2268360" y="1111320"/>
            <a:ext cx="2860920" cy="21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stu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228600" y="327672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o add costumes for a sprite, click on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stum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” then click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ain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” or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hoo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import some costumes that hav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lready been mad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in Scratch, or you can paint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brand new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one that looks like whatever you wa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7"/>
          <p:cNvCxnSpPr/>
          <p:nvPr/>
        </p:nvCxnSpPr>
        <p:spPr>
          <a:xfrm>
            <a:off x="914040" y="457200"/>
            <a:ext cx="25153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8"/>
          <p:cNvCxnSpPr/>
          <p:nvPr/>
        </p:nvCxnSpPr>
        <p:spPr>
          <a:xfrm>
            <a:off x="533160" y="847800"/>
            <a:ext cx="25153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Costu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152280" y="330372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Blocks to change a sprite’s costume can be found in the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ook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” t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e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witch costume t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” block will make the sprite change to a specific costume you choo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e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ext costum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” block will make the sprite change to whatever costume is next in its list of costu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24389" t="6342" r="21183" b="35218"/>
          <a:stretch/>
        </p:blipFill>
        <p:spPr>
          <a:xfrm>
            <a:off x="2666880" y="838080"/>
            <a:ext cx="40608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Desktop</cp:lastModifiedBy>
  <dcterms:modified xsi:type="dcterms:W3CDTF">2013-09-29T23:23:09Z</dcterms:modified>
  <cp:revision>42</cp:revision>
  <dc:subject/>
  <dc:title>Slide 1</dc:title>
</cp:coreProperties>
</file>