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DC3-C143-423E-8104-2FE037D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D03-AC8A-4D2B-B031-44E80795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00F-7EDF-48FD-A468-48CC2C8B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60E-BF35-4D27-9876-0AA32C6B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24A-E5A0-4B0A-BF56-11334FF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B67-745F-469D-8A0E-54B02C06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4F4-C537-4EA7-B8AF-608760B9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A32-8551-4F45-9439-A134936A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36C-243C-4AC2-A191-03EDA02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2C6-23F2-44B4-99F5-30604C8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61D-CD54-4F0A-B2F3-FE014F7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A6F-BC34-4E87-972C-EBC947E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A27-8E78-4F5C-AE7E-00F7551CD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Drawing with Variab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ing a Squir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squiral is a combination of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quar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pira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do draw a squiral in Scratch without us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but it would be har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think about the sprite moving to draw the squiral, you might notice that each time it moves, it moves a littl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arth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20574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ing a Squir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152280" y="990720"/>
            <a:ext cx="876312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to d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ke a variable and give it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like “length”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 the variable to a “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ve 10 step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”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the sprite put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pen dow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draw the squiral, the sprite will have to walk, turn, then walk a little farther, the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REPEA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at process.  So add your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v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lock,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tur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lock, and a “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hange varia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” block inside a repeat bloc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315200" y="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variable - length.gif"/>
          <p:cNvPicPr/>
          <p:nvPr/>
        </p:nvPicPr>
        <p:blipFill>
          <a:blip r:embed="rId2"/>
          <a:stretch/>
        </p:blipFill>
        <p:spPr>
          <a:xfrm>
            <a:off x="7315200" y="1828800"/>
            <a:ext cx="466560" cy="1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ove with variable.gif"/>
          <p:cNvPicPr/>
          <p:nvPr/>
        </p:nvPicPr>
        <p:blipFill>
          <a:blip r:embed="rId3"/>
          <a:stretch/>
        </p:blipFill>
        <p:spPr>
          <a:xfrm>
            <a:off x="6781680" y="2514600"/>
            <a:ext cx="1238400" cy="25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en down block.gif"/>
          <p:cNvPicPr/>
          <p:nvPr/>
        </p:nvPicPr>
        <p:blipFill>
          <a:blip r:embed="rId4"/>
          <a:stretch/>
        </p:blipFill>
        <p:spPr>
          <a:xfrm>
            <a:off x="5410080" y="3200400"/>
            <a:ext cx="61920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squiral.gif"/>
          <p:cNvPicPr/>
          <p:nvPr/>
        </p:nvPicPr>
        <p:blipFill>
          <a:blip r:embed="rId5"/>
          <a:stretch/>
        </p:blipFill>
        <p:spPr>
          <a:xfrm>
            <a:off x="3581280" y="5081760"/>
            <a:ext cx="213372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14T03:06:59Z</dcterms:modified>
  <cp:revision>28</cp:revision>
  <dc:subject/>
  <dc:title>Slide 1</dc:title>
</cp:coreProperties>
</file>