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1D3-268F-4043-AA4E-7316370A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3B5-1851-4508-B648-4DA3829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009-DBEA-46F2-B042-9E578DB8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AA5-0E69-4FA4-ABC8-E2BCA67D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D8D-BD58-4017-8B8A-C0342C03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18E-74E0-4237-A58A-78699319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114-835E-4C1F-B1BE-1631327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6F8-13E6-4B66-9AF9-08313358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1AC-1383-4545-845D-D9628952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022-E179-45FB-90BA-D4BA3F2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24B-D6E6-42ED-9FD9-850B63C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A92-2A10-444C-A7BD-191BED01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7C2-8C63-4E7A-A672-5933946D1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  <a:ea typeface="Arial"/>
              </a:rPr>
              <a:t>Intro to Operato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2438280"/>
            <a:ext cx="8610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In Scratch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perator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let you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nec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other ideas togeth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Many of these operators do things you have seen i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farm4.static.flickr.com/3007/2680257100_69b12c6e7d.jpg"/>
          <p:cNvPicPr/>
          <p:nvPr/>
        </p:nvPicPr>
        <p:blipFill>
          <a:blip r:embed="rId1"/>
          <a:stretch/>
        </p:blipFill>
        <p:spPr>
          <a:xfrm>
            <a:off x="533520" y="304920"/>
            <a:ext cx="2651040" cy="324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rcRect l="25413" t="6670" r="54412" b="26471"/>
          <a:stretch/>
        </p:blipFill>
        <p:spPr>
          <a:xfrm>
            <a:off x="6172200" y="609480"/>
            <a:ext cx="1476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152280" y="914400"/>
            <a:ext cx="8610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Some operators let you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mpar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values (like number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Other operators let you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mbi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other block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greater less and equal blocks.gif"/>
          <p:cNvPicPr/>
          <p:nvPr/>
        </p:nvPicPr>
        <p:blipFill>
          <a:blip r:embed="rId1"/>
          <a:stretch/>
        </p:blipFill>
        <p:spPr>
          <a:xfrm>
            <a:off x="1905120" y="2133720"/>
            <a:ext cx="487656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 or blocks.gif"/>
          <p:cNvPicPr/>
          <p:nvPr/>
        </p:nvPicPr>
        <p:blipFill>
          <a:blip r:embed="rId2"/>
          <a:stretch/>
        </p:blipFill>
        <p:spPr>
          <a:xfrm>
            <a:off x="1246320" y="4525920"/>
            <a:ext cx="6526080" cy="60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and example.gif"/>
          <p:cNvPicPr/>
          <p:nvPr/>
        </p:nvPicPr>
        <p:blipFill>
          <a:blip r:embed="rId3"/>
          <a:stretch/>
        </p:blipFill>
        <p:spPr>
          <a:xfrm>
            <a:off x="2590920" y="5257800"/>
            <a:ext cx="428148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greater than example.gif"/>
          <p:cNvPicPr/>
          <p:nvPr/>
        </p:nvPicPr>
        <p:blipFill>
          <a:blip r:embed="rId4"/>
          <a:stretch/>
        </p:blipFill>
        <p:spPr>
          <a:xfrm>
            <a:off x="3124080" y="28195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152280" y="2514600"/>
            <a:ext cx="86108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ill the sprite say “Hello!” when you run this scrip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hat will the variable “X” be after you run this scrip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reater than example 2.gif"/>
          <p:cNvPicPr/>
          <p:nvPr/>
        </p:nvPicPr>
        <p:blipFill>
          <a:blip r:embed="rId1"/>
          <a:stretch/>
        </p:blipFill>
        <p:spPr>
          <a:xfrm>
            <a:off x="3733920" y="10666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ess than example.gif"/>
          <p:cNvPicPr/>
          <p:nvPr/>
        </p:nvPicPr>
        <p:blipFill>
          <a:blip r:embed="rId2"/>
          <a:stretch/>
        </p:blipFill>
        <p:spPr>
          <a:xfrm>
            <a:off x="3809880" y="3886200"/>
            <a:ext cx="19051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PaulDesktop</cp:lastModifiedBy>
  <dcterms:modified xsi:type="dcterms:W3CDTF">2013-10-05T21:20:41Z</dcterms:modified>
  <cp:revision>48</cp:revision>
  <dc:subject/>
  <dc:title>Slide 1</dc:title>
</cp:coreProperties>
</file>