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4DC-1011-4CC6-8D95-36ABCFC1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883-85A8-4016-BA6C-1908383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F56-C596-48CD-B64D-4AEA7B8E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5C1-7E40-4ECB-95E0-64BCF2A7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E21-D53E-4C2A-8763-5FA1C72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BFC-BB6A-4D6E-9C62-02BD42E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A2F-A0EE-4DFB-A601-FAE2F13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D1E-A7F0-4D66-B86D-456CE468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60E-02DA-460C-844A-FF70E291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215-BF5D-45D1-96F4-7735F17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E1A-8128-4036-B956-284E3E6D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A26-9B3D-4082-8308-4B8D3F3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5E30-BCD0-4279-947B-B1CA68E2A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Lis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7631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ists stor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formati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n a certain ord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emov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earrang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tems in a list.  You can als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ick ou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nformation from a lis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http://t1.gstatic.com/images?q=tbn:ANd9GcQE40c4dwBaTNCBgJ6dP8crF-of435Cewp1dh_w5WvdmZwze-75ow"/>
          <p:cNvPicPr/>
          <p:nvPr/>
        </p:nvPicPr>
        <p:blipFill>
          <a:blip r:embed="rId1"/>
          <a:stretch/>
        </p:blipFill>
        <p:spPr>
          <a:xfrm>
            <a:off x="3505320" y="1523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152280" y="609480"/>
            <a:ext cx="8610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make a new list, go to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ab and click on “Make a list”.  Give the list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am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you will rememb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nce you hav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ad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 list, you will be able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ntrol i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sing a new set of block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There should be an image here"/>
          <p:cNvPicPr/>
          <p:nvPr/>
        </p:nvPicPr>
        <p:blipFill>
          <a:blip r:embed="rId1"/>
          <a:stretch/>
        </p:blipFill>
        <p:spPr>
          <a:xfrm>
            <a:off x="3276720" y="3657600"/>
            <a:ext cx="25430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to use 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152280" y="609480"/>
            <a:ext cx="86108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re are many reasons to use lists when programming.  For 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save a list of players and thei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high scor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n a ga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have your game recognize whether somebody is playing for the first time o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eturn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keep track of things you nee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o d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y make refrigerators now that keep track of what’s in your fridge, tell you what you need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buy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and give you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ecip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Futuristic Smart Fridge: Input Ingredients, Receive Recipes!"/>
          <p:cNvPicPr/>
          <p:nvPr/>
        </p:nvPicPr>
        <p:blipFill>
          <a:blip r:embed="rId1"/>
          <a:stretch/>
        </p:blipFill>
        <p:spPr>
          <a:xfrm>
            <a:off x="5486400" y="4648320"/>
            <a:ext cx="2276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1-01-10T03:02:07Z</dcterms:modified>
  <cp:revision>58</cp:revision>
  <dc:subject/>
  <dc:title>Slide 1</dc:title>
</cp:coreProperties>
</file>