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BF7C-7450-4178-8DE5-56958215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BE1-4675-4EE3-B0C1-2BD657AD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C28A-99F0-4DBA-A7EB-4A008F46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C69-5A16-4D75-84F2-E9B9B804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A03B-6BF2-458C-A270-D2B888CE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2849-73CB-4561-B9F7-E273964D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2753-3E0D-45C1-A90F-5A97AE10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FD9-9505-403F-BFD2-088B581A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F8E3-32EB-4C29-B871-487FDED9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D50-A5A7-4F06-A584-0D799DB7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5B4-5671-4AA6-9A6A-B46142B3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D9DF-7986-4924-9306-8C18B381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CE01-1330-4C35-8965-1B6AC858A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Coordinates in Scratc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tage is a Coordinate Pl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80880" y="2438280"/>
            <a:ext cx="8610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x axis goes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ide to sid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y axis goes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up and down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very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poin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on the stage has a position on the x axis and a position on the y axis.  We write that position in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parenthes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nd put the x position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firs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xample: (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150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50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oordinate plane.gif"/>
          <p:cNvPicPr/>
          <p:nvPr/>
        </p:nvPicPr>
        <p:blipFill>
          <a:blip r:embed="rId1"/>
          <a:stretch/>
        </p:blipFill>
        <p:spPr>
          <a:xfrm>
            <a:off x="2438280" y="914400"/>
            <a:ext cx="36576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Oval 5"/>
          <p:cNvSpPr/>
          <p:nvPr/>
        </p:nvSpPr>
        <p:spPr>
          <a:xfrm>
            <a:off x="3048120" y="1828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pes on the Coordinate Pl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3"/>
          <p:cNvSpPr/>
          <p:nvPr/>
        </p:nvSpPr>
        <p:spPr>
          <a:xfrm>
            <a:off x="380880" y="2057400"/>
            <a:ext cx="861084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hap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on the coordinate plane can be drawn by finding the coordinates of its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orner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First point: (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75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40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econd point: (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75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40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ird point: (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75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50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Fourth point: (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75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50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coordinate plane.gif"/>
          <p:cNvPicPr/>
          <p:nvPr/>
        </p:nvPicPr>
        <p:blipFill>
          <a:blip r:embed="rId1"/>
          <a:stretch/>
        </p:blipFill>
        <p:spPr>
          <a:xfrm>
            <a:off x="2438280" y="914400"/>
            <a:ext cx="36576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Rectangle 7"/>
          <p:cNvSpPr/>
          <p:nvPr/>
        </p:nvSpPr>
        <p:spPr>
          <a:xfrm>
            <a:off x="3733920" y="1981080"/>
            <a:ext cx="1066680" cy="6858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8"/>
          <p:cNvSpPr/>
          <p:nvPr/>
        </p:nvSpPr>
        <p:spPr>
          <a:xfrm>
            <a:off x="3657600" y="190512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9"/>
          <p:cNvSpPr/>
          <p:nvPr/>
        </p:nvSpPr>
        <p:spPr>
          <a:xfrm>
            <a:off x="4724280" y="1905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0"/>
          <p:cNvSpPr/>
          <p:nvPr/>
        </p:nvSpPr>
        <p:spPr>
          <a:xfrm>
            <a:off x="4724280" y="25909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1"/>
          <p:cNvSpPr/>
          <p:nvPr/>
        </p:nvSpPr>
        <p:spPr>
          <a:xfrm>
            <a:off x="3657600" y="259092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ould the script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3"/>
          <p:cNvSpPr/>
          <p:nvPr/>
        </p:nvSpPr>
        <p:spPr>
          <a:xfrm>
            <a:off x="152280" y="2438280"/>
            <a:ext cx="8763120" cy="28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coordinate plane.gif"/>
          <p:cNvPicPr/>
          <p:nvPr/>
        </p:nvPicPr>
        <p:blipFill>
          <a:blip r:embed="rId1"/>
          <a:stretch/>
        </p:blipFill>
        <p:spPr>
          <a:xfrm>
            <a:off x="228600" y="762120"/>
            <a:ext cx="36576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Rectangle 6"/>
          <p:cNvSpPr/>
          <p:nvPr/>
        </p:nvSpPr>
        <p:spPr>
          <a:xfrm>
            <a:off x="1523880" y="1828800"/>
            <a:ext cx="1067040" cy="6858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drawing a rectangle template.gif"/>
          <p:cNvPicPr/>
          <p:nvPr/>
        </p:nvPicPr>
        <p:blipFill>
          <a:blip r:embed="rId2"/>
          <a:stretch/>
        </p:blipFill>
        <p:spPr>
          <a:xfrm>
            <a:off x="4800600" y="990720"/>
            <a:ext cx="3505320" cy="4673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9"/>
          <p:cNvSpPr/>
          <p:nvPr/>
        </p:nvSpPr>
        <p:spPr>
          <a:xfrm>
            <a:off x="6553080" y="1752480"/>
            <a:ext cx="533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7696080" y="1752480"/>
            <a:ext cx="533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6629400" y="3048120"/>
            <a:ext cx="533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7620120" y="3048120"/>
            <a:ext cx="533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6553080" y="3733920"/>
            <a:ext cx="533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7696080" y="3733920"/>
            <a:ext cx="533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6629400" y="4343400"/>
            <a:ext cx="533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7696080" y="4419720"/>
            <a:ext cx="533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6629400" y="5029200"/>
            <a:ext cx="533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7696080" y="5029200"/>
            <a:ext cx="533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</cp:lastModifiedBy>
  <dcterms:modified xsi:type="dcterms:W3CDTF">2010-10-25T01:24:22Z</dcterms:modified>
  <cp:revision>37</cp:revision>
  <dc:subject/>
  <dc:title>Slide 1</dc:title>
</cp:coreProperties>
</file>