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846-CF8A-4626-8802-A4A618A9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6D9-B226-4F6D-B011-46F1FDB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BAF-F91B-43B9-94B9-F74F25F9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E96-5809-4ABF-A8AA-4656E466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577-F5F7-4D86-969A-46E30E9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E74-CF54-48A0-889D-F52BC4B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75F-5785-4E35-9621-CEE6F269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B08-099C-4CFA-BE6B-7C3C297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5DD-F707-44F0-8ADB-980B633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2EC-0F59-4798-8757-AAECEF2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698-4B4E-4F90-9541-4F51156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857-4278-4652-B549-5211274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7FD-3ACE-43A6-A28F-DE1BDBED4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oordinate plane.gif"/>
          <p:cNvPicPr/>
          <p:nvPr/>
        </p:nvPicPr>
        <p:blipFill>
          <a:blip r:embed="rId1"/>
          <a:stretch/>
        </p:blipFill>
        <p:spPr>
          <a:xfrm>
            <a:off x="914400" y="762120"/>
            <a:ext cx="71928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0:51:43Z</dcterms:created>
  <dc:creator>Paul</dc:creator>
  <dc:description/>
  <dc:language>en-US</dc:language>
  <cp:lastModifiedBy>Paul</cp:lastModifiedBy>
  <dcterms:modified xsi:type="dcterms:W3CDTF">2010-10-25T00:53:03Z</dcterms:modified>
  <cp:revision>1</cp:revision>
  <dc:subject/>
  <dc:title>Slide 1</dc:title>
</cp:coreProperties>
</file>