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B52-10A4-42EC-925F-9FCCA2DF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4FC-1F80-4E9C-B37E-D9DE59A8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223B-7060-4EF2-9791-A522DFEA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EB7-95D7-4753-B49D-8EB8D160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5768-6050-4896-8E73-2103F84E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89D-03F6-4BD5-9F82-09899DE5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02AC-3144-48A1-BD7F-D079353F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58C5-DCE1-4B86-81AF-02D43B47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4863-FE8A-4585-A594-5FC227FF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442-0A40-4684-B245-DBDF805D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2D89-4821-4F88-AA67-ADF9B33A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46F-2659-46AA-975E-2F60F91D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0535-EA86-46A3-A80D-54D1DB4F6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28600" y="5334120"/>
            <a:ext cx="891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Making Variabl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 You Kno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04920" y="2666880"/>
            <a:ext cx="861048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 variable is anything that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hang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over tim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 have already used 2 variables in Scratch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Volume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emp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But what if we want to change something else besides the volume or temp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volume block.gif"/>
          <p:cNvPicPr/>
          <p:nvPr/>
        </p:nvPicPr>
        <p:blipFill>
          <a:blip r:embed="rId1"/>
          <a:stretch/>
        </p:blipFill>
        <p:spPr>
          <a:xfrm>
            <a:off x="1523880" y="1447920"/>
            <a:ext cx="1865520" cy="609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tempo block.gif"/>
          <p:cNvPicPr/>
          <p:nvPr/>
        </p:nvPicPr>
        <p:blipFill>
          <a:blip r:embed="rId2"/>
          <a:stretch/>
        </p:blipFill>
        <p:spPr>
          <a:xfrm>
            <a:off x="5562720" y="1447920"/>
            <a:ext cx="1720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ng a New Variabl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3"/>
          <p:cNvSpPr/>
          <p:nvPr/>
        </p:nvSpPr>
        <p:spPr>
          <a:xfrm>
            <a:off x="228600" y="4267080"/>
            <a:ext cx="86104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o make a new variab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lick on the “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Data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” ta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lick “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Make a variabl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Give your variable 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na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rcRect l="23305" t="7170" r="52943" b="62287"/>
          <a:stretch/>
        </p:blipFill>
        <p:spPr>
          <a:xfrm>
            <a:off x="3586320" y="1212840"/>
            <a:ext cx="3800160" cy="3054240"/>
          </a:xfrm>
          <a:prstGeom prst="rect">
            <a:avLst/>
          </a:prstGeom>
          <a:ln w="0">
            <a:noFill/>
          </a:ln>
        </p:spPr>
      </p:pic>
      <p:cxnSp>
        <p:nvCxnSpPr>
          <p:cNvPr id="52" name="Straight Arrow Connector 6"/>
          <p:cNvCxnSpPr/>
          <p:nvPr/>
        </p:nvCxnSpPr>
        <p:spPr>
          <a:xfrm>
            <a:off x="2739960" y="1676520"/>
            <a:ext cx="1829520" cy="8388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" name="Picture 10" descr=""/>
          <p:cNvPicPr/>
          <p:nvPr/>
        </p:nvPicPr>
        <p:blipFill>
          <a:blip r:embed="rId2"/>
          <a:srcRect l="41089" t="41363" r="40682" b="38325"/>
          <a:stretch/>
        </p:blipFill>
        <p:spPr>
          <a:xfrm>
            <a:off x="5508720" y="4648320"/>
            <a:ext cx="2916000" cy="20318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7"/>
          <p:cNvCxnSpPr/>
          <p:nvPr/>
        </p:nvCxnSpPr>
        <p:spPr>
          <a:xfrm flipV="1">
            <a:off x="2663640" y="3047760"/>
            <a:ext cx="1905480" cy="3052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ng a New Variable, continued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3"/>
          <p:cNvSpPr/>
          <p:nvPr/>
        </p:nvSpPr>
        <p:spPr>
          <a:xfrm>
            <a:off x="3048120" y="1600200"/>
            <a:ext cx="57909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 now hav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new blocks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o use with your variable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 can add your variable to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any block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at has a variabl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my variable in note block.gif"/>
          <p:cNvPicPr/>
          <p:nvPr/>
        </p:nvPicPr>
        <p:blipFill>
          <a:blip r:embed="rId1"/>
          <a:stretch/>
        </p:blipFill>
        <p:spPr>
          <a:xfrm>
            <a:off x="3505320" y="4191120"/>
            <a:ext cx="4622760" cy="533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rcRect l="27033" t="6094" r="52290" b="20910"/>
          <a:stretch/>
        </p:blipFill>
        <p:spPr>
          <a:xfrm>
            <a:off x="25560" y="1074600"/>
            <a:ext cx="2931840" cy="56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Your Variabl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0" y="2514600"/>
            <a:ext cx="914400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 can change your variable using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et variabl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hange variabl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blocks, just like you did with tempo and volum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Remember to use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heckbox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to keep track of what your variable is at any tim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new variable with note.gif"/>
          <p:cNvPicPr/>
          <p:nvPr/>
        </p:nvPicPr>
        <p:blipFill>
          <a:blip r:embed="rId1"/>
          <a:stretch/>
        </p:blipFill>
        <p:spPr>
          <a:xfrm>
            <a:off x="2971800" y="1066680"/>
            <a:ext cx="3124080" cy="1295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2"/>
          <a:srcRect l="0" t="5806" r="53564" b="53126"/>
          <a:stretch/>
        </p:blipFill>
        <p:spPr>
          <a:xfrm>
            <a:off x="3352680" y="4676760"/>
            <a:ext cx="4114800" cy="2274840"/>
          </a:xfrm>
          <a:prstGeom prst="rect">
            <a:avLst/>
          </a:prstGeom>
          <a:ln w="0">
            <a:noFill/>
          </a:ln>
        </p:spPr>
      </p:pic>
      <p:cxnSp>
        <p:nvCxnSpPr>
          <p:cNvPr id="63" name="Straight Arrow Connector 6"/>
          <p:cNvCxnSpPr/>
          <p:nvPr/>
        </p:nvCxnSpPr>
        <p:spPr>
          <a:xfrm>
            <a:off x="1371240" y="5189040"/>
            <a:ext cx="1981800" cy="4201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7"/>
          <p:cNvCxnSpPr/>
          <p:nvPr/>
        </p:nvCxnSpPr>
        <p:spPr>
          <a:xfrm flipH="1">
            <a:off x="6628680" y="5095440"/>
            <a:ext cx="1677240" cy="762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the time that’s lef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in the Making Variables work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will need to draw each script you make on your workshe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PaulDesktop</cp:lastModifiedBy>
  <dcterms:modified xsi:type="dcterms:W3CDTF">2013-08-25T20:06:33Z</dcterms:modified>
  <cp:revision>20</cp:revision>
  <dc:subject/>
  <dc:title>Slide 1</dc:title>
</cp:coreProperties>
</file>