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C17-5BB1-4992-9650-7BFB84EC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1DB-F050-479B-9FBB-783F3550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190-8971-477A-A344-376F7488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316-0AFB-4090-892D-5DCF6F76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C37-BA8F-4082-9AC8-37358E41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DDC-2C82-49DA-AAC7-149A0BA4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AA7-4631-4565-A7DA-B4C66D5F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AEA-C7BE-46B3-9199-2A442AC3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423-E0D1-423D-997B-1A06F74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7A5-3A86-4FC8-B387-5B953D05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C05-8765-49E6-81B6-B99012B3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43D-2025-4120-8789-1265FE18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EAF-C2CA-474D-B7C5-C1D674F5A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Drawing with Coordinat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 To X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go to x y block makes the sprite move to the x and y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ordinat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you provide.  It has 2 variab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change the position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x axi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change the position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y axi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go to x y block.gif"/>
          <p:cNvPicPr/>
          <p:nvPr/>
        </p:nvPicPr>
        <p:blipFill>
          <a:blip r:embed="rId1"/>
          <a:stretch/>
        </p:blipFill>
        <p:spPr>
          <a:xfrm>
            <a:off x="3124080" y="1219320"/>
            <a:ext cx="3086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 To X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2438280"/>
            <a:ext cx="86108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the sprite has the pen down while it moves, it will draw a line from where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tart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o where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end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may find it helpful to change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backgroun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n the stage by adding the x and y ax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you don’t want the sprite to draw a line when it moves, you need to make sure to have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lift the pen up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go to x y block.gif"/>
          <p:cNvPicPr/>
          <p:nvPr/>
        </p:nvPicPr>
        <p:blipFill>
          <a:blip r:embed="rId1"/>
          <a:stretch/>
        </p:blipFill>
        <p:spPr>
          <a:xfrm>
            <a:off x="2971800" y="1295280"/>
            <a:ext cx="30862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en down block.gif"/>
          <p:cNvPicPr/>
          <p:nvPr/>
        </p:nvPicPr>
        <p:blipFill>
          <a:blip r:embed="rId2"/>
          <a:stretch/>
        </p:blipFill>
        <p:spPr>
          <a:xfrm>
            <a:off x="304920" y="1295280"/>
            <a:ext cx="206352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en up blocks.gif"/>
          <p:cNvPicPr/>
          <p:nvPr/>
        </p:nvPicPr>
        <p:blipFill>
          <a:blip r:embed="rId3"/>
          <a:stretch/>
        </p:blipFill>
        <p:spPr>
          <a:xfrm>
            <a:off x="6553080" y="1295280"/>
            <a:ext cx="19051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ing a house with coordinat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152280" y="2438280"/>
            <a:ext cx="87631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at to d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the sprite put the pen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dow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start at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(0,0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the sprite move to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(0,10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the sprite move to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100,175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the sprite move to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200,100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the sprite move to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200,0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the sprite move back to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0,0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ouse with coordinates.gif"/>
          <p:cNvPicPr/>
          <p:nvPr/>
        </p:nvPicPr>
        <p:blipFill>
          <a:blip r:embed="rId1"/>
          <a:stretch/>
        </p:blipFill>
        <p:spPr>
          <a:xfrm>
            <a:off x="5816520" y="838080"/>
            <a:ext cx="2946600" cy="2210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6" name="Picture 10" descr="house drawn with coordinates.gif"/>
          <p:cNvPicPr/>
          <p:nvPr/>
        </p:nvPicPr>
        <p:blipFill>
          <a:blip r:embed="rId2"/>
          <a:stretch/>
        </p:blipFill>
        <p:spPr>
          <a:xfrm>
            <a:off x="6324480" y="3962520"/>
            <a:ext cx="22100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0-21T02:00:55Z</dcterms:modified>
  <cp:revision>33</cp:revision>
  <dc:subject/>
  <dc:title>Slide 1</dc:title>
</cp:coreProperties>
</file>