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F00-F060-44D5-862F-4746B123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BECE-6EE2-4C87-BA06-94A84F54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5917-0841-42DC-9D4B-07C8406C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75D9-4B21-4742-8406-ADEC7616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DDF-13B3-4D9A-9AFA-E791FE33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EF0-9262-4AF3-82EF-FBD37C89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138F-4734-4185-97F0-D5BCB0D5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D40-688F-4EF4-85A0-3A49C9DE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BB11-117F-49A3-BF26-86546814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09BE-D555-44AA-BAA2-5FA81462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9B8C-126E-4F35-BF19-304FC350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73D-3B89-4B62-ADDC-4DB5D548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F4C3-5084-4A18-83DB-056CBAF97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80880" y="2438280"/>
            <a:ext cx="86108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bug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is 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mistak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in a computer program that makes it not work the way it is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upposed to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f a computer program (or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crip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) doesn’t work the way it is supposed to, that is almost always because of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human error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ww.apexoosoftware.com/userfiles/image/bug_no_400.png"/>
          <p:cNvPicPr/>
          <p:nvPr/>
        </p:nvPicPr>
        <p:blipFill>
          <a:blip r:embed="rId1"/>
          <a:stretch/>
        </p:blipFill>
        <p:spPr>
          <a:xfrm>
            <a:off x="3429000" y="990720"/>
            <a:ext cx="17366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3"/>
          <p:cNvSpPr/>
          <p:nvPr/>
        </p:nvSpPr>
        <p:spPr>
          <a:xfrm>
            <a:off x="380880" y="2438280"/>
            <a:ext cx="86108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Debugging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is the process of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fixing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the bugs in a computer program so that it works the way it is supposed t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http://digitalpilgrim.typepad.com/the_digital_pilgrim/WindowsLiveWriter/spam.irritating.pernicious.illegal.immo_6DC3/ist2_2950767_exterminator%255B2%255D.jpg"/>
          <p:cNvPicPr/>
          <p:nvPr/>
        </p:nvPicPr>
        <p:blipFill>
          <a:blip r:embed="rId1"/>
          <a:stretch/>
        </p:blipFill>
        <p:spPr>
          <a:xfrm>
            <a:off x="6324480" y="380880"/>
            <a:ext cx="24685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7621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Single Ste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3"/>
          <p:cNvSpPr/>
          <p:nvPr/>
        </p:nvSpPr>
        <p:spPr>
          <a:xfrm>
            <a:off x="0" y="2819520"/>
            <a:ext cx="876312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f your script, or program, isn’t working the way you expect it to, a good debugging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trategy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can be to run the script in “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ingle stepping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” mode.  This will cause Scratch to run the script more slowly and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highligh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each block as it is run.  This can help you see which part of the script is causing the proble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o start single stepping, go to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Edi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menu and select “Start Single Stepping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rcRect l="5237" t="0" r="69048" b="64191"/>
          <a:stretch/>
        </p:blipFill>
        <p:spPr>
          <a:xfrm>
            <a:off x="6095880" y="228600"/>
            <a:ext cx="292572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Paul</cp:lastModifiedBy>
  <dcterms:modified xsi:type="dcterms:W3CDTF">2010-11-01T00:12:07Z</dcterms:modified>
  <cp:revision>35</cp:revision>
  <dc:subject/>
  <dc:title>Slide 1</dc:title>
</cp:coreProperties>
</file>