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CCEA-74EE-4BE0-8390-3924A39F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5881-5E4E-4642-85CC-F4F86946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20DB-D522-4105-AA00-28BF2622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8DA9-17CF-4527-87A3-D5A46C3F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5F6-8CD5-4FA3-9582-A857842B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BAC5-00A3-4E62-A524-062148CF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9CFC-FC8B-439C-9C3D-AC359E0D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2BB3-AF9C-4BD5-AC52-E9FFBF67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F560-15A1-4745-86A5-DE939F97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063C-59E5-4019-BCDB-D1755E83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57B5-C87D-4A0F-AA0F-B227C249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867B-E36A-495E-8C79-874EB50D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33BC-287A-4EE4-A61F-74C947D55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edtechvision.org/wp-content/uploads/2008/10/scratch_logo.png"/>
          <p:cNvPicPr/>
          <p:nvPr/>
        </p:nvPicPr>
        <p:blipFill>
          <a:blip r:embed="rId1"/>
          <a:stretch/>
        </p:blipFill>
        <p:spPr>
          <a:xfrm>
            <a:off x="1905120" y="152280"/>
            <a:ext cx="4983120" cy="4610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28600" y="5334120"/>
            <a:ext cx="8915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omic Sans MS"/>
              </a:rPr>
              <a:t>Using the Pe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 dow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3"/>
          <p:cNvSpPr/>
          <p:nvPr/>
        </p:nvSpPr>
        <p:spPr>
          <a:xfrm>
            <a:off x="380880" y="3048120"/>
            <a:ext cx="86108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en blocks can be found in the pen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tab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pen down block makes the sprit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draw a lin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as it mov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The sprite will continue to draw a line until you have it lift the pen back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up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pen down block.gif"/>
          <p:cNvPicPr/>
          <p:nvPr/>
        </p:nvPicPr>
        <p:blipFill>
          <a:blip r:embed="rId1"/>
          <a:stretch/>
        </p:blipFill>
        <p:spPr>
          <a:xfrm>
            <a:off x="3733920" y="1600200"/>
            <a:ext cx="182880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 up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3"/>
          <p:cNvSpPr/>
          <p:nvPr/>
        </p:nvSpPr>
        <p:spPr>
          <a:xfrm>
            <a:off x="380880" y="3048120"/>
            <a:ext cx="861084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pen up block makes the sprit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stop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drawing lines as it mov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This does NOT make the lines you’ve already drawn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disappear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pen up blocks.gif"/>
          <p:cNvPicPr/>
          <p:nvPr/>
        </p:nvPicPr>
        <p:blipFill>
          <a:blip r:embed="rId1"/>
          <a:stretch/>
        </p:blipFill>
        <p:spPr>
          <a:xfrm>
            <a:off x="3733920" y="1676520"/>
            <a:ext cx="1711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r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3"/>
          <p:cNvSpPr/>
          <p:nvPr/>
        </p:nvSpPr>
        <p:spPr>
          <a:xfrm>
            <a:off x="380880" y="3048120"/>
            <a:ext cx="8610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clear block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erase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all of the pen lines that have already been draw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lear block.gif"/>
          <p:cNvPicPr/>
          <p:nvPr/>
        </p:nvPicPr>
        <p:blipFill>
          <a:blip r:embed="rId1"/>
          <a:stretch/>
        </p:blipFill>
        <p:spPr>
          <a:xfrm>
            <a:off x="4038480" y="1447920"/>
            <a:ext cx="129564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3:48:57Z</dcterms:created>
  <dc:creator>Paul</dc:creator>
  <dc:description/>
  <dc:language>en-US</dc:language>
  <cp:lastModifiedBy>Paul</cp:lastModifiedBy>
  <dcterms:modified xsi:type="dcterms:W3CDTF">2010-10-06T03:28:17Z</dcterms:modified>
  <cp:revision>21</cp:revision>
  <dc:subject/>
  <dc:title>Slide 1</dc:title>
</cp:coreProperties>
</file>