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0C9-8ACA-422F-B456-26C55CA4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E02-5862-4B00-ADA4-C71310B5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7FA-1B67-4793-A096-88A8405F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34CB-1B29-4A73-B83A-4737EE47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D6F9-B95E-49BD-9E5B-F5A93931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372-39B8-4C26-8954-3CF6A96B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6C1E-F1DF-4B5F-A3BD-F9923E16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1EE-FB5D-4C4A-B8DC-2270C938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3E5-B381-4A23-AB2F-A966D3AB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C15-717B-4233-81EC-31E180F0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E64-3D82-4B3C-B362-D7327C97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3B8-D46A-4267-80F6-13AEE8BC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3E97-A065-49EF-A5CB-877CF4B7E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Notes &amp; Repeat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9" descr="play note block"/>
          <p:cNvPicPr/>
          <p:nvPr/>
        </p:nvPicPr>
        <p:blipFill>
          <a:blip r:embed="rId1"/>
          <a:stretch/>
        </p:blipFill>
        <p:spPr>
          <a:xfrm>
            <a:off x="1447920" y="1828800"/>
            <a:ext cx="603252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23"/>
          <p:cNvSpPr/>
          <p:nvPr/>
        </p:nvSpPr>
        <p:spPr>
          <a:xfrm>
            <a:off x="380880" y="3048120"/>
            <a:ext cx="86108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play note block plays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musical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note.  It has 2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You can change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not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You can change how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on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the note plays (in beats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t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3"/>
          <p:cNvSpPr/>
          <p:nvPr/>
        </p:nvSpPr>
        <p:spPr>
          <a:xfrm>
            <a:off x="380880" y="3048120"/>
            <a:ext cx="8610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rest block makes the script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paus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  It has 1 variab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You can change how long the pause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lasts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(in beats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rest block"/>
          <p:cNvPicPr/>
          <p:nvPr/>
        </p:nvPicPr>
        <p:blipFill>
          <a:blip r:embed="rId1"/>
          <a:stretch/>
        </p:blipFill>
        <p:spPr>
          <a:xfrm>
            <a:off x="2286000" y="1676520"/>
            <a:ext cx="4762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eat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3"/>
          <p:cNvSpPr/>
          <p:nvPr/>
        </p:nvSpPr>
        <p:spPr>
          <a:xfrm>
            <a:off x="380880" y="3048120"/>
            <a:ext cx="86108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repeat block tells the computer to do the same thing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over and over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gain.  It has 1 variab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You can change how many times to repeat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block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inside the repeat block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repeat block"/>
          <p:cNvPicPr/>
          <p:nvPr/>
        </p:nvPicPr>
        <p:blipFill>
          <a:blip r:embed="rId1"/>
          <a:stretch/>
        </p:blipFill>
        <p:spPr>
          <a:xfrm>
            <a:off x="2895480" y="1295280"/>
            <a:ext cx="2805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eats, continue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80880" y="3048120"/>
            <a:ext cx="8610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Other blocks can be placed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inside of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the repeat block.  Everything inside the repeat block will be repeated as many times as you wa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repeat and two notes"/>
          <p:cNvPicPr/>
          <p:nvPr/>
        </p:nvPicPr>
        <p:blipFill>
          <a:blip r:embed="rId1"/>
          <a:stretch/>
        </p:blipFill>
        <p:spPr>
          <a:xfrm>
            <a:off x="2743200" y="1295280"/>
            <a:ext cx="3598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the time that’s lef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 the Notes and Repeats work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write the scripts for each question in Scratch to help you find the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</cp:lastModifiedBy>
  <dcterms:modified xsi:type="dcterms:W3CDTF">2010-09-20T02:12:47Z</dcterms:modified>
  <cp:revision>10</cp:revision>
  <dc:subject/>
  <dc:title>Slide 1</dc:title>
</cp:coreProperties>
</file>