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479-C3EA-4B79-B73A-330A1F33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CBA-A8B4-49D9-84DB-033076C7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C0F-839A-4B5E-B09E-7CAD07A6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A44-7199-4EDF-8880-4D4CC085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95E-8AAE-48EA-98BA-3A31DF02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603-CB74-4EA5-92BF-5BA86A7A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16D-6BF9-43C3-B87D-06F63D4B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FC1-BD72-46A8-B0C7-452BACFB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C80-3BE0-4001-97C6-2B87CF93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052-44C5-4190-B174-AF9E7B11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CD4-C6C2-4B68-BF02-E5CAD4E8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D7E-BA59-41CB-BCFF-C0EB6E46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F602-380F-42A7-963A-3A2C040A4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Pick Random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3"/>
          <p:cNvSpPr/>
          <p:nvPr/>
        </p:nvSpPr>
        <p:spPr>
          <a:xfrm>
            <a:off x="380880" y="2438280"/>
            <a:ext cx="87631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ask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lock is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ensi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lock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Using this block will make the sprite ask a question and wait for a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answe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sk block.gif"/>
          <p:cNvPicPr/>
          <p:nvPr/>
        </p:nvPicPr>
        <p:blipFill>
          <a:blip r:embed="rId1"/>
          <a:stretch/>
        </p:blipFill>
        <p:spPr>
          <a:xfrm>
            <a:off x="3962520" y="1447920"/>
            <a:ext cx="382896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ttp://www.jmorganmarketing.com/wp-content/uploads/2009/05/question.jpg"/>
          <p:cNvPicPr/>
          <p:nvPr/>
        </p:nvPicPr>
        <p:blipFill>
          <a:blip r:embed="rId2"/>
          <a:stretch/>
        </p:blipFill>
        <p:spPr>
          <a:xfrm>
            <a:off x="609480" y="228600"/>
            <a:ext cx="30956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k &amp; 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152280" y="609480"/>
            <a:ext cx="861084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en the sprite asks a question, you will be able to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typ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in your answer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r answer will be saved as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variab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called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nswe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Since your answer will b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ave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, you can use your answer to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hang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what happens in a script.  This way the sprite ca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respon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o yo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nswer block.gif"/>
          <p:cNvPicPr/>
          <p:nvPr/>
        </p:nvPicPr>
        <p:blipFill>
          <a:blip r:embed="rId1"/>
          <a:stretch/>
        </p:blipFill>
        <p:spPr>
          <a:xfrm>
            <a:off x="4114800" y="2743200"/>
            <a:ext cx="11430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3"/>
          <p:cNvSpPr/>
          <p:nvPr/>
        </p:nvSpPr>
        <p:spPr>
          <a:xfrm>
            <a:off x="152280" y="1752480"/>
            <a:ext cx="86108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joi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lock is a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operato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hat is useful for using answers.  It allows you to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ombin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locks togeth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is script will have the sprite ask your name, and then will greet you by na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join block.gif"/>
          <p:cNvPicPr/>
          <p:nvPr/>
        </p:nvPicPr>
        <p:blipFill>
          <a:blip r:embed="rId1"/>
          <a:stretch/>
        </p:blipFill>
        <p:spPr>
          <a:xfrm>
            <a:off x="3352680" y="1219320"/>
            <a:ext cx="2243160" cy="380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ask name and greet.gif"/>
          <p:cNvPicPr/>
          <p:nvPr/>
        </p:nvPicPr>
        <p:blipFill>
          <a:blip r:embed="rId2"/>
          <a:stretch/>
        </p:blipFill>
        <p:spPr>
          <a:xfrm>
            <a:off x="2895480" y="4724280"/>
            <a:ext cx="3116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1-01-03T03:59:45Z</dcterms:modified>
  <cp:revision>55</cp:revision>
  <dc:subject/>
  <dc:title>Slide 1</dc:title>
</cp:coreProperties>
</file>