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E591-B145-4124-9573-3D3953CCE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5853-AF20-4C5A-9E2D-14B57DECE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421B-54F5-425C-9CBF-AD750F5AF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0F19-9236-4431-A840-325AC6A12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BED4-5C45-4835-9EA7-87A779BD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054B-3660-4450-924A-BAE9C961C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931E-BD43-4C3A-B161-06751FB7E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5A75-1C2C-4785-BE14-2435459F9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35D4-B217-47CE-9B85-569E33413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9FCC-6AE0-4E09-BDD6-BCA13432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E5FD-1603-4E01-9584-B9F3B5D2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457F-3E3E-45E3-B131-D1E72941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C271A-7868-4F40-BC05-ACADE70C9A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http://edtechvision.org/wp-content/uploads/2008/10/scratch_logo.png"/>
          <p:cNvPicPr/>
          <p:nvPr/>
        </p:nvPicPr>
        <p:blipFill>
          <a:blip r:embed="rId1"/>
          <a:stretch/>
        </p:blipFill>
        <p:spPr>
          <a:xfrm>
            <a:off x="1905120" y="152280"/>
            <a:ext cx="4983120" cy="461016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228600" y="5334120"/>
            <a:ext cx="8915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Comic Sans MS"/>
              </a:rPr>
              <a:t>Drums, Tempo, and Nested Repeats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rum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23"/>
          <p:cNvSpPr/>
          <p:nvPr/>
        </p:nvSpPr>
        <p:spPr>
          <a:xfrm>
            <a:off x="380880" y="3048120"/>
            <a:ext cx="861084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The play drum block plays a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percussion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note.  It has 2 variable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You can change the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instrument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You can change how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long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 the note plays (in beats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play drum block"/>
          <p:cNvPicPr/>
          <p:nvPr/>
        </p:nvPicPr>
        <p:blipFill>
          <a:blip r:embed="rId1"/>
          <a:stretch/>
        </p:blipFill>
        <p:spPr>
          <a:xfrm>
            <a:off x="2209680" y="1600200"/>
            <a:ext cx="49276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o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23"/>
          <p:cNvSpPr/>
          <p:nvPr/>
        </p:nvSpPr>
        <p:spPr>
          <a:xfrm>
            <a:off x="380880" y="3048120"/>
            <a:ext cx="86108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The tempo block sets the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speed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at which notes play.  It has 1 variabl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You can change how many beats play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per minute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set tempo block"/>
          <p:cNvPicPr/>
          <p:nvPr/>
        </p:nvPicPr>
        <p:blipFill>
          <a:blip r:embed="rId1"/>
          <a:stretch/>
        </p:blipFill>
        <p:spPr>
          <a:xfrm>
            <a:off x="2286000" y="1523880"/>
            <a:ext cx="502920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sted Repeat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3"/>
          <p:cNvSpPr/>
          <p:nvPr/>
        </p:nvSpPr>
        <p:spPr>
          <a:xfrm>
            <a:off x="380880" y="3048120"/>
            <a:ext cx="86108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A nested repeat is a repeat block placed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inside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another repeat block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nested repeat blocks"/>
          <p:cNvPicPr/>
          <p:nvPr/>
        </p:nvPicPr>
        <p:blipFill>
          <a:blip r:embed="rId1"/>
          <a:stretch/>
        </p:blipFill>
        <p:spPr>
          <a:xfrm>
            <a:off x="3809880" y="1371600"/>
            <a:ext cx="18766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sted Repeats, continued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23"/>
          <p:cNvSpPr/>
          <p:nvPr/>
        </p:nvSpPr>
        <p:spPr>
          <a:xfrm>
            <a:off x="380880" y="3048120"/>
            <a:ext cx="86108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Nested repeats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multiply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togethe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This drum note will play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6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 times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nested drums 1"/>
          <p:cNvPicPr/>
          <p:nvPr/>
        </p:nvPicPr>
        <p:blipFill>
          <a:blip r:embed="rId1"/>
          <a:stretch/>
        </p:blipFill>
        <p:spPr>
          <a:xfrm>
            <a:off x="3048120" y="1371600"/>
            <a:ext cx="33224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h the time that’s left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gin the Drums, Tempo, and Nested Repeats workshe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can write the scripts for each question in Scratch to help you find the answ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7T03:48:57Z</dcterms:created>
  <dc:creator>Paul</dc:creator>
  <dc:description/>
  <dc:language>en-US</dc:language>
  <cp:lastModifiedBy>Paul</cp:lastModifiedBy>
  <dcterms:modified xsi:type="dcterms:W3CDTF">2011-02-07T17:43:03Z</dcterms:modified>
  <cp:revision>16</cp:revision>
  <dc:subject/>
  <dc:title>Slide 1</dc:title>
</cp:coreProperties>
</file>