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6CE-6FFC-428E-8773-B80B411C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376-C061-4A0A-A1F9-FA061D64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25A-5A4F-49B6-BC9A-FEA26186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74-E67D-4E49-B6AA-26DC2044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F68-50E3-407A-A8FE-57EDAEFB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C36-74B8-4212-B0DE-7C931B07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954-8080-42C5-886D-A727FA4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2FC-A91C-47F2-B5FA-D041B4E2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0A0-B369-4A67-927D-48C156BF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516-BF2C-4AFC-AA47-28C7B77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75E-C01A-47F5-8320-3F46F20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FE8-A2C8-4AAF-842D-D3B2FDA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1357-FA2C-4442-B509-F0E071130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  <a:ea typeface="Arial"/>
              </a:rPr>
              <a:t>The If Bloc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04812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“if” block can be found i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if block means,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is happens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do this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put block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if block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if b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f block.gif"/>
          <p:cNvPicPr/>
          <p:nvPr/>
        </p:nvPicPr>
        <p:blipFill>
          <a:blip r:embed="rId1"/>
          <a:stretch/>
        </p:blipFill>
        <p:spPr>
          <a:xfrm>
            <a:off x="3962520" y="1523880"/>
            <a:ext cx="1266840" cy="83844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6"/>
          <p:cNvCxnSpPr/>
          <p:nvPr/>
        </p:nvCxnSpPr>
        <p:spPr>
          <a:xfrm flipH="1">
            <a:off x="4952520" y="1219320"/>
            <a:ext cx="152496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7"/>
          <p:cNvCxnSpPr/>
          <p:nvPr/>
        </p:nvCxnSpPr>
        <p:spPr>
          <a:xfrm flipH="1">
            <a:off x="5104800" y="1600200"/>
            <a:ext cx="152460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380880" y="304812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Most of the blocks that fit ON the if block ar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ens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blocks, which can be found in the sensing t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Different sensing blocks can detect if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key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is pressed, if the sprite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uch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something, or if the sprite moves to a certai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osi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f with mouse pointer.gif"/>
          <p:cNvPicPr/>
          <p:nvPr/>
        </p:nvPicPr>
        <p:blipFill>
          <a:blip r:embed="rId1"/>
          <a:stretch/>
        </p:blipFill>
        <p:spPr>
          <a:xfrm>
            <a:off x="2971800" y="1447920"/>
            <a:ext cx="3451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ver I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380880" y="304812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Usually, you don’t want to just run the if block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, you want it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lway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be runn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o make it run forever you can either put it in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rever block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f with mouse pointer forever.gif"/>
          <p:cNvPicPr/>
          <p:nvPr/>
        </p:nvPicPr>
        <p:blipFill>
          <a:blip r:embed="rId1"/>
          <a:stretch/>
        </p:blipFill>
        <p:spPr>
          <a:xfrm>
            <a:off x="838080" y="1371600"/>
            <a:ext cx="284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09-22T21:02:14Z</dcterms:modified>
  <cp:revision>25</cp:revision>
  <dc:subject/>
  <dc:title>Slide 1</dc:title>
</cp:coreProperties>
</file>