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209-BE48-428D-BC82-DA084D46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5D2-E685-4858-B94E-80E503F0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325-8AF5-4590-9FE7-16AD2222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7C9-AF47-498E-B126-C6203065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3CA-B22A-4AE0-86D5-14AC1C3D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AF4-EA54-4414-850E-9EFC8278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0F6-6CBD-4948-899F-C0864443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894-D42B-442D-AD93-864466D9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59F-F176-468C-99C8-D6C9A888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753-F4BA-4430-B07E-045FFBA6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9CC1-5B99-4E90-9B01-50A5A032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E14-CD33-4265-A768-AD72BE64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0620-49D4-408F-8D8B-3828054EC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874880" y="1066680"/>
            <a:ext cx="49831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rcRect l="0" t="2818" r="0" b="10000"/>
          <a:stretch/>
        </p:blipFill>
        <p:spPr>
          <a:xfrm>
            <a:off x="2009880" y="2333520"/>
            <a:ext cx="5933880" cy="3238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n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2362320" y="5433840"/>
            <a:ext cx="106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Bloc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4800600" y="825480"/>
            <a:ext cx="1905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Block tab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5232240" y="5659560"/>
            <a:ext cx="106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Scrip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438280" y="161784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St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685800" y="2809800"/>
            <a:ext cx="106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Spr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4495680" y="11556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lick on these to get different sets of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987480" y="5897520"/>
            <a:ext cx="290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dividual instructions for the sprite.  Can be combined to make scrip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4546440" y="604044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set of instructions for a sprite to fol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2009880" y="8413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place where the sprites perform your scrip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0" y="3352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picture of a character or object that can be controll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19"/>
          <p:cNvCxnSpPr/>
          <p:nvPr/>
        </p:nvCxnSpPr>
        <p:spPr>
          <a:xfrm flipH="1">
            <a:off x="4304880" y="1828800"/>
            <a:ext cx="496080" cy="843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20"/>
          <p:cNvCxnSpPr>
            <a:stCxn id="46" idx="3"/>
          </p:cNvCxnSpPr>
          <p:nvPr/>
        </p:nvCxnSpPr>
        <p:spPr>
          <a:xfrm flipV="1">
            <a:off x="3429000" y="5257080"/>
            <a:ext cx="534240" cy="415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22"/>
          <p:cNvCxnSpPr/>
          <p:nvPr/>
        </p:nvCxnSpPr>
        <p:spPr>
          <a:xfrm flipV="1">
            <a:off x="5741640" y="4607640"/>
            <a:ext cx="1080" cy="1042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7"/>
          <p:cNvCxnSpPr/>
          <p:nvPr/>
        </p:nvCxnSpPr>
        <p:spPr>
          <a:xfrm>
            <a:off x="2838240" y="2079720"/>
            <a:ext cx="309960" cy="884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34"/>
          <p:cNvCxnSpPr/>
          <p:nvPr/>
        </p:nvCxnSpPr>
        <p:spPr>
          <a:xfrm>
            <a:off x="1905120" y="3244680"/>
            <a:ext cx="545040" cy="4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the time that’s lef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song using ONLY these block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F:\Teaching Stuff\8th Grade Curriculum (as I did it)\Exploratory\Computer Science\Script Images\Blocks to use for first song.gif"/>
          <p:cNvPicPr/>
          <p:nvPr/>
        </p:nvPicPr>
        <p:blipFill>
          <a:blip r:embed="rId1"/>
          <a:stretch/>
        </p:blipFill>
        <p:spPr>
          <a:xfrm>
            <a:off x="3581280" y="2971800"/>
            <a:ext cx="18478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Desktop</cp:lastModifiedBy>
  <dcterms:modified xsi:type="dcterms:W3CDTF">2013-11-02T20:50:03Z</dcterms:modified>
  <cp:revision>7</cp:revision>
  <dc:subject/>
  <dc:title>Slide 1</dc:title>
</cp:coreProperties>
</file>