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E7EB-6AFA-4EEB-8EC1-707F68340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5229-20A7-4024-83CF-23D6CF7B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6487-8681-4CA0-AD54-2BB14D6DB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15A7-BB88-47FA-B1C7-2F261EA47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48A2-4427-4849-9532-F8FE0CFE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84E1-6ECC-4557-86BA-C1D3A0FC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6560-A237-44F5-80D7-28E0EA92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D9F5-0392-4F91-8054-26A4648C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A205-4F4C-4B11-A5E2-9D817D34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C1B6-24FA-4088-A2DA-6E8341CC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AA34-AFC8-446F-A54C-819D4FBD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2A12-E081-4185-842C-D6606E80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6CE4-2DDD-490C-92D8-CAE07F4714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ttp://edtechvision.org/wp-content/uploads/2008/10/scratch_logo.png"/>
          <p:cNvPicPr/>
          <p:nvPr/>
        </p:nvPicPr>
        <p:blipFill>
          <a:blip r:embed="rId1"/>
          <a:stretch/>
        </p:blipFill>
        <p:spPr>
          <a:xfrm>
            <a:off x="1905120" y="152280"/>
            <a:ext cx="4983120" cy="46101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28600" y="5334120"/>
            <a:ext cx="8915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omic Sans MS"/>
              </a:rPr>
              <a:t>Using Operator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Helicopter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3"/>
          <p:cNvSpPr/>
          <p:nvPr/>
        </p:nvSpPr>
        <p:spPr>
          <a:xfrm>
            <a:off x="228600" y="990720"/>
            <a:ext cx="861048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In our normal helicopter script,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IF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the up arrow is pressed, the helicopter goes up,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ELS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it goes down (because of “gravity”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But what if the helicopter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land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on something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gravity example script.gif"/>
          <p:cNvPicPr/>
          <p:nvPr/>
        </p:nvPicPr>
        <p:blipFill>
          <a:blip r:embed="rId1"/>
          <a:stretch/>
        </p:blipFill>
        <p:spPr>
          <a:xfrm>
            <a:off x="2743200" y="2286000"/>
            <a:ext cx="2819520" cy="1239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helicopter landed.gif"/>
          <p:cNvPicPr/>
          <p:nvPr/>
        </p:nvPicPr>
        <p:blipFill>
          <a:blip r:embed="rId2"/>
          <a:stretch/>
        </p:blipFill>
        <p:spPr>
          <a:xfrm>
            <a:off x="2590920" y="4267080"/>
            <a:ext cx="304776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Helicopter Example, Continu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23"/>
          <p:cNvSpPr/>
          <p:nvPr/>
        </p:nvSpPr>
        <p:spPr>
          <a:xfrm>
            <a:off x="152280" y="914400"/>
            <a:ext cx="861084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First, we need to make a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variabl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  We’ll call it “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landed?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”  We also need another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sprit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that looks like a landing pa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Now, IF the sprites ar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touching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, “landed?” should be set to “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ye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”, ELSE, it should be set to “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no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”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helicopter landed.gif"/>
          <p:cNvPicPr/>
          <p:nvPr/>
        </p:nvPicPr>
        <p:blipFill>
          <a:blip r:embed="rId1"/>
          <a:stretch/>
        </p:blipFill>
        <p:spPr>
          <a:xfrm>
            <a:off x="3352680" y="1828800"/>
            <a:ext cx="3048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" name="Picture 8" descr="helicopter with landing pad.gif"/>
          <p:cNvPicPr/>
          <p:nvPr/>
        </p:nvPicPr>
        <p:blipFill>
          <a:blip r:embed="rId2"/>
          <a:srcRect l="0" t="69314" r="0" b="0"/>
          <a:stretch/>
        </p:blipFill>
        <p:spPr>
          <a:xfrm>
            <a:off x="3429000" y="5029200"/>
            <a:ext cx="225756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Helicopter Example, Continu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3"/>
          <p:cNvSpPr/>
          <p:nvPr/>
        </p:nvSpPr>
        <p:spPr>
          <a:xfrm>
            <a:off x="152280" y="1066680"/>
            <a:ext cx="861084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Now, IF the up arrow is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NOT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pressed and IF the sprites aren’t touching, we want the helicopter to get pulled down by gravity.  That’s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TWO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ifs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helicopter nested ifs.gif"/>
          <p:cNvPicPr/>
          <p:nvPr/>
        </p:nvPicPr>
        <p:blipFill>
          <a:blip r:embed="rId1"/>
          <a:stretch/>
        </p:blipFill>
        <p:spPr>
          <a:xfrm>
            <a:off x="609480" y="2971800"/>
            <a:ext cx="3214800" cy="2514600"/>
          </a:xfrm>
          <a:prstGeom prst="rect">
            <a:avLst/>
          </a:prstGeom>
          <a:ln w="0">
            <a:noFill/>
          </a:ln>
        </p:spPr>
      </p:pic>
      <p:cxnSp>
        <p:nvCxnSpPr>
          <p:cNvPr id="56" name="Straight Arrow Connector 8"/>
          <p:cNvCxnSpPr/>
          <p:nvPr/>
        </p:nvCxnSpPr>
        <p:spPr>
          <a:xfrm flipH="1" flipV="1">
            <a:off x="4114440" y="3428640"/>
            <a:ext cx="99144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TextBox 9"/>
          <p:cNvSpPr/>
          <p:nvPr/>
        </p:nvSpPr>
        <p:spPr>
          <a:xfrm>
            <a:off x="5181480" y="30481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up arrow is pressed, the helicopter go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Straight Arrow Connector 10"/>
          <p:cNvCxnSpPr/>
          <p:nvPr/>
        </p:nvCxnSpPr>
        <p:spPr>
          <a:xfrm flipH="1" flipV="1">
            <a:off x="3961800" y="4647960"/>
            <a:ext cx="99108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TextBox 11"/>
          <p:cNvSpPr/>
          <p:nvPr/>
        </p:nvSpPr>
        <p:spPr>
          <a:xfrm>
            <a:off x="5029200" y="3962520"/>
            <a:ext cx="335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up arrow 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essed, and the helicopter 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anded, the helicopter goes down.  But if the helicopter 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and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t doesn’t go dow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3:48:57Z</dcterms:created>
  <dc:creator>Paul</dc:creator>
  <dc:description/>
  <dc:language>en-US</dc:language>
  <cp:lastModifiedBy>Paul</cp:lastModifiedBy>
  <dcterms:modified xsi:type="dcterms:W3CDTF">2010-11-18T04:38:58Z</dcterms:modified>
  <cp:revision>54</cp:revision>
  <dc:subject/>
  <dc:title>Slide 1</dc:title>
</cp:coreProperties>
</file>