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DD7-FBA2-4E2D-B099-25D2E27E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D85-83CE-46C7-B0B9-189396D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FAE-6A70-4D8E-92C4-93A365E2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762-82CE-4283-8FF0-8423F22A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5CC-1F6A-41A7-8DD1-10F6DE4C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950-C6EA-41B5-8EAE-4397C318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B4A-AAB9-47F3-A56A-A53CC2A6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003-BBB0-4341-A091-B78FDBA0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333-E56E-4988-B941-32B2404B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98A-55F1-43A6-A689-7E608A4E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8F9-8E2A-4A9A-80AA-CE721A62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A6C-A43B-4510-BB03-7EFF140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5B0A-417A-4127-8764-485383349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Motion in Scratch 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3048120"/>
            <a:ext cx="86108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move block makes the sprite mov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forwar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many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ep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he sprite tak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he stage i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480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steps wide (-240 to +240) an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360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steps tall (-180 to +180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he sprite will move in the direction it i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ac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ove 10 steps block.gif"/>
          <p:cNvPicPr/>
          <p:nvPr/>
        </p:nvPicPr>
        <p:blipFill>
          <a:blip r:embed="rId1"/>
          <a:stretch/>
        </p:blipFill>
        <p:spPr>
          <a:xfrm>
            <a:off x="3124080" y="1447920"/>
            <a:ext cx="2943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80880" y="3048120"/>
            <a:ext cx="86108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turn blocks make the sprite tur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lockwis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ounterclockwis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 They each have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many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degre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he sprite t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urn clockwise block.gif"/>
          <p:cNvPicPr/>
          <p:nvPr/>
        </p:nvPicPr>
        <p:blipFill>
          <a:blip r:embed="rId1"/>
          <a:stretch/>
        </p:blipFill>
        <p:spPr>
          <a:xfrm>
            <a:off x="3124080" y="1295280"/>
            <a:ext cx="330228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turn counterclockwise block.gif"/>
          <p:cNvPicPr/>
          <p:nvPr/>
        </p:nvPicPr>
        <p:blipFill>
          <a:blip r:embed="rId2"/>
          <a:stretch/>
        </p:blipFill>
        <p:spPr>
          <a:xfrm>
            <a:off x="3200400" y="2209680"/>
            <a:ext cx="3200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228600" y="1981080"/>
            <a:ext cx="5791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sprite can tur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360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degre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0 degre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– facing straight 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90 degre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– facing 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180 degre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– facing d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270 degre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– facing left (also -9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t2.gstatic.com/images?q=tbn:ANd9GcRxLSeX5TtnTp4z43cX65qTREYpyIpmzY65WtsAJ63ppP6T1y0&amp;t=1&amp;usg=__FWOwq1TzhcbASPKtz9WcU1Imk40="/>
          <p:cNvPicPr/>
          <p:nvPr/>
        </p:nvPicPr>
        <p:blipFill>
          <a:blip r:embed="rId1"/>
          <a:stretch/>
        </p:blipFill>
        <p:spPr>
          <a:xfrm>
            <a:off x="7162920" y="5029200"/>
            <a:ext cx="761760" cy="107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t2.gstatic.com/images?q=tbn:ANd9GcRxLSeX5TtnTp4z43cX65qTREYpyIpmzY65WtsAJ63ppP6T1y0&amp;t=1&amp;usg=__FWOwq1TzhcbASPKtz9WcU1Imk40="/>
          <p:cNvPicPr/>
          <p:nvPr/>
        </p:nvPicPr>
        <p:blipFill>
          <a:blip r:embed="rId2"/>
          <a:stretch/>
        </p:blipFill>
        <p:spPr>
          <a:xfrm>
            <a:off x="5105520" y="5257800"/>
            <a:ext cx="107604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t2.gstatic.com/images?q=tbn:ANd9GcRxLSeX5TtnTp4z43cX65qTREYpyIpmzY65WtsAJ63ppP6T1y0&amp;t=1&amp;usg=__FWOwq1TzhcbASPKtz9WcU1Imk40="/>
          <p:cNvPicPr/>
          <p:nvPr/>
        </p:nvPicPr>
        <p:blipFill>
          <a:blip r:embed="rId3"/>
          <a:stretch/>
        </p:blipFill>
        <p:spPr>
          <a:xfrm>
            <a:off x="2819520" y="5029200"/>
            <a:ext cx="761760" cy="107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t2.gstatic.com/images?q=tbn:ANd9GcRxLSeX5TtnTp4z43cX65qTREYpyIpmzY65WtsAJ63ppP6T1y0&amp;t=1&amp;usg=__FWOwq1TzhcbASPKtz9WcU1Imk40="/>
          <p:cNvPicPr/>
          <p:nvPr/>
        </p:nvPicPr>
        <p:blipFill>
          <a:blip r:embed="rId4"/>
          <a:stretch/>
        </p:blipFill>
        <p:spPr>
          <a:xfrm>
            <a:off x="528480" y="5186520"/>
            <a:ext cx="1076400" cy="76176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10"/>
          <p:cNvCxnSpPr/>
          <p:nvPr/>
        </p:nvCxnSpPr>
        <p:spPr>
          <a:xfrm flipH="1">
            <a:off x="7160400" y="2058480"/>
            <a:ext cx="3960" cy="2134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pic>
        <p:nvPicPr>
          <p:cNvPr id="59" name="Straight Arrow Connector 11" descr=""/>
          <p:cNvPicPr/>
          <p:nvPr/>
        </p:nvPicPr>
        <p:blipFill>
          <a:blip r:embed="rId5"/>
          <a:stretch/>
        </p:blipFill>
        <p:spPr>
          <a:xfrm>
            <a:off x="5907240" y="2938320"/>
            <a:ext cx="2504880" cy="371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2"/>
          <p:cNvSpPr/>
          <p:nvPr/>
        </p:nvSpPr>
        <p:spPr>
          <a:xfrm>
            <a:off x="70102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5486400" y="25909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69343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83059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eping track of position and directio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228600" y="464832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keep track of the sprites position and direction, you can click o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eckbox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ext to “x position”, “y position”, and “direction” in the Motion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prite’s position and direction will then appear o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t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rcRect l="19523" t="10669" r="19523" b="14668"/>
          <a:stretch/>
        </p:blipFill>
        <p:spPr>
          <a:xfrm>
            <a:off x="2514600" y="1143000"/>
            <a:ext cx="4343400" cy="3325680"/>
          </a:xfrm>
          <a:prstGeom prst="rect">
            <a:avLst/>
          </a:prstGeom>
          <a:ln w="0">
            <a:noFill/>
          </a:ln>
        </p:spPr>
      </p:pic>
      <p:cxnSp>
        <p:nvCxnSpPr>
          <p:cNvPr id="67" name="Straight Arrow Connector 6"/>
          <p:cNvCxnSpPr/>
          <p:nvPr/>
        </p:nvCxnSpPr>
        <p:spPr>
          <a:xfrm>
            <a:off x="1066680" y="3886200"/>
            <a:ext cx="1448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7"/>
          <p:cNvCxnSpPr/>
          <p:nvPr/>
        </p:nvCxnSpPr>
        <p:spPr>
          <a:xfrm flipH="1" flipV="1">
            <a:off x="5637960" y="1751760"/>
            <a:ext cx="2134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0-05T04:46:39Z</dcterms:modified>
  <cp:revision>18</cp:revision>
  <dc:subject/>
  <dc:title>Slide 1</dc:title>
</cp:coreProperties>
</file>