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6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5.png" ContentType="image/png"/>
  <Override PartName="/ppt/media/image28.png" ContentType="image/png"/>
  <Override PartName="/ppt/media/image29.jpeg" ContentType="image/jpeg"/>
  <Override PartName="/ppt/media/image8.jpeg" ContentType="image/jpeg"/>
  <Override PartName="/ppt/media/image38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13.png" ContentType="image/png"/>
  <Override PartName="/ppt/media/image34.png" ContentType="image/png"/>
  <Override PartName="/ppt/media/image12.jpeg" ContentType="image/jpeg"/>
  <Override PartName="/ppt/media/image30.jpeg" ContentType="image/jpeg"/>
  <Override PartName="/ppt/media/image3.jpeg" ContentType="image/jpeg"/>
  <Override PartName="/ppt/media/image33.png" ContentType="image/png"/>
  <Override PartName="/ppt/media/image35.png" ContentType="image/png"/>
  <Override PartName="/ppt/media/image5.jpeg" ContentType="image/jpeg"/>
  <Override PartName="/ppt/media/image17.png" ContentType="image/png"/>
  <Override PartName="/ppt/media/image32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B7E7-C1CE-4D74-BE70-B773443C2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F677-4104-4607-AD40-12D32F0B5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6421-FEC3-403A-94DC-34D612272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2D60-F7C0-490A-8862-26A687AE6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59AD-DE95-4695-AA6A-637AC0B46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67AA-B364-40C8-80CC-ECD47FC69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9AE2-8877-49EB-BC38-D32875018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FFDE-EAD0-43F4-947A-5EFAADE9B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A2A3-B052-4E33-922D-90C521139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AF5D-E615-49F6-AA4F-0033D8511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3279-507E-4CD6-8BA5-4B24761D5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232E-2F52-4FF0-B73E-69D9DB83E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0C031-8EE3-4AC5-83FA-7B64C9F68A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ay Tw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7680" y="304560"/>
            <a:ext cx="966456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ry smaller examples...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27640" y="4064040"/>
            <a:ext cx="4554720" cy="27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1) experiment / understan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2) describe a pl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3) test your plan (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execute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t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4) reflect / evalua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486400" y="1422360"/>
            <a:ext cx="4002120" cy="20797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54120" y="6400800"/>
            <a:ext cx="373212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ff"/>
                </a:solidFill>
                <a:latin typeface="Arial"/>
              </a:rPr>
              <a:t>Q:  </a:t>
            </a: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How many breaks are needed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47680" y="1727280"/>
            <a:ext cx="225252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# of piec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685960" y="1422360"/>
            <a:ext cx="225288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# of breaks need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47680" y="2540160"/>
            <a:ext cx="225252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85960" y="2540160"/>
            <a:ext cx="225288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15960" y="2241720"/>
            <a:ext cx="4065480" cy="36360"/>
          </a:xfrm>
          <a:prstGeom prst="rect">
            <a:avLst/>
          </a:prstGeom>
          <a:solidFill>
            <a:srgbClr val="9900ff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47680" y="3251160"/>
            <a:ext cx="225252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85960" y="3251160"/>
            <a:ext cx="225288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47680" y="3962520"/>
            <a:ext cx="225252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685960" y="3962520"/>
            <a:ext cx="225288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7680" y="5079960"/>
            <a:ext cx="225252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685960" y="5079960"/>
            <a:ext cx="225288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37120" y="4448160"/>
            <a:ext cx="345780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0000"/>
                </a:solidFill>
                <a:latin typeface="Arial"/>
              </a:rPr>
              <a:t>may be a </a:t>
            </a:r>
            <a:r>
              <a:rPr b="1" i="1" lang="en-US" sz="1300" spc="-1" strike="noStrike">
                <a:solidFill>
                  <a:srgbClr val="ff0000"/>
                </a:solidFill>
                <a:latin typeface="Arial"/>
              </a:rPr>
              <a:t>thought</a:t>
            </a:r>
            <a:r>
              <a:rPr b="0" lang="en-US" sz="1300" spc="-1" strike="noStrike">
                <a:solidFill>
                  <a:srgbClr val="ff0000"/>
                </a:solidFill>
                <a:latin typeface="Arial"/>
              </a:rPr>
              <a:t> experiment (or taste!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7680" y="304560"/>
            <a:ext cx="966456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Other examples in the ECS curriculu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0720" y="2844720"/>
            <a:ext cx="4068720" cy="5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ff"/>
                </a:solidFill>
                <a:latin typeface="Arial"/>
              </a:rPr>
              <a:t>Q:  </a:t>
            </a:r>
            <a:r>
              <a:rPr b="0" lang="en-US" sz="1900" spc="-1" strike="noStrike">
                <a:solidFill>
                  <a:srgbClr val="0000ff"/>
                </a:solidFill>
                <a:latin typeface="Arial"/>
              </a:rPr>
              <a:t>How many handshakes do </a:t>
            </a:r>
            <a:r>
              <a:rPr b="0" lang="en-US" sz="1900" spc="-1" strike="noStrike">
                <a:solidFill>
                  <a:srgbClr val="ff0000"/>
                </a:solidFill>
                <a:latin typeface="Arial"/>
              </a:rPr>
              <a:t>you</a:t>
            </a:r>
            <a:r>
              <a:rPr b="0" lang="en-US" sz="1900" spc="-1" strike="noStrike">
                <a:solidFill>
                  <a:srgbClr val="0000ff"/>
                </a:solidFill>
                <a:latin typeface="Arial"/>
              </a:rPr>
              <a:t> need in order to greet everyone?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7680" y="3798720"/>
            <a:ext cx="225252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# in group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82920" y="3556080"/>
            <a:ext cx="257472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# of h.shakes need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47680" y="4673520"/>
            <a:ext cx="225252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85960" y="4673520"/>
            <a:ext cx="225288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15960" y="4375080"/>
            <a:ext cx="4065480" cy="36720"/>
          </a:xfrm>
          <a:prstGeom prst="rect">
            <a:avLst/>
          </a:prstGeom>
          <a:solidFill>
            <a:srgbClr val="9900ff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47680" y="5384880"/>
            <a:ext cx="225252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85960" y="5384880"/>
            <a:ext cx="225288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47680" y="6095880"/>
            <a:ext cx="225252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85960" y="6095880"/>
            <a:ext cx="225288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52600" y="1727280"/>
            <a:ext cx="407664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re are 10 people (including you) at a party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29160" y="2844720"/>
            <a:ext cx="4292640" cy="5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ff"/>
                </a:solidFill>
                <a:latin typeface="Arial"/>
              </a:rPr>
              <a:t>Q:  </a:t>
            </a:r>
            <a:r>
              <a:rPr b="0" lang="en-US" sz="1900" spc="-1" strike="noStrike">
                <a:solidFill>
                  <a:srgbClr val="0000ff"/>
                </a:solidFill>
                <a:latin typeface="Arial"/>
              </a:rPr>
              <a:t>How many handshakes are needed so </a:t>
            </a:r>
            <a:r>
              <a:rPr b="0" lang="en-US" sz="1900" spc="-1" strike="noStrike">
                <a:solidFill>
                  <a:srgbClr val="ff0000"/>
                </a:solidFill>
                <a:latin typeface="Arial"/>
              </a:rPr>
              <a:t>everyone greets everyone</a:t>
            </a:r>
            <a:r>
              <a:rPr b="0" lang="en-US" sz="19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26120" y="3798720"/>
            <a:ext cx="225252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# in group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461360" y="3556080"/>
            <a:ext cx="247644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# of h.shakes need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226120" y="4673520"/>
            <a:ext cx="225252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64400" y="4673520"/>
            <a:ext cx="225288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594400" y="4375080"/>
            <a:ext cx="4065480" cy="36720"/>
          </a:xfrm>
          <a:prstGeom prst="rect">
            <a:avLst/>
          </a:prstGeom>
          <a:solidFill>
            <a:srgbClr val="9900ff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26120" y="5384880"/>
            <a:ext cx="225252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64400" y="5384880"/>
            <a:ext cx="225288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226120" y="6095880"/>
            <a:ext cx="225252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64400" y="6095880"/>
            <a:ext cx="225288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30680" y="1727280"/>
            <a:ext cx="407700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re are 10 people (including you) at a party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86440" y="1835280"/>
            <a:ext cx="36360" cy="4873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7680" y="6908760"/>
            <a:ext cx="225252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999999"/>
                </a:solidFill>
                <a:latin typeface="Arial"/>
              </a:rPr>
              <a:t>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85960" y="6908760"/>
            <a:ext cx="225288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999999"/>
                </a:solidFill>
                <a:latin typeface="Arial"/>
              </a:rPr>
              <a:t>#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26120" y="6908760"/>
            <a:ext cx="225252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999999"/>
                </a:solidFill>
                <a:latin typeface="Arial"/>
              </a:rPr>
              <a:t>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64400" y="6908760"/>
            <a:ext cx="225288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999999"/>
                </a:solidFill>
                <a:latin typeface="Arial"/>
              </a:rPr>
              <a:t>#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7680" y="304560"/>
            <a:ext cx="966456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Other examples elsewhere...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125360" y="1430280"/>
            <a:ext cx="8093160" cy="48117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974960" y="6502320"/>
            <a:ext cx="6377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cognize this game show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873080" y="7010280"/>
            <a:ext cx="642312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ccccff"/>
                </a:solidFill>
                <a:uFillTx/>
                <a:latin typeface="Arial"/>
              </a:rPr>
              <a:t>http://www.youtube.com/watch?v=WKR6dNDvHYQ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165560" y="2540160"/>
            <a:ext cx="1798560" cy="17539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2640" y="302760"/>
            <a:ext cx="685476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Let's Make a Deal...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65120" y="5181480"/>
            <a:ext cx="1136880" cy="6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13240" y="5181480"/>
            <a:ext cx="1136520" cy="6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1360" y="5181480"/>
            <a:ext cx="1136520" cy="6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47680" y="6603840"/>
            <a:ext cx="92869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4ea7"/>
                </a:solidFill>
                <a:latin typeface="Arial"/>
              </a:rPr>
              <a:t>Choose... Reveal... Switch or st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860560" y="5011560"/>
            <a:ext cx="482760" cy="38916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47680" y="304560"/>
            <a:ext cx="966456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Let's Make a Deal...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50480" y="1428840"/>
            <a:ext cx="684000" cy="633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6160" y="1523880"/>
            <a:ext cx="608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6160" y="2438280"/>
            <a:ext cx="608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46160" y="3251160"/>
            <a:ext cx="608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160" y="4064040"/>
            <a:ext cx="608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6160" y="4978440"/>
            <a:ext cx="608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6160" y="5791320"/>
            <a:ext cx="608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6160" y="6705720"/>
            <a:ext cx="608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07920" y="1015920"/>
            <a:ext cx="608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05040" y="1015920"/>
            <a:ext cx="60948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36720" y="1015920"/>
            <a:ext cx="608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33840" y="1015920"/>
            <a:ext cx="60948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48240" y="1015920"/>
            <a:ext cx="60948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462640" y="1015920"/>
            <a:ext cx="60948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377040" y="1015920"/>
            <a:ext cx="60948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91440" y="1015920"/>
            <a:ext cx="60948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205840" y="1015920"/>
            <a:ext cx="60948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20240" y="1015920"/>
            <a:ext cx="60948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749680" y="4883040"/>
            <a:ext cx="684000" cy="633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774960" y="5011560"/>
            <a:ext cx="482760" cy="38916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7680" y="304560"/>
            <a:ext cx="966456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Let's Make a Deal...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20880" y="2343240"/>
            <a:ext cx="684000" cy="633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20880" y="3156120"/>
            <a:ext cx="684000" cy="633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20880" y="4883040"/>
            <a:ext cx="684000" cy="633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20880" y="3968640"/>
            <a:ext cx="684000" cy="633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20880" y="5695920"/>
            <a:ext cx="684000" cy="633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20880" y="6610320"/>
            <a:ext cx="684000" cy="633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835280" y="1428840"/>
            <a:ext cx="684000" cy="633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835280" y="2343240"/>
            <a:ext cx="684000" cy="633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35280" y="3156120"/>
            <a:ext cx="684000" cy="633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835280" y="4883040"/>
            <a:ext cx="684000" cy="633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3968640"/>
            <a:ext cx="684000" cy="633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835280" y="5695920"/>
            <a:ext cx="684000" cy="633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835280" y="6610320"/>
            <a:ext cx="684000" cy="633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49680" y="1428840"/>
            <a:ext cx="684000" cy="633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49680" y="2343240"/>
            <a:ext cx="684000" cy="633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749680" y="3156120"/>
            <a:ext cx="684000" cy="633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749680" y="3968640"/>
            <a:ext cx="684000" cy="633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49680" y="5695920"/>
            <a:ext cx="684000" cy="633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749680" y="6610320"/>
            <a:ext cx="684000" cy="633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664080" y="1428840"/>
            <a:ext cx="684000" cy="633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664080" y="2343240"/>
            <a:ext cx="684000" cy="633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64080" y="3156120"/>
            <a:ext cx="684000" cy="633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664080" y="3968640"/>
            <a:ext cx="684000" cy="633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664080" y="5695920"/>
            <a:ext cx="684000" cy="633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664080" y="6610320"/>
            <a:ext cx="684000" cy="633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8480" y="1428840"/>
            <a:ext cx="684000" cy="633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78480" y="2343240"/>
            <a:ext cx="684000" cy="633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78480" y="3156120"/>
            <a:ext cx="684000" cy="633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8480" y="4883040"/>
            <a:ext cx="684000" cy="633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578480" y="3968640"/>
            <a:ext cx="684000" cy="633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578480" y="5695920"/>
            <a:ext cx="684000" cy="633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578480" y="6610320"/>
            <a:ext cx="684000" cy="633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492880" y="1428840"/>
            <a:ext cx="684000" cy="633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492880" y="2343240"/>
            <a:ext cx="684000" cy="633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92880" y="3156120"/>
            <a:ext cx="684000" cy="633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492880" y="4883040"/>
            <a:ext cx="684000" cy="633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492880" y="3968640"/>
            <a:ext cx="684000" cy="633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92880" y="5695920"/>
            <a:ext cx="684000" cy="633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492880" y="6610320"/>
            <a:ext cx="684000" cy="633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407280" y="1428840"/>
            <a:ext cx="684000" cy="633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407280" y="2343240"/>
            <a:ext cx="684000" cy="633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7280" y="3156120"/>
            <a:ext cx="684000" cy="633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07280" y="4883040"/>
            <a:ext cx="684000" cy="633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407280" y="3968640"/>
            <a:ext cx="684000" cy="633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407280" y="5695920"/>
            <a:ext cx="684000" cy="633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407280" y="6610320"/>
            <a:ext cx="684000" cy="633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321680" y="1428840"/>
            <a:ext cx="684000" cy="633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321680" y="2343240"/>
            <a:ext cx="684000" cy="633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321680" y="3156120"/>
            <a:ext cx="684000" cy="633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321680" y="4883040"/>
            <a:ext cx="684000" cy="633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321680" y="3968640"/>
            <a:ext cx="684000" cy="633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321680" y="5695920"/>
            <a:ext cx="684000" cy="633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321680" y="6610320"/>
            <a:ext cx="684000" cy="633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36080" y="2343240"/>
            <a:ext cx="684000" cy="633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236080" y="3156120"/>
            <a:ext cx="684000" cy="633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236080" y="4883040"/>
            <a:ext cx="684000" cy="633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36080" y="3968640"/>
            <a:ext cx="684000" cy="633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236080" y="5695920"/>
            <a:ext cx="684000" cy="633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236080" y="6610320"/>
            <a:ext cx="684000" cy="633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150480" y="1428840"/>
            <a:ext cx="684000" cy="633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150480" y="2343240"/>
            <a:ext cx="684000" cy="633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150480" y="3156120"/>
            <a:ext cx="684000" cy="633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150480" y="4883040"/>
            <a:ext cx="684000" cy="633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150480" y="3968640"/>
            <a:ext cx="684000" cy="633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150480" y="5695920"/>
            <a:ext cx="684000" cy="633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150480" y="6610320"/>
            <a:ext cx="684000" cy="633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46160" y="1523880"/>
            <a:ext cx="608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6160" y="2438280"/>
            <a:ext cx="608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46160" y="3251160"/>
            <a:ext cx="608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46160" y="4064040"/>
            <a:ext cx="608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46160" y="4978440"/>
            <a:ext cx="608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46160" y="5791320"/>
            <a:ext cx="608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46160" y="6705720"/>
            <a:ext cx="608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07920" y="1015920"/>
            <a:ext cx="608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805040" y="1015920"/>
            <a:ext cx="60948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36720" y="1015920"/>
            <a:ext cx="608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633840" y="1015920"/>
            <a:ext cx="60948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548240" y="1015920"/>
            <a:ext cx="60948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62640" y="1015920"/>
            <a:ext cx="60948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377040" y="1015920"/>
            <a:ext cx="60948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291440" y="1015920"/>
            <a:ext cx="60948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205840" y="1015920"/>
            <a:ext cx="60948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120240" y="1015920"/>
            <a:ext cx="60948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20880" y="1428840"/>
            <a:ext cx="684000" cy="633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134200" y="1428840"/>
            <a:ext cx="684360" cy="633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7680" y="304560"/>
            <a:ext cx="966456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wo envelopes...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428840" y="2139840"/>
            <a:ext cx="2628720" cy="1778040"/>
          </a:xfrm>
          <a:prstGeom prst="rect">
            <a:avLst/>
          </a:prstGeom>
          <a:solidFill>
            <a:srgbClr val="3876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102360" y="2139840"/>
            <a:ext cx="2628720" cy="1778040"/>
          </a:xfrm>
          <a:prstGeom prst="rect">
            <a:avLst/>
          </a:prstGeom>
          <a:solidFill>
            <a:srgbClr val="3876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57160" y="1320840"/>
            <a:ext cx="8493120" cy="5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274e13"/>
                </a:solidFill>
                <a:latin typeface="Arial"/>
              </a:rPr>
              <a:t>Both envelopes have some money in them (as a check). You also know that one envelope has double the amount in the other envelope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76480" y="4267080"/>
            <a:ext cx="609588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uppose you choose an envelope and it has M money in it. Say, $10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076480" y="6197760"/>
            <a:ext cx="609588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w you have the opportunity to trade. </a:t>
            </a:r>
            <a:r>
              <a:rPr b="0" lang="en-US" sz="2700" spc="-1" strike="noStrike">
                <a:solidFill>
                  <a:srgbClr val="274e13"/>
                </a:solidFill>
                <a:latin typeface="Arial"/>
              </a:rPr>
              <a:t>Should you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47680" y="304560"/>
            <a:ext cx="966456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ake-home messag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415880" y="1219320"/>
            <a:ext cx="743292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ing problems is the key to solving them -- and is </a:t>
            </a:r>
            <a:r>
              <a:rPr b="1" i="1" lang="en-US" sz="3200" spc="-1" strike="noStrike">
                <a:solidFill>
                  <a:srgbClr val="274e13"/>
                </a:solidFill>
                <a:latin typeface="Arial"/>
              </a:rPr>
              <a:t>more impor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n solving a particular on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67000" y="3149640"/>
            <a:ext cx="717696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00"/>
                </a:solidFill>
                <a:latin typeface="Arial"/>
              </a:rPr>
              <a:t>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field that analyzes and solve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formation-bas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s, i.e., those based on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a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568520" y="4978440"/>
            <a:ext cx="708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re is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o mu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ffer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ata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27040" y="6197760"/>
            <a:ext cx="93074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w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epres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ata in a single, consistent wa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 that machines can process it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123920" y="5797440"/>
            <a:ext cx="8091360" cy="41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Representing data:  </a:t>
            </a:r>
            <a:r>
              <a:rPr b="1" i="1" lang="en-US" sz="4300" spc="-1" strike="noStrike">
                <a:solidFill>
                  <a:srgbClr val="000000"/>
                </a:solidFill>
                <a:latin typeface="Arial"/>
              </a:rPr>
              <a:t>Binary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Binary Lab/Activity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1727280" y="1468440"/>
            <a:ext cx="6705360" cy="5549760"/>
            <a:chOff x="1727280" y="1468440"/>
            <a:chExt cx="6705360" cy="5549760"/>
          </a:xfrm>
        </p:grpSpPr>
        <p:sp>
          <p:nvSpPr>
            <p:cNvPr id="253" name=""/>
            <p:cNvSpPr/>
            <p:nvPr/>
          </p:nvSpPr>
          <p:spPr>
            <a:xfrm>
              <a:off x="1727280" y="1468440"/>
              <a:ext cx="335268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Bina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079960" y="1468440"/>
              <a:ext cx="335268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ecim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727280" y="2039760"/>
              <a:ext cx="335268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079960" y="2039760"/>
              <a:ext cx="335268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727280" y="2611440"/>
              <a:ext cx="335268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01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079960" y="2611440"/>
              <a:ext cx="335268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727280" y="3182760"/>
              <a:ext cx="335268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11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079960" y="3182760"/>
              <a:ext cx="335268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727280" y="3754440"/>
              <a:ext cx="33526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1110 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079960" y="3754440"/>
              <a:ext cx="33526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727280" y="4313160"/>
              <a:ext cx="33526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079960" y="4313160"/>
              <a:ext cx="33526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727280" y="4859280"/>
              <a:ext cx="335268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079960" y="4859280"/>
              <a:ext cx="335268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727280" y="5430960"/>
              <a:ext cx="335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079960" y="5430960"/>
              <a:ext cx="335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4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727280" y="5951520"/>
              <a:ext cx="33526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079960" y="5951520"/>
              <a:ext cx="33526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6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727280" y="6497640"/>
              <a:ext cx="335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079960" y="6497640"/>
              <a:ext cx="335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6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079960" y="1468440"/>
              <a:ext cx="3352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079960" y="2039760"/>
              <a:ext cx="3352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079960" y="2611440"/>
              <a:ext cx="3352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079960" y="3182760"/>
              <a:ext cx="3352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079960" y="3754440"/>
              <a:ext cx="3352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079960" y="4313160"/>
              <a:ext cx="3352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079960" y="4859280"/>
              <a:ext cx="3352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079960" y="5430960"/>
              <a:ext cx="3352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079960" y="5951520"/>
              <a:ext cx="3352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079960" y="6497640"/>
              <a:ext cx="3352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079960" y="7018200"/>
              <a:ext cx="3352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727280" y="6497640"/>
              <a:ext cx="0" cy="5205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079960" y="6497640"/>
              <a:ext cx="0" cy="5205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432640" y="6497640"/>
              <a:ext cx="0" cy="5205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727280" y="146844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727280" y="146844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727280" y="1468440"/>
              <a:ext cx="3352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727280" y="146844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727280" y="146844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727280" y="1468440"/>
              <a:ext cx="0" cy="5713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079960" y="146844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079960" y="146844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079960" y="1468440"/>
              <a:ext cx="0" cy="5713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727280" y="203976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727280" y="203976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727280" y="2039760"/>
              <a:ext cx="3352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079960" y="146844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079960" y="146844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432640" y="146844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432640" y="146844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432640" y="1468440"/>
              <a:ext cx="0" cy="5713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079960" y="203976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079960" y="203976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727280" y="2039760"/>
              <a:ext cx="0" cy="57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727280" y="2039760"/>
              <a:ext cx="0" cy="57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727280" y="2039760"/>
              <a:ext cx="0" cy="5716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079960" y="2039760"/>
              <a:ext cx="0" cy="57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079960" y="2039760"/>
              <a:ext cx="0" cy="57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079960" y="2039760"/>
              <a:ext cx="0" cy="5716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727280" y="261144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727280" y="261144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727280" y="2611440"/>
              <a:ext cx="3352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432640" y="2039760"/>
              <a:ext cx="0" cy="57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432640" y="2039760"/>
              <a:ext cx="0" cy="57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432640" y="2039760"/>
              <a:ext cx="0" cy="5716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079960" y="261144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079960" y="261144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727280" y="261144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727280" y="261144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727280" y="2611440"/>
              <a:ext cx="0" cy="5713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079960" y="261144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079960" y="261144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079960" y="2611440"/>
              <a:ext cx="0" cy="5713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727280" y="318276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727280" y="318276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727280" y="3182760"/>
              <a:ext cx="3352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432640" y="261144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432640" y="261144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432640" y="2611440"/>
              <a:ext cx="0" cy="5713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079960" y="318276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79960" y="318276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727280" y="3182760"/>
              <a:ext cx="0" cy="57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727280" y="3182760"/>
              <a:ext cx="0" cy="57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727280" y="3182760"/>
              <a:ext cx="0" cy="5716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079960" y="3182760"/>
              <a:ext cx="0" cy="57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079960" y="3182760"/>
              <a:ext cx="0" cy="57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79960" y="3182760"/>
              <a:ext cx="0" cy="5716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727280" y="375444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727280" y="375444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727280" y="3754440"/>
              <a:ext cx="3352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432640" y="3182760"/>
              <a:ext cx="0" cy="57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432640" y="3182760"/>
              <a:ext cx="0" cy="57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432640" y="3182760"/>
              <a:ext cx="0" cy="5716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079960" y="375444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79960" y="375444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727280" y="3754440"/>
              <a:ext cx="0" cy="55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727280" y="3754440"/>
              <a:ext cx="0" cy="55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727280" y="3754440"/>
              <a:ext cx="0" cy="5587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079960" y="3754440"/>
              <a:ext cx="0" cy="55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079960" y="3754440"/>
              <a:ext cx="0" cy="55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079960" y="3754440"/>
              <a:ext cx="0" cy="5587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727280" y="431316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727280" y="431316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727280" y="4313160"/>
              <a:ext cx="3352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432640" y="3754440"/>
              <a:ext cx="0" cy="55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432640" y="3754440"/>
              <a:ext cx="0" cy="55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432640" y="3754440"/>
              <a:ext cx="0" cy="5587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079960" y="431316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079960" y="431316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727280" y="4313160"/>
              <a:ext cx="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727280" y="4313160"/>
              <a:ext cx="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727280" y="4313160"/>
              <a:ext cx="0" cy="5461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079960" y="4313160"/>
              <a:ext cx="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079960" y="4313160"/>
              <a:ext cx="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079960" y="4313160"/>
              <a:ext cx="0" cy="5461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727280" y="485928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727280" y="485928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727280" y="4859280"/>
              <a:ext cx="3352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432640" y="4313160"/>
              <a:ext cx="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432640" y="4313160"/>
              <a:ext cx="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432640" y="4313160"/>
              <a:ext cx="0" cy="5461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079960" y="485928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079960" y="485928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727280" y="4859280"/>
              <a:ext cx="0" cy="57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727280" y="4859280"/>
              <a:ext cx="0" cy="57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727280" y="4859280"/>
              <a:ext cx="0" cy="5716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079960" y="4859280"/>
              <a:ext cx="0" cy="57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079960" y="4859280"/>
              <a:ext cx="0" cy="57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079960" y="4859280"/>
              <a:ext cx="0" cy="5716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727280" y="543096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727280" y="543096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727280" y="5430960"/>
              <a:ext cx="3352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432640" y="4859280"/>
              <a:ext cx="0" cy="57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432640" y="4859280"/>
              <a:ext cx="0" cy="57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432640" y="4859280"/>
              <a:ext cx="0" cy="5716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079960" y="543096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079960" y="543096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727280" y="5430960"/>
              <a:ext cx="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27280" y="5430960"/>
              <a:ext cx="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727280" y="5430960"/>
              <a:ext cx="0" cy="5205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079960" y="5430960"/>
              <a:ext cx="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79960" y="5430960"/>
              <a:ext cx="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79960" y="5430960"/>
              <a:ext cx="0" cy="5205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727280" y="595152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727280" y="595152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727280" y="5951520"/>
              <a:ext cx="3352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432640" y="5430960"/>
              <a:ext cx="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432640" y="5430960"/>
              <a:ext cx="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432640" y="5430960"/>
              <a:ext cx="0" cy="5205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079960" y="595152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079960" y="595152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727280" y="5951520"/>
              <a:ext cx="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727280" y="5951520"/>
              <a:ext cx="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727280" y="5951520"/>
              <a:ext cx="0" cy="5461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79960" y="5951520"/>
              <a:ext cx="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079960" y="5951520"/>
              <a:ext cx="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079960" y="5951520"/>
              <a:ext cx="0" cy="5461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27280" y="649764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727280" y="649764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727280" y="6497640"/>
              <a:ext cx="3352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432640" y="5951520"/>
              <a:ext cx="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8432640" y="5951520"/>
              <a:ext cx="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432640" y="5951520"/>
              <a:ext cx="0" cy="5461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079960" y="649764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079960" y="649764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727280" y="6497640"/>
              <a:ext cx="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727280" y="6497640"/>
              <a:ext cx="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079960" y="6497640"/>
              <a:ext cx="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079960" y="6497640"/>
              <a:ext cx="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727280" y="701820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727280" y="701820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727280" y="7018200"/>
              <a:ext cx="3352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432640" y="6497640"/>
              <a:ext cx="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432640" y="6497640"/>
              <a:ext cx="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079960" y="701820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079960" y="701820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162000" y="1123920"/>
            <a:ext cx="942984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mplete the table by converting from binary to decimal, and from decimal to binary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Exploring Computer Scienc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320" y="1422360"/>
            <a:ext cx="9658440" cy="56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Unit 1: Human Computer Interac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nit 2: Problem Solv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b5394"/>
                </a:solidFill>
                <a:latin typeface="Arial"/>
              </a:rPr>
              <a:t>    </a:t>
            </a:r>
            <a:r>
              <a:rPr b="0" lang="en-US" sz="2100" spc="-1" strike="noStrike">
                <a:solidFill>
                  <a:srgbClr val="0b5394"/>
                </a:solidFill>
                <a:latin typeface="Arial"/>
              </a:rPr>
              <a:t>Days 1-2: Intro to Data collection and problem solv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b5394"/>
                </a:solidFill>
                <a:latin typeface="Arial"/>
              </a:rPr>
              <a:t>    </a:t>
            </a:r>
            <a:r>
              <a:rPr b="0" lang="en-US" sz="2100" spc="-1" strike="noStrike">
                <a:solidFill>
                  <a:srgbClr val="0b5394"/>
                </a:solidFill>
                <a:latin typeface="Arial"/>
              </a:rPr>
              <a:t>Day 3: Steps in Problem Solv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b5394"/>
                </a:solidFill>
                <a:latin typeface="Arial"/>
              </a:rPr>
              <a:t>    </a:t>
            </a:r>
            <a:r>
              <a:rPr b="0" lang="en-US" sz="2100" spc="-1" strike="noStrike">
                <a:solidFill>
                  <a:srgbClr val="0b5394"/>
                </a:solidFill>
                <a:latin typeface="Arial"/>
              </a:rPr>
              <a:t>Days 4-6: Problem Solving Strategi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b5394"/>
                </a:solidFill>
                <a:latin typeface="Arial"/>
              </a:rPr>
              <a:t>    </a:t>
            </a:r>
            <a:r>
              <a:rPr b="0" lang="en-US" sz="2100" spc="-1" strike="noStrike">
                <a:solidFill>
                  <a:srgbClr val="0b5394"/>
                </a:solidFill>
                <a:latin typeface="Arial"/>
              </a:rPr>
              <a:t>Days 7-9: Reinforcing the phases in the problem solving proces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b5394"/>
                </a:solidFill>
                <a:latin typeface="Arial"/>
              </a:rPr>
              <a:t>    </a:t>
            </a:r>
            <a:r>
              <a:rPr b="0" lang="en-US" sz="2100" spc="-1" strike="noStrike">
                <a:solidFill>
                  <a:srgbClr val="0b5394"/>
                </a:solidFill>
                <a:latin typeface="Arial"/>
              </a:rPr>
              <a:t>Days 10-12: Counting in Binar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b5394"/>
                </a:solidFill>
                <a:latin typeface="Arial"/>
              </a:rPr>
              <a:t>    </a:t>
            </a:r>
            <a:r>
              <a:rPr b="0" lang="en-US" sz="2100" spc="-1" strike="noStrike">
                <a:solidFill>
                  <a:srgbClr val="0b5394"/>
                </a:solidFill>
                <a:latin typeface="Arial"/>
              </a:rPr>
              <a:t>Days 13-14: Linear and binary search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b5394"/>
                </a:solidFill>
                <a:latin typeface="Arial"/>
              </a:rPr>
              <a:t>    </a:t>
            </a:r>
            <a:r>
              <a:rPr b="0" lang="en-US" sz="2100" spc="-1" strike="noStrike">
                <a:solidFill>
                  <a:srgbClr val="0b5394"/>
                </a:solidFill>
                <a:latin typeface="Arial"/>
              </a:rPr>
              <a:t>Days 15-16: Lists and sort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b5394"/>
                </a:solidFill>
                <a:latin typeface="Arial"/>
              </a:rPr>
              <a:t>    </a:t>
            </a:r>
            <a:r>
              <a:rPr b="0" lang="en-US" sz="2100" spc="-1" strike="noStrike">
                <a:solidFill>
                  <a:srgbClr val="0b5394"/>
                </a:solidFill>
                <a:latin typeface="Arial"/>
              </a:rPr>
              <a:t>Days 17: Minimal spanning trees and graph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b5394"/>
                </a:solidFill>
                <a:latin typeface="Arial"/>
              </a:rPr>
              <a:t>    </a:t>
            </a:r>
            <a:r>
              <a:rPr b="0" lang="en-US" sz="2100" spc="-1" strike="noStrike">
                <a:solidFill>
                  <a:srgbClr val="0b5394"/>
                </a:solidFill>
                <a:latin typeface="Arial"/>
              </a:rPr>
              <a:t>Days 18-21: Final unit project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Unit 3: Web Desig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Unit 4: Introduction to Programm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999999"/>
                </a:solidFill>
                <a:latin typeface="Arial"/>
              </a:rPr>
              <a:t>Unit 5: Computing Applicat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999999"/>
                </a:solidFill>
                <a:latin typeface="Arial"/>
              </a:rPr>
              <a:t>Unit 6: Robotic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289480" y="4172040"/>
            <a:ext cx="4435560" cy="31680"/>
          </a:xfrm>
          <a:prstGeom prst="rect">
            <a:avLst/>
          </a:prstGeom>
          <a:solidFill>
            <a:srgbClr val="9900ff"/>
          </a:solidFill>
          <a:ln w="9360">
            <a:solidFill>
              <a:srgbClr val="351c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070840" y="2235240"/>
            <a:ext cx="1197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674ea7"/>
                </a:solidFill>
                <a:latin typeface="Arial"/>
              </a:rPr>
              <a:t>morning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461360" y="4876920"/>
            <a:ext cx="1690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674ea7"/>
                </a:solidFill>
                <a:latin typeface="Arial"/>
              </a:rPr>
              <a:t>afterno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39000" y="6705720"/>
            <a:ext cx="3203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o computer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6095880" y="5689440"/>
            <a:ext cx="3676680" cy="153360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507960" y="1219320"/>
            <a:ext cx="9144000" cy="232092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/>
          <p:nvPr/>
        </p:nvSpPr>
        <p:spPr>
          <a:xfrm>
            <a:off x="1676520" y="4165560"/>
            <a:ext cx="413856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69138"/>
                </a:solidFill>
                <a:latin typeface="'courier new'"/>
              </a:rPr>
              <a:t>beepin' ...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85c6"/>
                </a:solidFill>
                <a:latin typeface="'courier new'"/>
              </a:rPr>
              <a:t>    </a:t>
            </a:r>
            <a:r>
              <a:rPr b="1" lang="en-US" sz="3200" spc="-1" strike="noStrike">
                <a:solidFill>
                  <a:srgbClr val="3d85c6"/>
                </a:solidFill>
                <a:latin typeface="'courier new'"/>
              </a:rPr>
              <a:t>boopin'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Other bases: Hexadecima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55200" cy="62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Just like binary is base 2, we can create numbers in any base we want!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mputers often use hexadecimal (base 16) to represent color values.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ce we only have 10 arabic numerals, we also use 6 letters (a-f) as the additional digits needed in this base. (We need to represent 10 through 15 with only one character, so a=10, b=11, c=12, d=13, e=14, f=15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r example in hexadecimal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f= f *16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+ f *16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 15*16 + 15 *1 = 255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Other bases: Hexadecima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1727280" y="1468440"/>
            <a:ext cx="6705360" cy="5873760"/>
            <a:chOff x="1727280" y="1468440"/>
            <a:chExt cx="6705360" cy="5873760"/>
          </a:xfrm>
        </p:grpSpPr>
        <p:sp>
          <p:nvSpPr>
            <p:cNvPr id="437" name=""/>
            <p:cNvSpPr/>
            <p:nvPr/>
          </p:nvSpPr>
          <p:spPr>
            <a:xfrm>
              <a:off x="1727280" y="1468440"/>
              <a:ext cx="335268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He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79960" y="1468440"/>
              <a:ext cx="335268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ecim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727280" y="2055960"/>
              <a:ext cx="335268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079960" y="2055960"/>
              <a:ext cx="335268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727280" y="2643120"/>
              <a:ext cx="335268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079960" y="2643120"/>
              <a:ext cx="335268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727280" y="3230640"/>
              <a:ext cx="335268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A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079960" y="3230640"/>
              <a:ext cx="335268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727280" y="3817800"/>
              <a:ext cx="335268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FF 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079960" y="3817800"/>
              <a:ext cx="335268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727280" y="4405320"/>
              <a:ext cx="335268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079960" y="4405320"/>
              <a:ext cx="335268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727280" y="4992840"/>
              <a:ext cx="335268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079960" y="4992840"/>
              <a:ext cx="335268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727280" y="5580000"/>
              <a:ext cx="335268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079960" y="5580000"/>
              <a:ext cx="335268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727280" y="6167520"/>
              <a:ext cx="335268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079960" y="6167520"/>
              <a:ext cx="335268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5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727280" y="6754680"/>
              <a:ext cx="335268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079960" y="6754680"/>
              <a:ext cx="335268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079960" y="1468440"/>
              <a:ext cx="3352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079960" y="2055960"/>
              <a:ext cx="3352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079960" y="2643120"/>
              <a:ext cx="3352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079960" y="3230640"/>
              <a:ext cx="3352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079960" y="3817800"/>
              <a:ext cx="3352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079960" y="4405320"/>
              <a:ext cx="3352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079960" y="4992840"/>
              <a:ext cx="3352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079960" y="5580000"/>
              <a:ext cx="3352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079960" y="6167520"/>
              <a:ext cx="3352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079960" y="6754680"/>
              <a:ext cx="3352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079960" y="7342200"/>
              <a:ext cx="3352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727280" y="6754680"/>
              <a:ext cx="0" cy="5875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079960" y="6754680"/>
              <a:ext cx="0" cy="5875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432640" y="6754680"/>
              <a:ext cx="0" cy="5875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727280" y="146844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727280" y="146844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727280" y="1468440"/>
              <a:ext cx="3352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727280" y="1468440"/>
              <a:ext cx="0" cy="58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727280" y="1468440"/>
              <a:ext cx="0" cy="58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727280" y="1468440"/>
              <a:ext cx="0" cy="5875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079960" y="1468440"/>
              <a:ext cx="0" cy="58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079960" y="1468440"/>
              <a:ext cx="0" cy="58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079960" y="1468440"/>
              <a:ext cx="0" cy="5875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727280" y="205596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727280" y="205596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727280" y="2055960"/>
              <a:ext cx="3352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079960" y="146844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079960" y="146844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432640" y="1468440"/>
              <a:ext cx="0" cy="58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432640" y="1468440"/>
              <a:ext cx="0" cy="58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432640" y="1468440"/>
              <a:ext cx="0" cy="5875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079960" y="205596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079960" y="205596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727280" y="2055960"/>
              <a:ext cx="0" cy="58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727280" y="2055960"/>
              <a:ext cx="0" cy="58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727280" y="2055960"/>
              <a:ext cx="0" cy="5871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079960" y="2055960"/>
              <a:ext cx="0" cy="58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079960" y="2055960"/>
              <a:ext cx="0" cy="58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079960" y="2055960"/>
              <a:ext cx="0" cy="5871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727280" y="264312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727280" y="264312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727280" y="2643120"/>
              <a:ext cx="3352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432640" y="2055960"/>
              <a:ext cx="0" cy="58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432640" y="2055960"/>
              <a:ext cx="0" cy="58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8432640" y="2055960"/>
              <a:ext cx="0" cy="5871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079960" y="264312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079960" y="264312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727280" y="2643120"/>
              <a:ext cx="0" cy="58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727280" y="2643120"/>
              <a:ext cx="0" cy="58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727280" y="2643120"/>
              <a:ext cx="0" cy="5875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079960" y="2643120"/>
              <a:ext cx="0" cy="58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079960" y="2643120"/>
              <a:ext cx="0" cy="58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079960" y="2643120"/>
              <a:ext cx="0" cy="5875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727280" y="323064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727280" y="323064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727280" y="3230640"/>
              <a:ext cx="3352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8432640" y="2643120"/>
              <a:ext cx="0" cy="58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8432640" y="2643120"/>
              <a:ext cx="0" cy="58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432640" y="2643120"/>
              <a:ext cx="0" cy="5875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079960" y="323064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079960" y="323064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727280" y="3230640"/>
              <a:ext cx="0" cy="58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727280" y="3230640"/>
              <a:ext cx="0" cy="58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727280" y="3230640"/>
              <a:ext cx="0" cy="5871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079960" y="3230640"/>
              <a:ext cx="0" cy="58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079960" y="3230640"/>
              <a:ext cx="0" cy="58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079960" y="3230640"/>
              <a:ext cx="0" cy="5871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727280" y="381780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727280" y="381780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727280" y="3817800"/>
              <a:ext cx="3352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8432640" y="3230640"/>
              <a:ext cx="0" cy="58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8432640" y="3230640"/>
              <a:ext cx="0" cy="58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432640" y="3230640"/>
              <a:ext cx="0" cy="5871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079960" y="381780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079960" y="381780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727280" y="3817800"/>
              <a:ext cx="0" cy="58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727280" y="3817800"/>
              <a:ext cx="0" cy="58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727280" y="3817800"/>
              <a:ext cx="0" cy="5875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079960" y="3817800"/>
              <a:ext cx="0" cy="58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079960" y="3817800"/>
              <a:ext cx="0" cy="58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079960" y="3817800"/>
              <a:ext cx="0" cy="5875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727280" y="440532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727280" y="440532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7280" y="4405320"/>
              <a:ext cx="3352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8432640" y="3817800"/>
              <a:ext cx="0" cy="58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8432640" y="3817800"/>
              <a:ext cx="0" cy="58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8432640" y="3817800"/>
              <a:ext cx="0" cy="5875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079960" y="440532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079960" y="440532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727280" y="4405320"/>
              <a:ext cx="0" cy="58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727280" y="4405320"/>
              <a:ext cx="0" cy="58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727280" y="4405320"/>
              <a:ext cx="0" cy="5875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079960" y="4405320"/>
              <a:ext cx="0" cy="58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079960" y="4405320"/>
              <a:ext cx="0" cy="58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079960" y="4405320"/>
              <a:ext cx="0" cy="5875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727280" y="499284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727280" y="499284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727280" y="4992840"/>
              <a:ext cx="3352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8432640" y="4405320"/>
              <a:ext cx="0" cy="58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8432640" y="4405320"/>
              <a:ext cx="0" cy="58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8432640" y="4405320"/>
              <a:ext cx="0" cy="5875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079960" y="499284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9960" y="499284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727280" y="4992840"/>
              <a:ext cx="0" cy="58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727280" y="4992840"/>
              <a:ext cx="0" cy="58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727280" y="4992840"/>
              <a:ext cx="0" cy="5871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079960" y="4992840"/>
              <a:ext cx="0" cy="58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079960" y="4992840"/>
              <a:ext cx="0" cy="58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9960" y="4992840"/>
              <a:ext cx="0" cy="5871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727280" y="558000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727280" y="558000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727280" y="5580000"/>
              <a:ext cx="3352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8432640" y="4992840"/>
              <a:ext cx="0" cy="58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8432640" y="4992840"/>
              <a:ext cx="0" cy="58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8432640" y="4992840"/>
              <a:ext cx="0" cy="5871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079960" y="558000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079960" y="558000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727280" y="5580000"/>
              <a:ext cx="0" cy="58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727280" y="5580000"/>
              <a:ext cx="0" cy="58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727280" y="5580000"/>
              <a:ext cx="0" cy="5875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9960" y="5580000"/>
              <a:ext cx="0" cy="58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079960" y="5580000"/>
              <a:ext cx="0" cy="58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079960" y="5580000"/>
              <a:ext cx="0" cy="5875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727280" y="616752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727280" y="616752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727280" y="6167520"/>
              <a:ext cx="3352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8432640" y="5580000"/>
              <a:ext cx="0" cy="58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432640" y="5580000"/>
              <a:ext cx="0" cy="58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8432640" y="5580000"/>
              <a:ext cx="0" cy="5875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079960" y="616752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079960" y="616752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727280" y="6167520"/>
              <a:ext cx="0" cy="58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727280" y="6167520"/>
              <a:ext cx="0" cy="58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727280" y="6167520"/>
              <a:ext cx="0" cy="5871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079960" y="6167520"/>
              <a:ext cx="0" cy="58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079960" y="6167520"/>
              <a:ext cx="0" cy="58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9960" y="6167520"/>
              <a:ext cx="0" cy="5871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727280" y="675468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727280" y="675468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727280" y="6754680"/>
              <a:ext cx="3352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8432640" y="6167520"/>
              <a:ext cx="0" cy="58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8432640" y="6167520"/>
              <a:ext cx="0" cy="58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8432640" y="6167520"/>
              <a:ext cx="0" cy="5871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079960" y="675468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079960" y="675468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727280" y="6754680"/>
              <a:ext cx="0" cy="58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727280" y="6754680"/>
              <a:ext cx="0" cy="58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079960" y="6754680"/>
              <a:ext cx="0" cy="58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079960" y="6754680"/>
              <a:ext cx="0" cy="58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727280" y="734220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727280" y="734220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727280" y="7342200"/>
              <a:ext cx="3352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8432640" y="6754680"/>
              <a:ext cx="0" cy="58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8432640" y="6754680"/>
              <a:ext cx="0" cy="58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079960" y="734220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079960" y="734220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lors in Hexadecimal!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55200" cy="68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ach color has an 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2700" spc="-1" strike="noStrike">
                <a:solidFill>
                  <a:srgbClr val="00ff00"/>
                </a:solidFill>
                <a:latin typeface="Arial"/>
              </a:rPr>
              <a:t>G</a:t>
            </a: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(Red-Green-Blue) value which represents how much of each primary additive color is needed to make that color (with a value from 0-255).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r example 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255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700" spc="-1" strike="noStrike">
                <a:solidFill>
                  <a:srgbClr val="00ff00"/>
                </a:solidFill>
                <a:latin typeface="Arial"/>
              </a:rPr>
              <a:t>0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                    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lack =</a:t>
            </a: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ff00"/>
                </a:solidFill>
                <a:latin typeface="Arial"/>
              </a:rPr>
              <a:t>0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 0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                    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hite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255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ff00"/>
                </a:solidFill>
                <a:latin typeface="Arial"/>
              </a:rPr>
              <a:t>255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 255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ce these numbers can all be represented by only 2 digits, to save space, computers represent them in hexadecima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o, 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= 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FF</a:t>
            </a:r>
            <a:r>
              <a:rPr b="0" lang="en-US" sz="2700" spc="-1" strike="noStrike">
                <a:solidFill>
                  <a:srgbClr val="00ff00"/>
                </a:solidFill>
                <a:latin typeface="Arial"/>
              </a:rPr>
              <a:t>00</a:t>
            </a: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0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       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lack =</a:t>
            </a: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 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00</a:t>
            </a:r>
            <a:r>
              <a:rPr b="0" lang="en-US" sz="2700" spc="-1" strike="noStrike">
                <a:solidFill>
                  <a:srgbClr val="00ff00"/>
                </a:solidFill>
                <a:latin typeface="Arial"/>
              </a:rPr>
              <a:t>00</a:t>
            </a: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0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      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hite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=</a:t>
            </a: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 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FF</a:t>
            </a:r>
            <a:r>
              <a:rPr b="0" lang="en-US" sz="2700" spc="-1" strike="noStrike">
                <a:solidFill>
                  <a:srgbClr val="00ff00"/>
                </a:solidFill>
                <a:latin typeface="Arial"/>
              </a:rPr>
              <a:t>FF</a:t>
            </a: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718160" y="5791320"/>
            <a:ext cx="521640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 reality, people just look up hexadecimal color codes onlin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RGB values!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7" name=""/>
          <p:cNvGrpSpPr/>
          <p:nvPr/>
        </p:nvGrpSpPr>
        <p:grpSpPr>
          <a:xfrm>
            <a:off x="1736640" y="1469880"/>
            <a:ext cx="6686640" cy="5713560"/>
            <a:chOff x="1736640" y="1469880"/>
            <a:chExt cx="6686640" cy="5713560"/>
          </a:xfrm>
        </p:grpSpPr>
        <p:sp>
          <p:nvSpPr>
            <p:cNvPr id="618" name=""/>
            <p:cNvSpPr/>
            <p:nvPr/>
          </p:nvSpPr>
          <p:spPr>
            <a:xfrm>
              <a:off x="1736640" y="1469880"/>
              <a:ext cx="2055960" cy="90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Red Valu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792600" y="1469880"/>
              <a:ext cx="2401920" cy="90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ff00"/>
                  </a:solidFill>
                  <a:latin typeface="Arial"/>
                </a:rPr>
                <a:t>Green Valu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194520" y="1469880"/>
              <a:ext cx="2228760" cy="90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Arial"/>
                </a:rPr>
                <a:t>Blue Valu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736640" y="2378160"/>
              <a:ext cx="205596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5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(FF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792600" y="2378160"/>
              <a:ext cx="240192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0 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(00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194520" y="2378160"/>
              <a:ext cx="222876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(00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736640" y="3935520"/>
              <a:ext cx="205596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5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(FF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792600" y="3935520"/>
              <a:ext cx="240192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5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(FF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194520" y="3935520"/>
              <a:ext cx="222876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5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(FF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736640" y="5537160"/>
              <a:ext cx="2055960" cy="16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(0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792600" y="5537160"/>
              <a:ext cx="2401920" cy="16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(0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194520" y="5537160"/>
              <a:ext cx="2228760" cy="16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(0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194520" y="1469880"/>
              <a:ext cx="22287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194520" y="2378160"/>
              <a:ext cx="22287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194520" y="3935520"/>
              <a:ext cx="22287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94520" y="5537160"/>
              <a:ext cx="22287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194520" y="7183440"/>
              <a:ext cx="22287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736640" y="5537160"/>
              <a:ext cx="0" cy="16462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792600" y="5537160"/>
              <a:ext cx="0" cy="16462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194520" y="5537160"/>
              <a:ext cx="0" cy="16462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23280" y="5537160"/>
              <a:ext cx="0" cy="16462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736640" y="1469880"/>
              <a:ext cx="205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736640" y="1469880"/>
              <a:ext cx="205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736640" y="1469880"/>
              <a:ext cx="20559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736640" y="1469880"/>
              <a:ext cx="0" cy="90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736640" y="1469880"/>
              <a:ext cx="0" cy="90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736640" y="1469880"/>
              <a:ext cx="0" cy="9082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792600" y="1469880"/>
              <a:ext cx="0" cy="90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792600" y="1469880"/>
              <a:ext cx="0" cy="90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792600" y="1469880"/>
              <a:ext cx="0" cy="9082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736640" y="2378160"/>
              <a:ext cx="205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736640" y="2378160"/>
              <a:ext cx="205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736640" y="2378160"/>
              <a:ext cx="20559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792600" y="1469880"/>
              <a:ext cx="240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792600" y="1469880"/>
              <a:ext cx="240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792600" y="1469880"/>
              <a:ext cx="24019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194520" y="1469880"/>
              <a:ext cx="0" cy="90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194520" y="1469880"/>
              <a:ext cx="0" cy="90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194520" y="1469880"/>
              <a:ext cx="0" cy="9082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792600" y="2378160"/>
              <a:ext cx="240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792600" y="2378160"/>
              <a:ext cx="240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792600" y="2378160"/>
              <a:ext cx="24019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194520" y="1469880"/>
              <a:ext cx="2228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194520" y="1469880"/>
              <a:ext cx="2228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423280" y="1469880"/>
              <a:ext cx="0" cy="90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8423280" y="1469880"/>
              <a:ext cx="0" cy="90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8423280" y="1469880"/>
              <a:ext cx="0" cy="9082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94520" y="2378160"/>
              <a:ext cx="2228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194520" y="2378160"/>
              <a:ext cx="2228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736640" y="2378160"/>
              <a:ext cx="0" cy="155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736640" y="2378160"/>
              <a:ext cx="0" cy="155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736640" y="2378160"/>
              <a:ext cx="0" cy="15573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792600" y="2378160"/>
              <a:ext cx="0" cy="155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792600" y="2378160"/>
              <a:ext cx="0" cy="155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792600" y="2378160"/>
              <a:ext cx="0" cy="15573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736640" y="3935520"/>
              <a:ext cx="205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736640" y="3935520"/>
              <a:ext cx="205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736640" y="3935520"/>
              <a:ext cx="20559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194520" y="2378160"/>
              <a:ext cx="0" cy="155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194520" y="2378160"/>
              <a:ext cx="0" cy="155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194520" y="2378160"/>
              <a:ext cx="0" cy="15573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792600" y="3935520"/>
              <a:ext cx="240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792600" y="3935520"/>
              <a:ext cx="240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792600" y="3935520"/>
              <a:ext cx="24019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423280" y="2378160"/>
              <a:ext cx="0" cy="155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423280" y="2378160"/>
              <a:ext cx="0" cy="155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423280" y="2378160"/>
              <a:ext cx="0" cy="15573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194520" y="3935520"/>
              <a:ext cx="2228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194520" y="3935520"/>
              <a:ext cx="2228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736640" y="3935520"/>
              <a:ext cx="0" cy="160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736640" y="3935520"/>
              <a:ext cx="0" cy="160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736640" y="3935520"/>
              <a:ext cx="0" cy="1601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792600" y="3935520"/>
              <a:ext cx="0" cy="160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792600" y="3935520"/>
              <a:ext cx="0" cy="160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792600" y="3935520"/>
              <a:ext cx="0" cy="1601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736640" y="5537160"/>
              <a:ext cx="205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736640" y="5537160"/>
              <a:ext cx="205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736640" y="5537160"/>
              <a:ext cx="20559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194520" y="3935520"/>
              <a:ext cx="0" cy="160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194520" y="3935520"/>
              <a:ext cx="0" cy="160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194520" y="3935520"/>
              <a:ext cx="0" cy="1601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792600" y="5537160"/>
              <a:ext cx="240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792600" y="5537160"/>
              <a:ext cx="240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792600" y="5537160"/>
              <a:ext cx="24019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423280" y="3935520"/>
              <a:ext cx="0" cy="160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8423280" y="3935520"/>
              <a:ext cx="0" cy="160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8423280" y="3935520"/>
              <a:ext cx="0" cy="1601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194520" y="5537160"/>
              <a:ext cx="2228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194520" y="5537160"/>
              <a:ext cx="2228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736640" y="5537160"/>
              <a:ext cx="0" cy="164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736640" y="5537160"/>
              <a:ext cx="0" cy="164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792600" y="5537160"/>
              <a:ext cx="0" cy="164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792600" y="5537160"/>
              <a:ext cx="0" cy="164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736640" y="7183440"/>
              <a:ext cx="205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736640" y="7183440"/>
              <a:ext cx="205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736640" y="7183440"/>
              <a:ext cx="20559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194520" y="5537160"/>
              <a:ext cx="0" cy="164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194520" y="5537160"/>
              <a:ext cx="0" cy="164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792600" y="7183440"/>
              <a:ext cx="240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792600" y="7183440"/>
              <a:ext cx="240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792600" y="7183440"/>
              <a:ext cx="24019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8423280" y="5537160"/>
              <a:ext cx="0" cy="164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8423280" y="5537160"/>
              <a:ext cx="0" cy="164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94520" y="7183440"/>
              <a:ext cx="2228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194520" y="7183440"/>
              <a:ext cx="2228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3" name=""/>
          <p:cNvSpPr/>
          <p:nvPr/>
        </p:nvSpPr>
        <p:spPr>
          <a:xfrm>
            <a:off x="819000" y="3664080"/>
            <a:ext cx="1849680" cy="164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819000" y="5594400"/>
            <a:ext cx="1849680" cy="1649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819000" y="1733400"/>
            <a:ext cx="1849680" cy="16495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750000" y="304920"/>
            <a:ext cx="2901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ccccff"/>
                </a:solidFill>
                <a:uFillTx/>
                <a:latin typeface="Arial"/>
              </a:rPr>
              <a:t>check your guess..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Estimate the RGB values!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1736640" y="1469880"/>
            <a:ext cx="6686640" cy="5705640"/>
            <a:chOff x="1736640" y="1469880"/>
            <a:chExt cx="6686640" cy="5705640"/>
          </a:xfrm>
        </p:grpSpPr>
        <p:sp>
          <p:nvSpPr>
            <p:cNvPr id="729" name=""/>
            <p:cNvSpPr/>
            <p:nvPr/>
          </p:nvSpPr>
          <p:spPr>
            <a:xfrm>
              <a:off x="1736640" y="1469880"/>
              <a:ext cx="2055960" cy="90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Red Valu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792600" y="1469880"/>
              <a:ext cx="2401920" cy="90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ff00"/>
                  </a:solidFill>
                  <a:latin typeface="Arial"/>
                </a:rPr>
                <a:t>Green Valu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194520" y="1469880"/>
              <a:ext cx="2228760" cy="90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Arial"/>
                </a:rPr>
                <a:t>Blue Valu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736640" y="2376360"/>
              <a:ext cx="2055960" cy="155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792600" y="2376360"/>
              <a:ext cx="2401920" cy="155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194520" y="2376360"/>
              <a:ext cx="2228760" cy="155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5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736640" y="3929040"/>
              <a:ext cx="2055960" cy="16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792600" y="3929040"/>
              <a:ext cx="2401920" cy="16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5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194520" y="3929040"/>
              <a:ext cx="2228760" cy="16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736640" y="5532480"/>
              <a:ext cx="2055960" cy="16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792600" y="5532480"/>
              <a:ext cx="2401920" cy="16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194520" y="5532480"/>
              <a:ext cx="2228760" cy="16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194520" y="1469880"/>
              <a:ext cx="22287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194520" y="2376360"/>
              <a:ext cx="22287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194520" y="3929040"/>
              <a:ext cx="22287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194520" y="5532480"/>
              <a:ext cx="22287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194520" y="7175520"/>
              <a:ext cx="22287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736640" y="5532480"/>
              <a:ext cx="0" cy="16430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792600" y="5532480"/>
              <a:ext cx="0" cy="16430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194520" y="5532480"/>
              <a:ext cx="0" cy="16430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8423280" y="5532480"/>
              <a:ext cx="0" cy="16430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736640" y="1469880"/>
              <a:ext cx="205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736640" y="1469880"/>
              <a:ext cx="205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736640" y="1469880"/>
              <a:ext cx="20559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736640" y="1469880"/>
              <a:ext cx="0" cy="90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736640" y="1469880"/>
              <a:ext cx="0" cy="90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736640" y="1469880"/>
              <a:ext cx="0" cy="9064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792600" y="1469880"/>
              <a:ext cx="0" cy="90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792600" y="1469880"/>
              <a:ext cx="0" cy="90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792600" y="1469880"/>
              <a:ext cx="0" cy="9064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736640" y="2376360"/>
              <a:ext cx="205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736640" y="2376360"/>
              <a:ext cx="205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736640" y="2376360"/>
              <a:ext cx="20559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792600" y="1469880"/>
              <a:ext cx="240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792600" y="1469880"/>
              <a:ext cx="240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792600" y="1469880"/>
              <a:ext cx="24019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194520" y="1469880"/>
              <a:ext cx="0" cy="90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194520" y="1469880"/>
              <a:ext cx="0" cy="90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194520" y="1469880"/>
              <a:ext cx="0" cy="9064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792600" y="2376360"/>
              <a:ext cx="240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792600" y="2376360"/>
              <a:ext cx="240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792600" y="2376360"/>
              <a:ext cx="24019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194520" y="1469880"/>
              <a:ext cx="2228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194520" y="1469880"/>
              <a:ext cx="2228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8423280" y="1469880"/>
              <a:ext cx="0" cy="90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8423280" y="1469880"/>
              <a:ext cx="0" cy="90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8423280" y="1469880"/>
              <a:ext cx="0" cy="9064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194520" y="2376360"/>
              <a:ext cx="2228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194520" y="2376360"/>
              <a:ext cx="2228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736640" y="2376360"/>
              <a:ext cx="0" cy="155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736640" y="2376360"/>
              <a:ext cx="0" cy="155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736640" y="2376360"/>
              <a:ext cx="0" cy="15526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792600" y="2376360"/>
              <a:ext cx="0" cy="155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792600" y="2376360"/>
              <a:ext cx="0" cy="155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92600" y="2376360"/>
              <a:ext cx="0" cy="15526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736640" y="3929040"/>
              <a:ext cx="205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736640" y="3929040"/>
              <a:ext cx="205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736640" y="3929040"/>
              <a:ext cx="20559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194520" y="2376360"/>
              <a:ext cx="0" cy="155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194520" y="2376360"/>
              <a:ext cx="0" cy="155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194520" y="2376360"/>
              <a:ext cx="0" cy="15526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792600" y="3929040"/>
              <a:ext cx="240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792600" y="3929040"/>
              <a:ext cx="240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792600" y="3929040"/>
              <a:ext cx="24019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8423280" y="2376360"/>
              <a:ext cx="0" cy="155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8423280" y="2376360"/>
              <a:ext cx="0" cy="155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8423280" y="2376360"/>
              <a:ext cx="0" cy="15526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194520" y="3929040"/>
              <a:ext cx="2228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194520" y="3929040"/>
              <a:ext cx="2228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736640" y="3929040"/>
              <a:ext cx="0" cy="160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736640" y="3929040"/>
              <a:ext cx="0" cy="160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736640" y="3929040"/>
              <a:ext cx="0" cy="16034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792600" y="3929040"/>
              <a:ext cx="0" cy="160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792600" y="3929040"/>
              <a:ext cx="0" cy="160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92600" y="3929040"/>
              <a:ext cx="0" cy="16034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736640" y="5532480"/>
              <a:ext cx="205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736640" y="5532480"/>
              <a:ext cx="205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736640" y="5532480"/>
              <a:ext cx="20559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194520" y="3929040"/>
              <a:ext cx="0" cy="160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194520" y="3929040"/>
              <a:ext cx="0" cy="160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194520" y="3929040"/>
              <a:ext cx="0" cy="16034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792600" y="5532480"/>
              <a:ext cx="240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792600" y="5532480"/>
              <a:ext cx="240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792600" y="5532480"/>
              <a:ext cx="24019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8423280" y="3929040"/>
              <a:ext cx="0" cy="160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8423280" y="3929040"/>
              <a:ext cx="0" cy="160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8423280" y="3929040"/>
              <a:ext cx="0" cy="16034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194520" y="5532480"/>
              <a:ext cx="2228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194520" y="5532480"/>
              <a:ext cx="2228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736640" y="5532480"/>
              <a:ext cx="0" cy="164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736640" y="5532480"/>
              <a:ext cx="0" cy="164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792600" y="5532480"/>
              <a:ext cx="0" cy="164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3792600" y="5532480"/>
              <a:ext cx="0" cy="164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736640" y="7175520"/>
              <a:ext cx="205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736640" y="7175520"/>
              <a:ext cx="205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736640" y="7175520"/>
              <a:ext cx="20559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194520" y="5532480"/>
              <a:ext cx="0" cy="164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194520" y="5532480"/>
              <a:ext cx="0" cy="164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792600" y="7175520"/>
              <a:ext cx="240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3792600" y="7175520"/>
              <a:ext cx="240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3792600" y="7175520"/>
              <a:ext cx="24019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8423280" y="5532480"/>
              <a:ext cx="0" cy="164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8423280" y="5532480"/>
              <a:ext cx="0" cy="164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194520" y="7175520"/>
              <a:ext cx="2228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194520" y="7175520"/>
              <a:ext cx="2228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4" name=""/>
          <p:cNvSpPr/>
          <p:nvPr/>
        </p:nvSpPr>
        <p:spPr>
          <a:xfrm>
            <a:off x="819000" y="5391000"/>
            <a:ext cx="1849680" cy="1649520"/>
          </a:xfrm>
          <a:prstGeom prst="rect">
            <a:avLst/>
          </a:prstGeom>
          <a:solidFill>
            <a:srgbClr val="666666"/>
          </a:solidFill>
          <a:ln w="936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819000" y="3562200"/>
            <a:ext cx="1849680" cy="164952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819000" y="1733400"/>
            <a:ext cx="1849680" cy="1649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6750000" y="304920"/>
            <a:ext cx="2901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ccccff"/>
                </a:solidFill>
                <a:uFillTx/>
                <a:latin typeface="Arial"/>
              </a:rPr>
              <a:t>check your guess..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ffee Break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9" name="" descr=""/>
          <p:cNvPicPr/>
          <p:nvPr/>
        </p:nvPicPr>
        <p:blipFill>
          <a:blip r:embed="rId1"/>
          <a:stretch/>
        </p:blipFill>
        <p:spPr>
          <a:xfrm>
            <a:off x="5892840" y="1930320"/>
            <a:ext cx="4194000" cy="56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Unit 2 Lab: Lego Encoding (Part 1)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1" name="" descr=""/>
          <p:cNvPicPr/>
          <p:nvPr/>
        </p:nvPicPr>
        <p:blipFill>
          <a:blip r:embed="rId1"/>
          <a:stretch/>
        </p:blipFill>
        <p:spPr>
          <a:xfrm>
            <a:off x="812880" y="2336760"/>
            <a:ext cx="2609640" cy="2459160"/>
          </a:xfrm>
          <a:prstGeom prst="rect">
            <a:avLst/>
          </a:prstGeom>
          <a:ln w="0">
            <a:noFill/>
          </a:ln>
        </p:spPr>
      </p:pic>
      <p:sp>
        <p:nvSpPr>
          <p:cNvPr id="842" name=""/>
          <p:cNvSpPr/>
          <p:nvPr/>
        </p:nvSpPr>
        <p:spPr>
          <a:xfrm>
            <a:off x="4210200" y="2133720"/>
            <a:ext cx="4940280" cy="27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hallenge: 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 encode a lego structure with binary number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n to decode those numbers to build the structur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Lego example!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145800" y="1011240"/>
            <a:ext cx="97693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we want to encode the blocks at righ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5" name="" descr=""/>
          <p:cNvPicPr/>
          <p:nvPr/>
        </p:nvPicPr>
        <p:blipFill>
          <a:blip r:embed="rId1"/>
          <a:stretch/>
        </p:blipFill>
        <p:spPr>
          <a:xfrm>
            <a:off x="7010280" y="1422360"/>
            <a:ext cx="2587680" cy="3440160"/>
          </a:xfrm>
          <a:prstGeom prst="rect">
            <a:avLst/>
          </a:prstGeom>
          <a:ln w="0">
            <a:noFill/>
          </a:ln>
        </p:spPr>
      </p:pic>
      <p:grpSp>
        <p:nvGrpSpPr>
          <p:cNvPr id="846" name=""/>
          <p:cNvGrpSpPr/>
          <p:nvPr/>
        </p:nvGrpSpPr>
        <p:grpSpPr>
          <a:xfrm>
            <a:off x="3749760" y="2878200"/>
            <a:ext cx="2660400" cy="969840"/>
            <a:chOff x="3749760" y="2878200"/>
            <a:chExt cx="2660400" cy="969840"/>
          </a:xfrm>
        </p:grpSpPr>
        <p:sp>
          <p:nvSpPr>
            <p:cNvPr id="847" name=""/>
            <p:cNvSpPr/>
            <p:nvPr/>
          </p:nvSpPr>
          <p:spPr>
            <a:xfrm>
              <a:off x="3749760" y="2878200"/>
              <a:ext cx="133020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col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079960" y="2878200"/>
              <a:ext cx="133020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749760" y="3232080"/>
              <a:ext cx="133020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079960" y="3232080"/>
              <a:ext cx="133020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749760" y="3530520"/>
              <a:ext cx="13302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yello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079960" y="3530520"/>
              <a:ext cx="13302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079960" y="2878200"/>
              <a:ext cx="13302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079960" y="3232080"/>
              <a:ext cx="13302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79960" y="3530520"/>
              <a:ext cx="13302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079960" y="3848040"/>
              <a:ext cx="13302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749760" y="3530520"/>
              <a:ext cx="0" cy="3175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079960" y="3530520"/>
              <a:ext cx="0" cy="3175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410160" y="3530520"/>
              <a:ext cx="0" cy="3175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749760" y="2878200"/>
              <a:ext cx="133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749760" y="2878200"/>
              <a:ext cx="133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749760" y="2878200"/>
              <a:ext cx="13302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749760" y="2878200"/>
              <a:ext cx="0" cy="35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749760" y="2878200"/>
              <a:ext cx="0" cy="35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749760" y="2878200"/>
              <a:ext cx="0" cy="3538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079960" y="2878200"/>
              <a:ext cx="0" cy="35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079960" y="2878200"/>
              <a:ext cx="0" cy="35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079960" y="2878200"/>
              <a:ext cx="0" cy="3538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749760" y="3232080"/>
              <a:ext cx="133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749760" y="3232080"/>
              <a:ext cx="133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749760" y="3232080"/>
              <a:ext cx="13302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079960" y="2878200"/>
              <a:ext cx="133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079960" y="2878200"/>
              <a:ext cx="133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410160" y="2878200"/>
              <a:ext cx="0" cy="35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410160" y="2878200"/>
              <a:ext cx="0" cy="35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410160" y="2878200"/>
              <a:ext cx="0" cy="3538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079960" y="3232080"/>
              <a:ext cx="133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079960" y="3232080"/>
              <a:ext cx="133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749760" y="3232080"/>
              <a:ext cx="0" cy="29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749760" y="3232080"/>
              <a:ext cx="0" cy="29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749760" y="3232080"/>
              <a:ext cx="0" cy="2984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079960" y="3232080"/>
              <a:ext cx="0" cy="29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079960" y="3232080"/>
              <a:ext cx="0" cy="29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079960" y="3232080"/>
              <a:ext cx="0" cy="2984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749760" y="3530520"/>
              <a:ext cx="133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749760" y="3530520"/>
              <a:ext cx="133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749760" y="3530520"/>
              <a:ext cx="13302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410160" y="3232080"/>
              <a:ext cx="0" cy="29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410160" y="3232080"/>
              <a:ext cx="0" cy="29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410160" y="3232080"/>
              <a:ext cx="0" cy="2984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079960" y="3530520"/>
              <a:ext cx="133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079960" y="3530520"/>
              <a:ext cx="133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749760" y="3530520"/>
              <a:ext cx="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749760" y="3530520"/>
              <a:ext cx="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079960" y="3530520"/>
              <a:ext cx="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5079960" y="3530520"/>
              <a:ext cx="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749760" y="3848040"/>
              <a:ext cx="133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749760" y="3848040"/>
              <a:ext cx="133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749760" y="3848040"/>
              <a:ext cx="13302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410160" y="3530520"/>
              <a:ext cx="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410160" y="3530520"/>
              <a:ext cx="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079960" y="3848040"/>
              <a:ext cx="133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079960" y="3848040"/>
              <a:ext cx="133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4" name=""/>
          <p:cNvGrpSpPr/>
          <p:nvPr/>
        </p:nvGrpSpPr>
        <p:grpSpPr>
          <a:xfrm>
            <a:off x="3414600" y="2644920"/>
            <a:ext cx="3330720" cy="1025280"/>
            <a:chOff x="3414600" y="2644920"/>
            <a:chExt cx="3330720" cy="1025280"/>
          </a:xfrm>
        </p:grpSpPr>
        <p:sp>
          <p:nvSpPr>
            <p:cNvPr id="905" name=""/>
            <p:cNvSpPr/>
            <p:nvPr/>
          </p:nvSpPr>
          <p:spPr>
            <a:xfrm>
              <a:off x="3414600" y="2644920"/>
              <a:ext cx="166536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brick ty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079960" y="2644920"/>
              <a:ext cx="166536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414600" y="2992320"/>
              <a:ext cx="166536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X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079960" y="2992320"/>
              <a:ext cx="166536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14600" y="3340080"/>
              <a:ext cx="16653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X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079960" y="3340080"/>
              <a:ext cx="16653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079960" y="2644920"/>
              <a:ext cx="16653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079960" y="2992320"/>
              <a:ext cx="16653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5079960" y="3340080"/>
              <a:ext cx="16653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079960" y="3670200"/>
              <a:ext cx="16653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414600" y="3340080"/>
              <a:ext cx="0" cy="3301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079960" y="3340080"/>
              <a:ext cx="0" cy="3301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745320" y="3340080"/>
              <a:ext cx="0" cy="3301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414600" y="2644920"/>
              <a:ext cx="166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414600" y="2644920"/>
              <a:ext cx="166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414600" y="2644920"/>
              <a:ext cx="16653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414600" y="2644920"/>
              <a:ext cx="0" cy="34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414600" y="2644920"/>
              <a:ext cx="0" cy="34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414600" y="2644920"/>
              <a:ext cx="0" cy="3474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079960" y="2644920"/>
              <a:ext cx="0" cy="34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079960" y="2644920"/>
              <a:ext cx="0" cy="34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079960" y="2644920"/>
              <a:ext cx="0" cy="3474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414600" y="2992320"/>
              <a:ext cx="166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414600" y="2992320"/>
              <a:ext cx="166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414600" y="2992320"/>
              <a:ext cx="16653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079960" y="2644920"/>
              <a:ext cx="166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5079960" y="2644920"/>
              <a:ext cx="166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6745320" y="2644920"/>
              <a:ext cx="0" cy="34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745320" y="2644920"/>
              <a:ext cx="0" cy="34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745320" y="2644920"/>
              <a:ext cx="0" cy="3474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079960" y="2992320"/>
              <a:ext cx="166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079960" y="2992320"/>
              <a:ext cx="166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3414600" y="2992320"/>
              <a:ext cx="0" cy="3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3414600" y="2992320"/>
              <a:ext cx="0" cy="3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414600" y="2992320"/>
              <a:ext cx="0" cy="3477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5079960" y="2992320"/>
              <a:ext cx="0" cy="3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079960" y="2992320"/>
              <a:ext cx="0" cy="3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5079960" y="2992320"/>
              <a:ext cx="0" cy="3477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3414600" y="3340080"/>
              <a:ext cx="166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3414600" y="3340080"/>
              <a:ext cx="166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3414600" y="3340080"/>
              <a:ext cx="16653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745320" y="2992320"/>
              <a:ext cx="0" cy="3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6745320" y="2992320"/>
              <a:ext cx="0" cy="3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745320" y="2992320"/>
              <a:ext cx="0" cy="3477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5079960" y="3340080"/>
              <a:ext cx="166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5079960" y="3340080"/>
              <a:ext cx="166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414600" y="3340080"/>
              <a:ext cx="0" cy="33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3414600" y="3340080"/>
              <a:ext cx="0" cy="33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079960" y="3340080"/>
              <a:ext cx="0" cy="33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079960" y="3340080"/>
              <a:ext cx="0" cy="33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3414600" y="3670200"/>
              <a:ext cx="166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414600" y="3670200"/>
              <a:ext cx="166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414600" y="3670200"/>
              <a:ext cx="16653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745320" y="3340080"/>
              <a:ext cx="0" cy="33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745320" y="3340080"/>
              <a:ext cx="0" cy="33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079960" y="3670200"/>
              <a:ext cx="166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079960" y="3670200"/>
              <a:ext cx="166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2" name=""/>
          <p:cNvGrpSpPr/>
          <p:nvPr/>
        </p:nvGrpSpPr>
        <p:grpSpPr>
          <a:xfrm>
            <a:off x="3676680" y="2828880"/>
            <a:ext cx="2806560" cy="1008000"/>
            <a:chOff x="3676680" y="2828880"/>
            <a:chExt cx="2806560" cy="1008000"/>
          </a:xfrm>
        </p:grpSpPr>
        <p:sp>
          <p:nvSpPr>
            <p:cNvPr id="963" name=""/>
            <p:cNvSpPr/>
            <p:nvPr/>
          </p:nvSpPr>
          <p:spPr>
            <a:xfrm>
              <a:off x="3676680" y="2828880"/>
              <a:ext cx="1403280" cy="3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orien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5079960" y="2828880"/>
              <a:ext cx="1403280" cy="3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676680" y="3211560"/>
              <a:ext cx="14032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orizon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079960" y="3211560"/>
              <a:ext cx="14032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676680" y="3524400"/>
              <a:ext cx="1403280" cy="31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ertic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079960" y="3524400"/>
              <a:ext cx="1403280" cy="31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079960" y="2828880"/>
              <a:ext cx="14032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079960" y="3211560"/>
              <a:ext cx="14032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079960" y="3524400"/>
              <a:ext cx="14032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079960" y="3836880"/>
              <a:ext cx="14032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676680" y="3524400"/>
              <a:ext cx="0" cy="3124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079960" y="3524400"/>
              <a:ext cx="0" cy="3124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483240" y="3524400"/>
              <a:ext cx="0" cy="3124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676680" y="2828880"/>
              <a:ext cx="14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3676680" y="2828880"/>
              <a:ext cx="14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3676680" y="2828880"/>
              <a:ext cx="14032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676680" y="2828880"/>
              <a:ext cx="0" cy="38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3676680" y="2828880"/>
              <a:ext cx="0" cy="38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3676680" y="2828880"/>
              <a:ext cx="0" cy="3826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079960" y="2828880"/>
              <a:ext cx="0" cy="38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079960" y="2828880"/>
              <a:ext cx="0" cy="38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079960" y="2828880"/>
              <a:ext cx="0" cy="3826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676680" y="3211560"/>
              <a:ext cx="14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676680" y="3211560"/>
              <a:ext cx="14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676680" y="3211560"/>
              <a:ext cx="14032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5079960" y="2828880"/>
              <a:ext cx="14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079960" y="2828880"/>
              <a:ext cx="14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6483240" y="2828880"/>
              <a:ext cx="0" cy="38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6483240" y="2828880"/>
              <a:ext cx="0" cy="38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6483240" y="2828880"/>
              <a:ext cx="0" cy="3826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5079960" y="3211560"/>
              <a:ext cx="14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5079960" y="3211560"/>
              <a:ext cx="14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676680" y="3211560"/>
              <a:ext cx="0" cy="31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676680" y="3211560"/>
              <a:ext cx="0" cy="31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3676680" y="3211560"/>
              <a:ext cx="0" cy="3128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079960" y="3211560"/>
              <a:ext cx="0" cy="31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079960" y="3211560"/>
              <a:ext cx="0" cy="31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5079960" y="3211560"/>
              <a:ext cx="0" cy="3128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676680" y="3524400"/>
              <a:ext cx="14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676680" y="3524400"/>
              <a:ext cx="14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676680" y="3524400"/>
              <a:ext cx="14032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6483240" y="3211560"/>
              <a:ext cx="0" cy="31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6483240" y="3211560"/>
              <a:ext cx="0" cy="31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6483240" y="3211560"/>
              <a:ext cx="0" cy="3128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079960" y="3524400"/>
              <a:ext cx="14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079960" y="3524400"/>
              <a:ext cx="14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3676680" y="3524400"/>
              <a:ext cx="0" cy="31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3676680" y="3524400"/>
              <a:ext cx="0" cy="31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079960" y="3524400"/>
              <a:ext cx="0" cy="31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079960" y="3524400"/>
              <a:ext cx="0" cy="31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3676680" y="3836880"/>
              <a:ext cx="14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3676680" y="3836880"/>
              <a:ext cx="14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676680" y="3836880"/>
              <a:ext cx="14032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6483240" y="3524400"/>
              <a:ext cx="0" cy="31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6483240" y="3524400"/>
              <a:ext cx="0" cy="31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5079960" y="3836880"/>
              <a:ext cx="14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5079960" y="3836880"/>
              <a:ext cx="14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0" name=""/>
          <p:cNvGrpSpPr/>
          <p:nvPr/>
        </p:nvGrpSpPr>
        <p:grpSpPr>
          <a:xfrm>
            <a:off x="2098800" y="1724040"/>
            <a:ext cx="5960880" cy="1741320"/>
            <a:chOff x="2098800" y="1724040"/>
            <a:chExt cx="5960880" cy="1741320"/>
          </a:xfrm>
        </p:grpSpPr>
        <p:sp>
          <p:nvSpPr>
            <p:cNvPr id="1021" name=""/>
            <p:cNvSpPr/>
            <p:nvPr/>
          </p:nvSpPr>
          <p:spPr>
            <a:xfrm>
              <a:off x="2098800" y="1724040"/>
              <a:ext cx="130176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x- coordin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3400560" y="1724040"/>
              <a:ext cx="124920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y-coordin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4649760" y="1724040"/>
              <a:ext cx="102564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col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5675400" y="1724040"/>
              <a:ext cx="119196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brick ty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867360" y="1724040"/>
              <a:ext cx="119232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orien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098800" y="2309760"/>
              <a:ext cx="130176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400560" y="2309760"/>
              <a:ext cx="124920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649760" y="2309760"/>
              <a:ext cx="102564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675400" y="2309760"/>
              <a:ext cx="119196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X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6867360" y="2309760"/>
              <a:ext cx="119232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ertic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098800" y="2895480"/>
              <a:ext cx="130176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400560" y="2895480"/>
              <a:ext cx="124920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4649760" y="2895480"/>
              <a:ext cx="102564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yello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675400" y="2895480"/>
              <a:ext cx="119196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X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867360" y="2895480"/>
              <a:ext cx="119232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orizon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867360" y="1724040"/>
              <a:ext cx="11923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6867360" y="2309760"/>
              <a:ext cx="11923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867360" y="2895480"/>
              <a:ext cx="11923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6867360" y="3465360"/>
              <a:ext cx="11923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098800" y="2895480"/>
              <a:ext cx="0" cy="5698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3400560" y="2895480"/>
              <a:ext cx="0" cy="5698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649760" y="2895480"/>
              <a:ext cx="0" cy="5698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675400" y="2895480"/>
              <a:ext cx="0" cy="5698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6867360" y="2895480"/>
              <a:ext cx="0" cy="5698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8059680" y="2895480"/>
              <a:ext cx="0" cy="5698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098800" y="1724040"/>
              <a:ext cx="130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098800" y="1724040"/>
              <a:ext cx="130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098800" y="1724040"/>
              <a:ext cx="13017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098800" y="1724040"/>
              <a:ext cx="0" cy="58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098800" y="1724040"/>
              <a:ext cx="0" cy="58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098800" y="1724040"/>
              <a:ext cx="0" cy="5857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3400560" y="1724040"/>
              <a:ext cx="0" cy="58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3400560" y="1724040"/>
              <a:ext cx="0" cy="58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400560" y="1724040"/>
              <a:ext cx="0" cy="5857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098800" y="2309760"/>
              <a:ext cx="130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098800" y="2309760"/>
              <a:ext cx="130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098800" y="2309760"/>
              <a:ext cx="13017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400560" y="1724040"/>
              <a:ext cx="124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400560" y="1724040"/>
              <a:ext cx="124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400560" y="1724040"/>
              <a:ext cx="12492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649760" y="1724040"/>
              <a:ext cx="0" cy="58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649760" y="1724040"/>
              <a:ext cx="0" cy="58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649760" y="1724040"/>
              <a:ext cx="0" cy="5857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3400560" y="2309760"/>
              <a:ext cx="124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400560" y="2309760"/>
              <a:ext cx="124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400560" y="2309760"/>
              <a:ext cx="12492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649760" y="1724040"/>
              <a:ext cx="102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649760" y="1724040"/>
              <a:ext cx="102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649760" y="1724040"/>
              <a:ext cx="102564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5675400" y="1724040"/>
              <a:ext cx="0" cy="58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675400" y="1724040"/>
              <a:ext cx="0" cy="58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675400" y="1724040"/>
              <a:ext cx="0" cy="5857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649760" y="2309760"/>
              <a:ext cx="102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4649760" y="2309760"/>
              <a:ext cx="102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4649760" y="2309760"/>
              <a:ext cx="102564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5675400" y="1724040"/>
              <a:ext cx="119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5675400" y="1724040"/>
              <a:ext cx="119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5675400" y="1724040"/>
              <a:ext cx="11919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6867360" y="1724040"/>
              <a:ext cx="0" cy="58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867360" y="1724040"/>
              <a:ext cx="0" cy="58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867360" y="1724040"/>
              <a:ext cx="0" cy="5857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675400" y="2309760"/>
              <a:ext cx="119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675400" y="2309760"/>
              <a:ext cx="119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5675400" y="2309760"/>
              <a:ext cx="11919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67360" y="1724040"/>
              <a:ext cx="119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867360" y="1724040"/>
              <a:ext cx="119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8059680" y="1724040"/>
              <a:ext cx="0" cy="58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8059680" y="1724040"/>
              <a:ext cx="0" cy="58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8059680" y="1724040"/>
              <a:ext cx="0" cy="5857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6867360" y="2309760"/>
              <a:ext cx="119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6867360" y="2309760"/>
              <a:ext cx="119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098800" y="2309760"/>
              <a:ext cx="0" cy="58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098800" y="2309760"/>
              <a:ext cx="0" cy="58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098800" y="2309760"/>
              <a:ext cx="0" cy="5857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3400560" y="2309760"/>
              <a:ext cx="0" cy="58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400560" y="2309760"/>
              <a:ext cx="0" cy="58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400560" y="2309760"/>
              <a:ext cx="0" cy="5857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2098800" y="2895480"/>
              <a:ext cx="130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098800" y="2895480"/>
              <a:ext cx="130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098800" y="2895480"/>
              <a:ext cx="13017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649760" y="2309760"/>
              <a:ext cx="0" cy="58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649760" y="2309760"/>
              <a:ext cx="0" cy="58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649760" y="2309760"/>
              <a:ext cx="0" cy="5857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3400560" y="2895480"/>
              <a:ext cx="124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3400560" y="2895480"/>
              <a:ext cx="124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3400560" y="2895480"/>
              <a:ext cx="12492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675400" y="2309760"/>
              <a:ext cx="0" cy="58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5675400" y="2309760"/>
              <a:ext cx="0" cy="58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5675400" y="2309760"/>
              <a:ext cx="0" cy="5857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649760" y="2895480"/>
              <a:ext cx="102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4649760" y="2895480"/>
              <a:ext cx="102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4649760" y="2895480"/>
              <a:ext cx="102564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6867360" y="2309760"/>
              <a:ext cx="0" cy="58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6867360" y="2309760"/>
              <a:ext cx="0" cy="58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6867360" y="2309760"/>
              <a:ext cx="0" cy="5857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675400" y="2895480"/>
              <a:ext cx="119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5675400" y="2895480"/>
              <a:ext cx="119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675400" y="2895480"/>
              <a:ext cx="11919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8059680" y="2309760"/>
              <a:ext cx="0" cy="58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8059680" y="2309760"/>
              <a:ext cx="0" cy="58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8059680" y="2309760"/>
              <a:ext cx="0" cy="5857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6867360" y="2895480"/>
              <a:ext cx="119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6867360" y="2895480"/>
              <a:ext cx="119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2098800" y="2895480"/>
              <a:ext cx="0" cy="56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2098800" y="2895480"/>
              <a:ext cx="0" cy="56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400560" y="2895480"/>
              <a:ext cx="0" cy="56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400560" y="2895480"/>
              <a:ext cx="0" cy="56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2098800" y="3465360"/>
              <a:ext cx="130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2098800" y="3465360"/>
              <a:ext cx="130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2098800" y="3465360"/>
              <a:ext cx="13017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4649760" y="2895480"/>
              <a:ext cx="0" cy="56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4649760" y="2895480"/>
              <a:ext cx="0" cy="56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400560" y="3465360"/>
              <a:ext cx="124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400560" y="3465360"/>
              <a:ext cx="124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400560" y="3465360"/>
              <a:ext cx="12492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675400" y="2895480"/>
              <a:ext cx="0" cy="56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5675400" y="2895480"/>
              <a:ext cx="0" cy="56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649760" y="3465360"/>
              <a:ext cx="102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649760" y="3465360"/>
              <a:ext cx="102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649760" y="3465360"/>
              <a:ext cx="102564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6867360" y="2895480"/>
              <a:ext cx="0" cy="56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67360" y="2895480"/>
              <a:ext cx="0" cy="56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5675400" y="3465360"/>
              <a:ext cx="119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675400" y="3465360"/>
              <a:ext cx="119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675400" y="3465360"/>
              <a:ext cx="11919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8059680" y="2895480"/>
              <a:ext cx="0" cy="56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8059680" y="2895480"/>
              <a:ext cx="0" cy="56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6867360" y="3465360"/>
              <a:ext cx="119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6867360" y="3465360"/>
              <a:ext cx="119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0" name=""/>
          <p:cNvGrpSpPr/>
          <p:nvPr/>
        </p:nvGrpSpPr>
        <p:grpSpPr>
          <a:xfrm>
            <a:off x="2106720" y="1730520"/>
            <a:ext cx="5945040" cy="1738080"/>
            <a:chOff x="2106720" y="1730520"/>
            <a:chExt cx="5945040" cy="1738080"/>
          </a:xfrm>
        </p:grpSpPr>
        <p:sp>
          <p:nvSpPr>
            <p:cNvPr id="1151" name=""/>
            <p:cNvSpPr/>
            <p:nvPr/>
          </p:nvSpPr>
          <p:spPr>
            <a:xfrm>
              <a:off x="2106720" y="1730520"/>
              <a:ext cx="12747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x- coordin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381480" y="1730520"/>
              <a:ext cx="12618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y-coordin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4643280" y="1730520"/>
              <a:ext cx="10303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col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673600" y="1730520"/>
              <a:ext cx="11890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brick ty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6862680" y="1730520"/>
              <a:ext cx="11890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orien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2106720" y="2309760"/>
              <a:ext cx="1274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3381480" y="2309760"/>
              <a:ext cx="1261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643280" y="2309760"/>
              <a:ext cx="1030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5673600" y="2309760"/>
              <a:ext cx="1189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6862680" y="2309760"/>
              <a:ext cx="1189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2106720" y="2889360"/>
              <a:ext cx="12747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381480" y="2889360"/>
              <a:ext cx="12618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643280" y="2889360"/>
              <a:ext cx="10303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5673600" y="2889360"/>
              <a:ext cx="11890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6862680" y="2889360"/>
              <a:ext cx="11890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6862680" y="1730520"/>
              <a:ext cx="11890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6862680" y="2309760"/>
              <a:ext cx="11890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862680" y="2889360"/>
              <a:ext cx="11890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6862680" y="3468600"/>
              <a:ext cx="11890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2106720" y="2889360"/>
              <a:ext cx="0" cy="5792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3381480" y="2889360"/>
              <a:ext cx="0" cy="5792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643280" y="2889360"/>
              <a:ext cx="0" cy="5792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673600" y="2889360"/>
              <a:ext cx="0" cy="5792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6862680" y="2889360"/>
              <a:ext cx="0" cy="5792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8051760" y="2889360"/>
              <a:ext cx="0" cy="5792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2106720" y="1730520"/>
              <a:ext cx="127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2106720" y="1730520"/>
              <a:ext cx="127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106720" y="1730520"/>
              <a:ext cx="12747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2106720" y="1730520"/>
              <a:ext cx="0" cy="57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2106720" y="1730520"/>
              <a:ext cx="0" cy="57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2106720" y="1730520"/>
              <a:ext cx="0" cy="5792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3381480" y="1730520"/>
              <a:ext cx="0" cy="57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3381480" y="1730520"/>
              <a:ext cx="0" cy="57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3381480" y="1730520"/>
              <a:ext cx="0" cy="5792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2106720" y="2309760"/>
              <a:ext cx="127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2106720" y="2309760"/>
              <a:ext cx="127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2106720" y="2309760"/>
              <a:ext cx="12747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381480" y="1730520"/>
              <a:ext cx="126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3381480" y="1730520"/>
              <a:ext cx="126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3381480" y="1730520"/>
              <a:ext cx="12618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643280" y="1730520"/>
              <a:ext cx="0" cy="57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643280" y="1730520"/>
              <a:ext cx="0" cy="57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643280" y="1730520"/>
              <a:ext cx="0" cy="5792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3381480" y="2309760"/>
              <a:ext cx="126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3381480" y="2309760"/>
              <a:ext cx="126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3381480" y="2309760"/>
              <a:ext cx="12618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643280" y="1730520"/>
              <a:ext cx="10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643280" y="1730520"/>
              <a:ext cx="10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643280" y="1730520"/>
              <a:ext cx="10303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5673600" y="1730520"/>
              <a:ext cx="0" cy="57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5673600" y="1730520"/>
              <a:ext cx="0" cy="57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5673600" y="1730520"/>
              <a:ext cx="0" cy="5792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643280" y="2309760"/>
              <a:ext cx="10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643280" y="2309760"/>
              <a:ext cx="10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643280" y="2309760"/>
              <a:ext cx="10303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673600" y="1730520"/>
              <a:ext cx="11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5673600" y="1730520"/>
              <a:ext cx="11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5673600" y="1730520"/>
              <a:ext cx="11890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6862680" y="1730520"/>
              <a:ext cx="0" cy="57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6862680" y="1730520"/>
              <a:ext cx="0" cy="57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6862680" y="1730520"/>
              <a:ext cx="0" cy="5792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5673600" y="2309760"/>
              <a:ext cx="11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5673600" y="2309760"/>
              <a:ext cx="11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5673600" y="2309760"/>
              <a:ext cx="11890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862680" y="1730520"/>
              <a:ext cx="11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6862680" y="1730520"/>
              <a:ext cx="11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8051760" y="1730520"/>
              <a:ext cx="0" cy="57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8051760" y="1730520"/>
              <a:ext cx="0" cy="57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8051760" y="1730520"/>
              <a:ext cx="0" cy="5792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862680" y="2309760"/>
              <a:ext cx="11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6862680" y="2309760"/>
              <a:ext cx="11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2106720" y="2309760"/>
              <a:ext cx="0" cy="57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2106720" y="2309760"/>
              <a:ext cx="0" cy="57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2106720" y="2309760"/>
              <a:ext cx="0" cy="5796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3381480" y="2309760"/>
              <a:ext cx="0" cy="57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3381480" y="2309760"/>
              <a:ext cx="0" cy="57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3381480" y="2309760"/>
              <a:ext cx="0" cy="5796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2106720" y="2889360"/>
              <a:ext cx="127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2106720" y="2889360"/>
              <a:ext cx="127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2106720" y="2889360"/>
              <a:ext cx="12747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643280" y="2309760"/>
              <a:ext cx="0" cy="57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643280" y="2309760"/>
              <a:ext cx="0" cy="57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4643280" y="2309760"/>
              <a:ext cx="0" cy="5796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3381480" y="2889360"/>
              <a:ext cx="126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3381480" y="2889360"/>
              <a:ext cx="126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3381480" y="2889360"/>
              <a:ext cx="12618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5673600" y="2309760"/>
              <a:ext cx="0" cy="57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673600" y="2309760"/>
              <a:ext cx="0" cy="57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673600" y="2309760"/>
              <a:ext cx="0" cy="5796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643280" y="2889360"/>
              <a:ext cx="10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643280" y="2889360"/>
              <a:ext cx="10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643280" y="2889360"/>
              <a:ext cx="10303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862680" y="2309760"/>
              <a:ext cx="0" cy="57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6862680" y="2309760"/>
              <a:ext cx="0" cy="57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862680" y="2309760"/>
              <a:ext cx="0" cy="5796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673600" y="2889360"/>
              <a:ext cx="11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673600" y="2889360"/>
              <a:ext cx="11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673600" y="2889360"/>
              <a:ext cx="11890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8051760" y="2309760"/>
              <a:ext cx="0" cy="57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8051760" y="2309760"/>
              <a:ext cx="0" cy="57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8051760" y="2309760"/>
              <a:ext cx="0" cy="5796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862680" y="2889360"/>
              <a:ext cx="11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6862680" y="2889360"/>
              <a:ext cx="11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2106720" y="2889360"/>
              <a:ext cx="0" cy="57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2106720" y="2889360"/>
              <a:ext cx="0" cy="57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3381480" y="2889360"/>
              <a:ext cx="0" cy="57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3381480" y="2889360"/>
              <a:ext cx="0" cy="57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106720" y="3468600"/>
              <a:ext cx="127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106720" y="3468600"/>
              <a:ext cx="127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2106720" y="3468600"/>
              <a:ext cx="12747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643280" y="2889360"/>
              <a:ext cx="0" cy="57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643280" y="2889360"/>
              <a:ext cx="0" cy="57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3381480" y="3468600"/>
              <a:ext cx="126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3381480" y="3468600"/>
              <a:ext cx="126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3381480" y="3468600"/>
              <a:ext cx="12618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673600" y="2889360"/>
              <a:ext cx="0" cy="57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673600" y="2889360"/>
              <a:ext cx="0" cy="57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4643280" y="3468600"/>
              <a:ext cx="10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643280" y="3468600"/>
              <a:ext cx="10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643280" y="3468600"/>
              <a:ext cx="10303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6862680" y="2889360"/>
              <a:ext cx="0" cy="57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6862680" y="2889360"/>
              <a:ext cx="0" cy="57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5673600" y="3468600"/>
              <a:ext cx="11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5673600" y="3468600"/>
              <a:ext cx="11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5673600" y="3468600"/>
              <a:ext cx="11890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8051760" y="2889360"/>
              <a:ext cx="0" cy="57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8051760" y="2889360"/>
              <a:ext cx="0" cy="57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6862680" y="3468600"/>
              <a:ext cx="11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6862680" y="3468600"/>
              <a:ext cx="11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0" name=""/>
          <p:cNvSpPr/>
          <p:nvPr/>
        </p:nvSpPr>
        <p:spPr>
          <a:xfrm>
            <a:off x="247680" y="5689440"/>
            <a:ext cx="139392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egend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Unit 2 Lab: Lego Encoding (Part 1)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223920" y="1796760"/>
            <a:ext cx="640224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 a structure out of your 8 lego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3" name="" descr=""/>
          <p:cNvPicPr/>
          <p:nvPr/>
        </p:nvPicPr>
        <p:blipFill>
          <a:blip r:embed="rId1"/>
          <a:stretch/>
        </p:blipFill>
        <p:spPr>
          <a:xfrm>
            <a:off x="6807240" y="1320840"/>
            <a:ext cx="2609640" cy="2459160"/>
          </a:xfrm>
          <a:prstGeom prst="rect">
            <a:avLst/>
          </a:prstGeom>
          <a:ln w="0">
            <a:noFill/>
          </a:ln>
        </p:spPr>
      </p:pic>
      <p:sp>
        <p:nvSpPr>
          <p:cNvPr id="1284" name=""/>
          <p:cNvSpPr/>
          <p:nvPr/>
        </p:nvSpPr>
        <p:spPr>
          <a:xfrm>
            <a:off x="1873080" y="4775040"/>
            <a:ext cx="640080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MEMBER the order in which you placed the legos!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7680" y="304560"/>
            <a:ext cx="966456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roblem solving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787480" y="3556080"/>
            <a:ext cx="420552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51c75"/>
                </a:solidFill>
                <a:latin typeface="Arial"/>
              </a:rPr>
              <a:t>The purpose of computing is </a:t>
            </a:r>
            <a:r>
              <a:rPr b="1" i="1" lang="en-US" sz="2700" spc="-1" strike="noStrike">
                <a:solidFill>
                  <a:srgbClr val="351c75"/>
                </a:solidFill>
                <a:latin typeface="Arial"/>
              </a:rPr>
              <a:t>insight</a:t>
            </a:r>
            <a:r>
              <a:rPr b="0" lang="en-US" sz="2700" spc="-1" strike="noStrike">
                <a:solidFill>
                  <a:srgbClr val="351c75"/>
                </a:solidFill>
                <a:latin typeface="Arial"/>
              </a:rPr>
              <a:t>, not number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Unit 2 Lab: Lego Encoding (Part 1)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225360" y="1812600"/>
            <a:ext cx="6556320" cy="54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66666"/>
                </a:solidFill>
                <a:latin typeface="Arial"/>
              </a:rPr>
              <a:t>Make a structure out of your 8 lego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 binary, encode the information to build the structure, so that it is reproducible.  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wap instructions and try to build another group's structure.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You will have to supply the position (in xyz coordinates), color, brick type, and rotation of each lego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et red = 0, yellow = 1, white = 2, blue = 3. Convert these numbers into binary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7" name="" descr=""/>
          <p:cNvPicPr/>
          <p:nvPr/>
        </p:nvPicPr>
        <p:blipFill>
          <a:blip r:embed="rId1"/>
          <a:stretch/>
        </p:blipFill>
        <p:spPr>
          <a:xfrm>
            <a:off x="6807240" y="1320840"/>
            <a:ext cx="260964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Unit 2 Lab: Legos!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9" name=""/>
          <p:cNvGrpSpPr/>
          <p:nvPr/>
        </p:nvGrpSpPr>
        <p:grpSpPr>
          <a:xfrm>
            <a:off x="3749760" y="2881440"/>
            <a:ext cx="2660400" cy="2171520"/>
            <a:chOff x="3749760" y="2881440"/>
            <a:chExt cx="2660400" cy="2171520"/>
          </a:xfrm>
        </p:grpSpPr>
        <p:sp>
          <p:nvSpPr>
            <p:cNvPr id="1290" name=""/>
            <p:cNvSpPr/>
            <p:nvPr/>
          </p:nvSpPr>
          <p:spPr>
            <a:xfrm>
              <a:off x="3749760" y="2881440"/>
              <a:ext cx="13302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l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5079960" y="2881440"/>
              <a:ext cx="13302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3749760" y="3208320"/>
              <a:ext cx="13302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5079960" y="3208320"/>
              <a:ext cx="13302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3749760" y="3521160"/>
              <a:ext cx="1330200" cy="31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yello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5079960" y="3521160"/>
              <a:ext cx="1330200" cy="31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3749760" y="3833640"/>
              <a:ext cx="13302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5079960" y="3833640"/>
              <a:ext cx="13302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3749760" y="4130640"/>
              <a:ext cx="133020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079960" y="4130640"/>
              <a:ext cx="133020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3749760" y="4413240"/>
              <a:ext cx="13302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079960" y="4413240"/>
              <a:ext cx="13302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3749760" y="4740120"/>
              <a:ext cx="13302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5079960" y="4740120"/>
              <a:ext cx="13302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5079960" y="2881440"/>
              <a:ext cx="13302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5079960" y="3208320"/>
              <a:ext cx="13302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079960" y="3521160"/>
              <a:ext cx="13302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079960" y="3833640"/>
              <a:ext cx="13302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079960" y="4130640"/>
              <a:ext cx="13302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079960" y="4413240"/>
              <a:ext cx="13302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079960" y="4740120"/>
              <a:ext cx="13302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079960" y="5052960"/>
              <a:ext cx="13302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3749760" y="4740120"/>
              <a:ext cx="0" cy="3128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079960" y="4740120"/>
              <a:ext cx="0" cy="3128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6410160" y="4740120"/>
              <a:ext cx="0" cy="3128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3749760" y="2881440"/>
              <a:ext cx="133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3749760" y="2881440"/>
              <a:ext cx="133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3749760" y="2881440"/>
              <a:ext cx="13302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3749760" y="2881440"/>
              <a:ext cx="0" cy="32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3749760" y="2881440"/>
              <a:ext cx="0" cy="32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3749760" y="2881440"/>
              <a:ext cx="0" cy="3268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5079960" y="2881440"/>
              <a:ext cx="0" cy="32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079960" y="2881440"/>
              <a:ext cx="0" cy="32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079960" y="2881440"/>
              <a:ext cx="0" cy="3268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3749760" y="3208320"/>
              <a:ext cx="133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3749760" y="3208320"/>
              <a:ext cx="133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3749760" y="3208320"/>
              <a:ext cx="13302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5079960" y="2881440"/>
              <a:ext cx="133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5079960" y="2881440"/>
              <a:ext cx="133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6410160" y="2881440"/>
              <a:ext cx="0" cy="32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6410160" y="2881440"/>
              <a:ext cx="0" cy="32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6410160" y="2881440"/>
              <a:ext cx="0" cy="3268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5079960" y="3208320"/>
              <a:ext cx="133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5079960" y="3208320"/>
              <a:ext cx="133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3749760" y="3208320"/>
              <a:ext cx="0" cy="31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3749760" y="3208320"/>
              <a:ext cx="0" cy="31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3749760" y="3208320"/>
              <a:ext cx="0" cy="3128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5079960" y="3208320"/>
              <a:ext cx="0" cy="31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5079960" y="3208320"/>
              <a:ext cx="0" cy="31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5079960" y="3208320"/>
              <a:ext cx="0" cy="3128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3749760" y="3521160"/>
              <a:ext cx="133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3749760" y="3521160"/>
              <a:ext cx="133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3749760" y="3521160"/>
              <a:ext cx="13302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6410160" y="3208320"/>
              <a:ext cx="0" cy="31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6410160" y="3208320"/>
              <a:ext cx="0" cy="31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6410160" y="3208320"/>
              <a:ext cx="0" cy="3128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5079960" y="3521160"/>
              <a:ext cx="133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5079960" y="3521160"/>
              <a:ext cx="133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3749760" y="3521160"/>
              <a:ext cx="0" cy="31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3749760" y="3521160"/>
              <a:ext cx="0" cy="31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3749760" y="3521160"/>
              <a:ext cx="0" cy="3124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5079960" y="3521160"/>
              <a:ext cx="0" cy="31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5079960" y="3521160"/>
              <a:ext cx="0" cy="31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5079960" y="3521160"/>
              <a:ext cx="0" cy="3124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3749760" y="3833640"/>
              <a:ext cx="133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3749760" y="3833640"/>
              <a:ext cx="133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3749760" y="3833640"/>
              <a:ext cx="13302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6410160" y="3521160"/>
              <a:ext cx="0" cy="31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410160" y="3521160"/>
              <a:ext cx="0" cy="31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6410160" y="3521160"/>
              <a:ext cx="0" cy="3124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5079960" y="3833640"/>
              <a:ext cx="133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079960" y="3833640"/>
              <a:ext cx="133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3749760" y="3833640"/>
              <a:ext cx="0" cy="29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3749760" y="3833640"/>
              <a:ext cx="0" cy="29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3749760" y="3833640"/>
              <a:ext cx="0" cy="2970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5079960" y="3833640"/>
              <a:ext cx="0" cy="29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5079960" y="3833640"/>
              <a:ext cx="0" cy="29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079960" y="3833640"/>
              <a:ext cx="0" cy="2970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749760" y="4130640"/>
              <a:ext cx="133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3749760" y="4130640"/>
              <a:ext cx="133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3749760" y="4130640"/>
              <a:ext cx="13302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6410160" y="3833640"/>
              <a:ext cx="0" cy="29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6410160" y="3833640"/>
              <a:ext cx="0" cy="29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6410160" y="3833640"/>
              <a:ext cx="0" cy="2970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079960" y="4130640"/>
              <a:ext cx="133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079960" y="4130640"/>
              <a:ext cx="133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3749760" y="413064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3749760" y="413064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3749760" y="4130640"/>
              <a:ext cx="0" cy="2826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5079960" y="413064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5079960" y="413064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5079960" y="4130640"/>
              <a:ext cx="0" cy="2826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3749760" y="4413240"/>
              <a:ext cx="133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3749760" y="4413240"/>
              <a:ext cx="133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3749760" y="4413240"/>
              <a:ext cx="13302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6410160" y="413064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6410160" y="413064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6410160" y="4130640"/>
              <a:ext cx="0" cy="2826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079960" y="4413240"/>
              <a:ext cx="133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5079960" y="4413240"/>
              <a:ext cx="133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3749760" y="4413240"/>
              <a:ext cx="0" cy="32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3749760" y="4413240"/>
              <a:ext cx="0" cy="32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3749760" y="4413240"/>
              <a:ext cx="0" cy="3268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079960" y="4413240"/>
              <a:ext cx="0" cy="32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079960" y="4413240"/>
              <a:ext cx="0" cy="32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079960" y="4413240"/>
              <a:ext cx="0" cy="3268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3749760" y="4740120"/>
              <a:ext cx="133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3749760" y="4740120"/>
              <a:ext cx="133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3749760" y="4740120"/>
              <a:ext cx="13302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6410160" y="4413240"/>
              <a:ext cx="0" cy="32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410160" y="4413240"/>
              <a:ext cx="0" cy="32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410160" y="4413240"/>
              <a:ext cx="0" cy="3268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5079960" y="4740120"/>
              <a:ext cx="133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5079960" y="4740120"/>
              <a:ext cx="133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3749760" y="4740120"/>
              <a:ext cx="0" cy="31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3749760" y="4740120"/>
              <a:ext cx="0" cy="31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079960" y="4740120"/>
              <a:ext cx="0" cy="31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079960" y="4740120"/>
              <a:ext cx="0" cy="31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3749760" y="5052960"/>
              <a:ext cx="133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3749760" y="5052960"/>
              <a:ext cx="133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3749760" y="5052960"/>
              <a:ext cx="13302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6410160" y="4740120"/>
              <a:ext cx="0" cy="31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6410160" y="4740120"/>
              <a:ext cx="0" cy="31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079960" y="5052960"/>
              <a:ext cx="133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079960" y="5052960"/>
              <a:ext cx="133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5" name=""/>
          <p:cNvGrpSpPr/>
          <p:nvPr/>
        </p:nvGrpSpPr>
        <p:grpSpPr>
          <a:xfrm>
            <a:off x="3414600" y="2651040"/>
            <a:ext cx="3330720" cy="3259080"/>
            <a:chOff x="3414600" y="2651040"/>
            <a:chExt cx="3330720" cy="3259080"/>
          </a:xfrm>
        </p:grpSpPr>
        <p:sp>
          <p:nvSpPr>
            <p:cNvPr id="1416" name=""/>
            <p:cNvSpPr/>
            <p:nvPr/>
          </p:nvSpPr>
          <p:spPr>
            <a:xfrm>
              <a:off x="3414600" y="2651040"/>
              <a:ext cx="166536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rick ty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5079960" y="2651040"/>
              <a:ext cx="166536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3414600" y="2978280"/>
              <a:ext cx="166536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X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5079960" y="2978280"/>
              <a:ext cx="166536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3414600" y="3294000"/>
              <a:ext cx="166536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X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5079960" y="3294000"/>
              <a:ext cx="166536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0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3414600" y="3621240"/>
              <a:ext cx="166536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5079960" y="3621240"/>
              <a:ext cx="166536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3414600" y="3948120"/>
              <a:ext cx="166536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5079960" y="3948120"/>
              <a:ext cx="166536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3414600" y="4275000"/>
              <a:ext cx="166536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079960" y="4275000"/>
              <a:ext cx="166536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3414600" y="4602240"/>
              <a:ext cx="166536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079960" y="4602240"/>
              <a:ext cx="166536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3414600" y="4929120"/>
              <a:ext cx="166536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5079960" y="4929120"/>
              <a:ext cx="166536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3414600" y="5256360"/>
              <a:ext cx="16653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5079960" y="5256360"/>
              <a:ext cx="16653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3414600" y="5594400"/>
              <a:ext cx="166536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5079960" y="5594400"/>
              <a:ext cx="166536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5079960" y="2651040"/>
              <a:ext cx="16653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5079960" y="2978280"/>
              <a:ext cx="16653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5079960" y="3294000"/>
              <a:ext cx="16653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5079960" y="3621240"/>
              <a:ext cx="16653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079960" y="3948120"/>
              <a:ext cx="16653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079960" y="4275000"/>
              <a:ext cx="16653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079960" y="4602240"/>
              <a:ext cx="16653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079960" y="4929120"/>
              <a:ext cx="16653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5079960" y="5256360"/>
              <a:ext cx="16653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5079960" y="5594400"/>
              <a:ext cx="16653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5079960" y="5910120"/>
              <a:ext cx="16653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3414600" y="5594400"/>
              <a:ext cx="0" cy="3157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5079960" y="5594400"/>
              <a:ext cx="0" cy="3157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6745320" y="5594400"/>
              <a:ext cx="0" cy="3157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3414600" y="2651040"/>
              <a:ext cx="166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3414600" y="2651040"/>
              <a:ext cx="166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3414600" y="2651040"/>
              <a:ext cx="16653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3414600" y="2651040"/>
              <a:ext cx="0" cy="32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3414600" y="2651040"/>
              <a:ext cx="0" cy="32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3414600" y="2651040"/>
              <a:ext cx="0" cy="3272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5079960" y="2651040"/>
              <a:ext cx="0" cy="32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079960" y="2651040"/>
              <a:ext cx="0" cy="32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5079960" y="2651040"/>
              <a:ext cx="0" cy="3272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3414600" y="2978280"/>
              <a:ext cx="166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3414600" y="2978280"/>
              <a:ext cx="166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3414600" y="2978280"/>
              <a:ext cx="16653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5079960" y="2651040"/>
              <a:ext cx="166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5079960" y="2651040"/>
              <a:ext cx="166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6745320" y="2651040"/>
              <a:ext cx="0" cy="32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6745320" y="2651040"/>
              <a:ext cx="0" cy="32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6745320" y="2651040"/>
              <a:ext cx="0" cy="3272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5079960" y="2978280"/>
              <a:ext cx="166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5079960" y="2978280"/>
              <a:ext cx="166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3414600" y="2978280"/>
              <a:ext cx="0" cy="31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3414600" y="2978280"/>
              <a:ext cx="0" cy="31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3414600" y="2978280"/>
              <a:ext cx="0" cy="3157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5079960" y="2978280"/>
              <a:ext cx="0" cy="31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5079960" y="2978280"/>
              <a:ext cx="0" cy="31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5079960" y="2978280"/>
              <a:ext cx="0" cy="3157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3414600" y="3294000"/>
              <a:ext cx="166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3414600" y="3294000"/>
              <a:ext cx="166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3414600" y="3294000"/>
              <a:ext cx="16653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745320" y="2978280"/>
              <a:ext cx="0" cy="31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745320" y="2978280"/>
              <a:ext cx="0" cy="31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6745320" y="2978280"/>
              <a:ext cx="0" cy="3157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5079960" y="3294000"/>
              <a:ext cx="166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5079960" y="3294000"/>
              <a:ext cx="166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3414600" y="3294000"/>
              <a:ext cx="0" cy="32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3414600" y="3294000"/>
              <a:ext cx="0" cy="32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3414600" y="3294000"/>
              <a:ext cx="0" cy="3272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5079960" y="3294000"/>
              <a:ext cx="0" cy="32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5079960" y="3294000"/>
              <a:ext cx="0" cy="32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5079960" y="3294000"/>
              <a:ext cx="0" cy="3272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3414600" y="3621240"/>
              <a:ext cx="166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3414600" y="3621240"/>
              <a:ext cx="166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3414600" y="3621240"/>
              <a:ext cx="16653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6745320" y="3294000"/>
              <a:ext cx="0" cy="32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745320" y="3294000"/>
              <a:ext cx="0" cy="32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6745320" y="3294000"/>
              <a:ext cx="0" cy="3272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5079960" y="3621240"/>
              <a:ext cx="166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5079960" y="3621240"/>
              <a:ext cx="166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3414600" y="3621240"/>
              <a:ext cx="0" cy="32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3414600" y="3621240"/>
              <a:ext cx="0" cy="32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3414600" y="3621240"/>
              <a:ext cx="0" cy="3268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5079960" y="3621240"/>
              <a:ext cx="0" cy="32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5079960" y="3621240"/>
              <a:ext cx="0" cy="32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5079960" y="3621240"/>
              <a:ext cx="0" cy="3268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3414600" y="3948120"/>
              <a:ext cx="166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3414600" y="3948120"/>
              <a:ext cx="166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3414600" y="3948120"/>
              <a:ext cx="16653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6745320" y="3621240"/>
              <a:ext cx="0" cy="32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6745320" y="3621240"/>
              <a:ext cx="0" cy="32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745320" y="3621240"/>
              <a:ext cx="0" cy="3268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5079960" y="3948120"/>
              <a:ext cx="166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5079960" y="3948120"/>
              <a:ext cx="166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3414600" y="3948120"/>
              <a:ext cx="0" cy="32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3414600" y="3948120"/>
              <a:ext cx="0" cy="32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3414600" y="3948120"/>
              <a:ext cx="0" cy="3268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5079960" y="3948120"/>
              <a:ext cx="0" cy="32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5079960" y="3948120"/>
              <a:ext cx="0" cy="32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5079960" y="3948120"/>
              <a:ext cx="0" cy="3268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3414600" y="4275000"/>
              <a:ext cx="166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3414600" y="4275000"/>
              <a:ext cx="166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3414600" y="4275000"/>
              <a:ext cx="16653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6745320" y="3948120"/>
              <a:ext cx="0" cy="32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6745320" y="3948120"/>
              <a:ext cx="0" cy="32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6745320" y="3948120"/>
              <a:ext cx="0" cy="3268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5079960" y="4275000"/>
              <a:ext cx="166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5079960" y="4275000"/>
              <a:ext cx="166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3414600" y="4275000"/>
              <a:ext cx="0" cy="32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3414600" y="4275000"/>
              <a:ext cx="0" cy="32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3414600" y="4275000"/>
              <a:ext cx="0" cy="3272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5079960" y="4275000"/>
              <a:ext cx="0" cy="32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5079960" y="4275000"/>
              <a:ext cx="0" cy="32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5079960" y="4275000"/>
              <a:ext cx="0" cy="3272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3414600" y="4602240"/>
              <a:ext cx="166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3414600" y="4602240"/>
              <a:ext cx="166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3414600" y="4602240"/>
              <a:ext cx="16653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6745320" y="4275000"/>
              <a:ext cx="0" cy="32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6745320" y="4275000"/>
              <a:ext cx="0" cy="32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6745320" y="4275000"/>
              <a:ext cx="0" cy="3272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5079960" y="4602240"/>
              <a:ext cx="166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5079960" y="4602240"/>
              <a:ext cx="166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3414600" y="4602240"/>
              <a:ext cx="0" cy="32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3414600" y="4602240"/>
              <a:ext cx="0" cy="32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3414600" y="4602240"/>
              <a:ext cx="0" cy="3268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5079960" y="4602240"/>
              <a:ext cx="0" cy="32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5079960" y="4602240"/>
              <a:ext cx="0" cy="32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5079960" y="4602240"/>
              <a:ext cx="0" cy="3268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3414600" y="4929120"/>
              <a:ext cx="166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3414600" y="4929120"/>
              <a:ext cx="166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3414600" y="4929120"/>
              <a:ext cx="16653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6745320" y="4602240"/>
              <a:ext cx="0" cy="32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6745320" y="4602240"/>
              <a:ext cx="0" cy="32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6745320" y="4602240"/>
              <a:ext cx="0" cy="3268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5079960" y="4929120"/>
              <a:ext cx="166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5079960" y="4929120"/>
              <a:ext cx="166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3414600" y="4929120"/>
              <a:ext cx="0" cy="32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3414600" y="4929120"/>
              <a:ext cx="0" cy="32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3414600" y="4929120"/>
              <a:ext cx="0" cy="3272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5079960" y="4929120"/>
              <a:ext cx="0" cy="32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5079960" y="4929120"/>
              <a:ext cx="0" cy="32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5079960" y="4929120"/>
              <a:ext cx="0" cy="3272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3414600" y="5256360"/>
              <a:ext cx="166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3414600" y="5256360"/>
              <a:ext cx="166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3414600" y="5256360"/>
              <a:ext cx="16653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6745320" y="4929120"/>
              <a:ext cx="0" cy="32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6745320" y="4929120"/>
              <a:ext cx="0" cy="32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6745320" y="4929120"/>
              <a:ext cx="0" cy="3272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5079960" y="5256360"/>
              <a:ext cx="166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5079960" y="5256360"/>
              <a:ext cx="166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3414600" y="5256360"/>
              <a:ext cx="0" cy="33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3414600" y="5256360"/>
              <a:ext cx="0" cy="33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3414600" y="5256360"/>
              <a:ext cx="0" cy="3380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5079960" y="5256360"/>
              <a:ext cx="0" cy="33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5079960" y="5256360"/>
              <a:ext cx="0" cy="33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5079960" y="5256360"/>
              <a:ext cx="0" cy="3380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3414600" y="5594400"/>
              <a:ext cx="166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3414600" y="5594400"/>
              <a:ext cx="166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3414600" y="5594400"/>
              <a:ext cx="16653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6745320" y="5256360"/>
              <a:ext cx="0" cy="33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6745320" y="5256360"/>
              <a:ext cx="0" cy="33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6745320" y="5256360"/>
              <a:ext cx="0" cy="3380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5079960" y="5594400"/>
              <a:ext cx="166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5079960" y="5594400"/>
              <a:ext cx="166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3414600" y="5594400"/>
              <a:ext cx="0" cy="31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3414600" y="5594400"/>
              <a:ext cx="0" cy="31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5079960" y="5594400"/>
              <a:ext cx="0" cy="31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5079960" y="5594400"/>
              <a:ext cx="0" cy="31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3414600" y="5910120"/>
              <a:ext cx="166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3414600" y="5910120"/>
              <a:ext cx="166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3414600" y="5910120"/>
              <a:ext cx="16653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6745320" y="5594400"/>
              <a:ext cx="0" cy="31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6745320" y="5594400"/>
              <a:ext cx="0" cy="31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5079960" y="5910120"/>
              <a:ext cx="166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5079960" y="5910120"/>
              <a:ext cx="166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2" name=""/>
          <p:cNvGrpSpPr/>
          <p:nvPr/>
        </p:nvGrpSpPr>
        <p:grpSpPr>
          <a:xfrm>
            <a:off x="3760920" y="2887560"/>
            <a:ext cx="2638440" cy="1311480"/>
            <a:chOff x="3760920" y="2887560"/>
            <a:chExt cx="2638440" cy="1311480"/>
          </a:xfrm>
        </p:grpSpPr>
        <p:sp>
          <p:nvSpPr>
            <p:cNvPr id="1593" name=""/>
            <p:cNvSpPr/>
            <p:nvPr/>
          </p:nvSpPr>
          <p:spPr>
            <a:xfrm>
              <a:off x="3760920" y="2887560"/>
              <a:ext cx="1319040" cy="49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rien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5079960" y="2887560"/>
              <a:ext cx="1319400" cy="49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3760920" y="3386160"/>
              <a:ext cx="13190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orizon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5079960" y="3386160"/>
              <a:ext cx="13194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3760920" y="3792600"/>
              <a:ext cx="13190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ertic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5079960" y="3792600"/>
              <a:ext cx="13194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5079960" y="2887560"/>
              <a:ext cx="13194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5079960" y="3386160"/>
              <a:ext cx="13194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5079960" y="3792600"/>
              <a:ext cx="13194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5079960" y="4199040"/>
              <a:ext cx="13194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3760920" y="3792600"/>
              <a:ext cx="0" cy="4064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5079960" y="3792600"/>
              <a:ext cx="0" cy="4064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6399360" y="3792600"/>
              <a:ext cx="0" cy="4064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3760920" y="2887560"/>
              <a:ext cx="131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3760920" y="2887560"/>
              <a:ext cx="131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3760920" y="2887560"/>
              <a:ext cx="131904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3760920" y="2887560"/>
              <a:ext cx="0" cy="49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3760920" y="2887560"/>
              <a:ext cx="0" cy="49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3760920" y="2887560"/>
              <a:ext cx="0" cy="4986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5079960" y="2887560"/>
              <a:ext cx="0" cy="49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5079960" y="2887560"/>
              <a:ext cx="0" cy="49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5079960" y="2887560"/>
              <a:ext cx="0" cy="4986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3760920" y="3386160"/>
              <a:ext cx="131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3760920" y="3386160"/>
              <a:ext cx="131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3760920" y="3386160"/>
              <a:ext cx="131904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5079960" y="2887560"/>
              <a:ext cx="1319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5079960" y="2887560"/>
              <a:ext cx="1319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6399360" y="2887560"/>
              <a:ext cx="0" cy="49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6399360" y="2887560"/>
              <a:ext cx="0" cy="49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6399360" y="2887560"/>
              <a:ext cx="0" cy="4986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079960" y="3386160"/>
              <a:ext cx="1319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5079960" y="3386160"/>
              <a:ext cx="1319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3760920" y="3386160"/>
              <a:ext cx="0" cy="40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3760920" y="3386160"/>
              <a:ext cx="0" cy="40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3760920" y="3386160"/>
              <a:ext cx="0" cy="4064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5079960" y="3386160"/>
              <a:ext cx="0" cy="40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5079960" y="3386160"/>
              <a:ext cx="0" cy="40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5079960" y="3386160"/>
              <a:ext cx="0" cy="4064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760920" y="3792600"/>
              <a:ext cx="131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3760920" y="3792600"/>
              <a:ext cx="131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3760920" y="3792600"/>
              <a:ext cx="131904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6399360" y="3386160"/>
              <a:ext cx="0" cy="40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6399360" y="3386160"/>
              <a:ext cx="0" cy="40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6399360" y="3386160"/>
              <a:ext cx="0" cy="4064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5079960" y="3792600"/>
              <a:ext cx="1319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5079960" y="3792600"/>
              <a:ext cx="1319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3760920" y="3792600"/>
              <a:ext cx="0" cy="40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3760920" y="3792600"/>
              <a:ext cx="0" cy="40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5079960" y="3792600"/>
              <a:ext cx="0" cy="40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5079960" y="3792600"/>
              <a:ext cx="0" cy="40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3760920" y="4199040"/>
              <a:ext cx="131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3760920" y="4199040"/>
              <a:ext cx="131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3760920" y="4199040"/>
              <a:ext cx="131904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6399360" y="3792600"/>
              <a:ext cx="0" cy="40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6399360" y="3792600"/>
              <a:ext cx="0" cy="40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5079960" y="4199040"/>
              <a:ext cx="1319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5079960" y="4199040"/>
              <a:ext cx="1319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0" name=""/>
          <p:cNvGrpSpPr/>
          <p:nvPr/>
        </p:nvGrpSpPr>
        <p:grpSpPr>
          <a:xfrm>
            <a:off x="1060560" y="1001880"/>
            <a:ext cx="8039160" cy="2579400"/>
            <a:chOff x="1060560" y="1001880"/>
            <a:chExt cx="8039160" cy="2579400"/>
          </a:xfrm>
        </p:grpSpPr>
        <p:sp>
          <p:nvSpPr>
            <p:cNvPr id="1651" name=""/>
            <p:cNvSpPr/>
            <p:nvPr/>
          </p:nvSpPr>
          <p:spPr>
            <a:xfrm>
              <a:off x="1060560" y="1001880"/>
              <a:ext cx="133992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ri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2400480" y="1001880"/>
              <a:ext cx="133956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x-coordin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3740040" y="1001880"/>
              <a:ext cx="133992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y-coordin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5079960" y="1001880"/>
              <a:ext cx="133992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l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6419880" y="1001880"/>
              <a:ext cx="133992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rick ty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7759800" y="1001880"/>
              <a:ext cx="133992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rien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1060560" y="1333440"/>
              <a:ext cx="13399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2400480" y="1333440"/>
              <a:ext cx="133956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3740040" y="1333440"/>
              <a:ext cx="13399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5079960" y="1333440"/>
              <a:ext cx="13399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6419880" y="1333440"/>
              <a:ext cx="13399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7759800" y="1333440"/>
              <a:ext cx="13399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1060560" y="1612800"/>
              <a:ext cx="13399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2400480" y="1612800"/>
              <a:ext cx="133956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3740040" y="1612800"/>
              <a:ext cx="13399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5079960" y="1612800"/>
              <a:ext cx="13399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6419880" y="1612800"/>
              <a:ext cx="13399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7759800" y="1612800"/>
              <a:ext cx="13399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1060560" y="1892160"/>
              <a:ext cx="133992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2400480" y="1892160"/>
              <a:ext cx="133956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3740040" y="1892160"/>
              <a:ext cx="133992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5079960" y="1892160"/>
              <a:ext cx="133992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6419880" y="1892160"/>
              <a:ext cx="133992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7759800" y="1892160"/>
              <a:ext cx="133992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1060560" y="2171880"/>
              <a:ext cx="13399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2400480" y="2171880"/>
              <a:ext cx="133956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3740040" y="2171880"/>
              <a:ext cx="13399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5079960" y="2171880"/>
              <a:ext cx="13399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6419880" y="2171880"/>
              <a:ext cx="13399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7759800" y="2171880"/>
              <a:ext cx="13399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1060560" y="2451240"/>
              <a:ext cx="13399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2400480" y="2451240"/>
              <a:ext cx="133956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3740040" y="2451240"/>
              <a:ext cx="13399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5079960" y="2451240"/>
              <a:ext cx="13399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6419880" y="2451240"/>
              <a:ext cx="13399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7759800" y="2451240"/>
              <a:ext cx="13399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1060560" y="2730600"/>
              <a:ext cx="13399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2400480" y="2730600"/>
              <a:ext cx="133956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3740040" y="2730600"/>
              <a:ext cx="13399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5079960" y="2730600"/>
              <a:ext cx="13399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6419880" y="2730600"/>
              <a:ext cx="13399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7759800" y="2730600"/>
              <a:ext cx="13399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1060560" y="3009960"/>
              <a:ext cx="13399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2400480" y="3009960"/>
              <a:ext cx="13395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3740040" y="3009960"/>
              <a:ext cx="13399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5079960" y="3009960"/>
              <a:ext cx="13399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6419880" y="3009960"/>
              <a:ext cx="13399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7759800" y="3009960"/>
              <a:ext cx="13399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1060560" y="3301920"/>
              <a:ext cx="13399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2400480" y="3301920"/>
              <a:ext cx="133956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3740040" y="3301920"/>
              <a:ext cx="13399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5079960" y="3301920"/>
              <a:ext cx="13399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6419880" y="3301920"/>
              <a:ext cx="13399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7759800" y="3301920"/>
              <a:ext cx="13399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7759800" y="1001880"/>
              <a:ext cx="13399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7759800" y="1333440"/>
              <a:ext cx="13399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7759800" y="1612800"/>
              <a:ext cx="13399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7759800" y="1892160"/>
              <a:ext cx="13399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7759800" y="2171880"/>
              <a:ext cx="13399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7759800" y="2451240"/>
              <a:ext cx="13399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7759800" y="2730600"/>
              <a:ext cx="13399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7759800" y="3009960"/>
              <a:ext cx="13399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7759800" y="3301920"/>
              <a:ext cx="13399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7759800" y="3581280"/>
              <a:ext cx="13399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1060560" y="3301920"/>
              <a:ext cx="0" cy="2793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2400480" y="3301920"/>
              <a:ext cx="0" cy="2793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3740040" y="3301920"/>
              <a:ext cx="0" cy="2793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5079960" y="3301920"/>
              <a:ext cx="0" cy="2793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6419880" y="3301920"/>
              <a:ext cx="0" cy="2793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7759800" y="3301920"/>
              <a:ext cx="0" cy="2793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9099720" y="3301920"/>
              <a:ext cx="0" cy="2793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1060560" y="10018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1060560" y="10018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1060560" y="1001880"/>
              <a:ext cx="13399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1060560" y="1001880"/>
              <a:ext cx="0" cy="33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1060560" y="1001880"/>
              <a:ext cx="0" cy="33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1060560" y="1001880"/>
              <a:ext cx="0" cy="3315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2400480" y="1001880"/>
              <a:ext cx="0" cy="33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2400480" y="1001880"/>
              <a:ext cx="0" cy="33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2400480" y="1001880"/>
              <a:ext cx="0" cy="3315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1060560" y="133344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1060560" y="133344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1060560" y="1333440"/>
              <a:ext cx="13399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2400480" y="1001880"/>
              <a:ext cx="133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2400480" y="1001880"/>
              <a:ext cx="133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2400480" y="1001880"/>
              <a:ext cx="13395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3740040" y="1001880"/>
              <a:ext cx="0" cy="33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3740040" y="1001880"/>
              <a:ext cx="0" cy="33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3740040" y="1001880"/>
              <a:ext cx="0" cy="3315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2400480" y="1333440"/>
              <a:ext cx="133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2400480" y="1333440"/>
              <a:ext cx="133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2400480" y="1333440"/>
              <a:ext cx="13395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3740040" y="10018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3740040" y="10018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3740040" y="1001880"/>
              <a:ext cx="13399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5079960" y="1001880"/>
              <a:ext cx="0" cy="33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5079960" y="1001880"/>
              <a:ext cx="0" cy="33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5079960" y="1001880"/>
              <a:ext cx="0" cy="3315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3740040" y="133344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3740040" y="133344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3740040" y="1333440"/>
              <a:ext cx="13399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5079960" y="10018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5079960" y="10018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5079960" y="1001880"/>
              <a:ext cx="13399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6419880" y="1001880"/>
              <a:ext cx="0" cy="33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6419880" y="1001880"/>
              <a:ext cx="0" cy="33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6419880" y="1001880"/>
              <a:ext cx="0" cy="3315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5079960" y="133344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5079960" y="133344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5079960" y="1333440"/>
              <a:ext cx="13399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6419880" y="10018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6419880" y="10018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6419880" y="1001880"/>
              <a:ext cx="13399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7759800" y="1001880"/>
              <a:ext cx="0" cy="33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7759800" y="1001880"/>
              <a:ext cx="0" cy="33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7759800" y="1001880"/>
              <a:ext cx="0" cy="3315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6419880" y="133344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6419880" y="133344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6419880" y="1333440"/>
              <a:ext cx="13399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7759800" y="10018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7759800" y="10018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9099720" y="1001880"/>
              <a:ext cx="0" cy="33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9099720" y="1001880"/>
              <a:ext cx="0" cy="33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9099720" y="1001880"/>
              <a:ext cx="0" cy="3315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7759800" y="133344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7759800" y="133344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1060560" y="1333440"/>
              <a:ext cx="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1060560" y="1333440"/>
              <a:ext cx="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1060560" y="1333440"/>
              <a:ext cx="0" cy="2793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2400480" y="1333440"/>
              <a:ext cx="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2400480" y="1333440"/>
              <a:ext cx="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2400480" y="1333440"/>
              <a:ext cx="0" cy="2793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1060560" y="161280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1060560" y="161280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1060560" y="1612800"/>
              <a:ext cx="13399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3740040" y="1333440"/>
              <a:ext cx="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3740040" y="1333440"/>
              <a:ext cx="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3740040" y="1333440"/>
              <a:ext cx="0" cy="2793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2400480" y="1612800"/>
              <a:ext cx="133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2400480" y="1612800"/>
              <a:ext cx="133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2400480" y="1612800"/>
              <a:ext cx="13395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5079960" y="1333440"/>
              <a:ext cx="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5079960" y="1333440"/>
              <a:ext cx="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5079960" y="1333440"/>
              <a:ext cx="0" cy="2793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3740040" y="161280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3740040" y="161280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3740040" y="1612800"/>
              <a:ext cx="13399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6419880" y="1333440"/>
              <a:ext cx="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6419880" y="1333440"/>
              <a:ext cx="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6419880" y="1333440"/>
              <a:ext cx="0" cy="2793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5079960" y="161280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5079960" y="161280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5079960" y="1612800"/>
              <a:ext cx="13399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7759800" y="1333440"/>
              <a:ext cx="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7759800" y="1333440"/>
              <a:ext cx="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7759800" y="1333440"/>
              <a:ext cx="0" cy="2793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6419880" y="161280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6419880" y="161280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6419880" y="1612800"/>
              <a:ext cx="13399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9099720" y="1333440"/>
              <a:ext cx="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9099720" y="1333440"/>
              <a:ext cx="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9099720" y="1333440"/>
              <a:ext cx="0" cy="2793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7759800" y="161280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7759800" y="161280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1060560" y="1612800"/>
              <a:ext cx="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1060560" y="1612800"/>
              <a:ext cx="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1060560" y="1612800"/>
              <a:ext cx="0" cy="2793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2400480" y="1612800"/>
              <a:ext cx="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2400480" y="1612800"/>
              <a:ext cx="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2400480" y="1612800"/>
              <a:ext cx="0" cy="2793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1060560" y="189216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1060560" y="189216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1060560" y="1892160"/>
              <a:ext cx="13399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3740040" y="1612800"/>
              <a:ext cx="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3740040" y="1612800"/>
              <a:ext cx="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3740040" y="1612800"/>
              <a:ext cx="0" cy="2793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2400480" y="1892160"/>
              <a:ext cx="133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2400480" y="1892160"/>
              <a:ext cx="133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2400480" y="1892160"/>
              <a:ext cx="13395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5079960" y="1612800"/>
              <a:ext cx="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5079960" y="1612800"/>
              <a:ext cx="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5079960" y="1612800"/>
              <a:ext cx="0" cy="2793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3740040" y="189216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3740040" y="189216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3740040" y="1892160"/>
              <a:ext cx="13399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6419880" y="1612800"/>
              <a:ext cx="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6419880" y="1612800"/>
              <a:ext cx="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6419880" y="1612800"/>
              <a:ext cx="0" cy="2793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5079960" y="189216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5079960" y="189216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5079960" y="1892160"/>
              <a:ext cx="13399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7759800" y="1612800"/>
              <a:ext cx="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7759800" y="1612800"/>
              <a:ext cx="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7759800" y="1612800"/>
              <a:ext cx="0" cy="2793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6419880" y="189216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6419880" y="189216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6419880" y="1892160"/>
              <a:ext cx="13399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9099720" y="1612800"/>
              <a:ext cx="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9099720" y="1612800"/>
              <a:ext cx="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9099720" y="1612800"/>
              <a:ext cx="0" cy="2793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7759800" y="189216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7759800" y="189216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1060560" y="1892160"/>
              <a:ext cx="0" cy="27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1060560" y="1892160"/>
              <a:ext cx="0" cy="27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1060560" y="1892160"/>
              <a:ext cx="0" cy="2797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2400480" y="1892160"/>
              <a:ext cx="0" cy="27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2400480" y="1892160"/>
              <a:ext cx="0" cy="27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2400480" y="1892160"/>
              <a:ext cx="0" cy="2797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1060560" y="21718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1060560" y="21718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1060560" y="2171880"/>
              <a:ext cx="13399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3740040" y="1892160"/>
              <a:ext cx="0" cy="27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3740040" y="1892160"/>
              <a:ext cx="0" cy="27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3740040" y="1892160"/>
              <a:ext cx="0" cy="2797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2400480" y="2171880"/>
              <a:ext cx="133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2400480" y="2171880"/>
              <a:ext cx="133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2400480" y="2171880"/>
              <a:ext cx="13395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5079960" y="1892160"/>
              <a:ext cx="0" cy="27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5079960" y="1892160"/>
              <a:ext cx="0" cy="27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5079960" y="1892160"/>
              <a:ext cx="0" cy="2797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3740040" y="21718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3740040" y="21718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3740040" y="2171880"/>
              <a:ext cx="13399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6419880" y="1892160"/>
              <a:ext cx="0" cy="27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6419880" y="1892160"/>
              <a:ext cx="0" cy="27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6419880" y="1892160"/>
              <a:ext cx="0" cy="2797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5079960" y="21718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5079960" y="21718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5079960" y="2171880"/>
              <a:ext cx="13399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7759800" y="1892160"/>
              <a:ext cx="0" cy="27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7759800" y="1892160"/>
              <a:ext cx="0" cy="27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7759800" y="1892160"/>
              <a:ext cx="0" cy="2797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6419880" y="21718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6419880" y="21718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6419880" y="2171880"/>
              <a:ext cx="13399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9099720" y="1892160"/>
              <a:ext cx="0" cy="27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9099720" y="1892160"/>
              <a:ext cx="0" cy="27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9099720" y="1892160"/>
              <a:ext cx="0" cy="2797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7759800" y="21718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7759800" y="21718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1060560" y="2171880"/>
              <a:ext cx="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1060560" y="2171880"/>
              <a:ext cx="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1060560" y="2171880"/>
              <a:ext cx="0" cy="2793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2400480" y="2171880"/>
              <a:ext cx="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2400480" y="2171880"/>
              <a:ext cx="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2400480" y="2171880"/>
              <a:ext cx="0" cy="2793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1060560" y="245124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1060560" y="245124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1060560" y="2451240"/>
              <a:ext cx="13399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3740040" y="2171880"/>
              <a:ext cx="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3740040" y="2171880"/>
              <a:ext cx="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3740040" y="2171880"/>
              <a:ext cx="0" cy="2793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2400480" y="2451240"/>
              <a:ext cx="133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400480" y="2451240"/>
              <a:ext cx="133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2400480" y="2451240"/>
              <a:ext cx="13395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5079960" y="2171880"/>
              <a:ext cx="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5079960" y="2171880"/>
              <a:ext cx="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5079960" y="2171880"/>
              <a:ext cx="0" cy="2793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3740040" y="245124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3740040" y="245124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3740040" y="2451240"/>
              <a:ext cx="13399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6419880" y="2171880"/>
              <a:ext cx="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6419880" y="2171880"/>
              <a:ext cx="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6419880" y="2171880"/>
              <a:ext cx="0" cy="2793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5079960" y="245124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5079960" y="245124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5079960" y="2451240"/>
              <a:ext cx="13399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7759800" y="2171880"/>
              <a:ext cx="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7759800" y="2171880"/>
              <a:ext cx="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7759800" y="2171880"/>
              <a:ext cx="0" cy="2793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6419880" y="245124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6419880" y="245124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6419880" y="2451240"/>
              <a:ext cx="13399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9099720" y="2171880"/>
              <a:ext cx="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9099720" y="2171880"/>
              <a:ext cx="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9099720" y="2171880"/>
              <a:ext cx="0" cy="2793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7759800" y="245124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7759800" y="245124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1060560" y="2451240"/>
              <a:ext cx="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1060560" y="2451240"/>
              <a:ext cx="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1060560" y="2451240"/>
              <a:ext cx="0" cy="2793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2400480" y="2451240"/>
              <a:ext cx="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2400480" y="2451240"/>
              <a:ext cx="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2400480" y="2451240"/>
              <a:ext cx="0" cy="2793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1060560" y="273060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1060560" y="273060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1060560" y="2730600"/>
              <a:ext cx="13399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3740040" y="2451240"/>
              <a:ext cx="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3740040" y="2451240"/>
              <a:ext cx="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3740040" y="2451240"/>
              <a:ext cx="0" cy="2793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2400480" y="2730600"/>
              <a:ext cx="133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2400480" y="2730600"/>
              <a:ext cx="133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2400480" y="2730600"/>
              <a:ext cx="13395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5079960" y="2451240"/>
              <a:ext cx="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5079960" y="2451240"/>
              <a:ext cx="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5079960" y="2451240"/>
              <a:ext cx="0" cy="2793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3740040" y="273060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3740040" y="273060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3740040" y="2730600"/>
              <a:ext cx="13399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6419880" y="2451240"/>
              <a:ext cx="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6419880" y="2451240"/>
              <a:ext cx="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6419880" y="2451240"/>
              <a:ext cx="0" cy="2793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5079960" y="273060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5079960" y="273060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5079960" y="2730600"/>
              <a:ext cx="13399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7759800" y="2451240"/>
              <a:ext cx="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7759800" y="2451240"/>
              <a:ext cx="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7759800" y="2451240"/>
              <a:ext cx="0" cy="2793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6419880" y="273060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6419880" y="273060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6419880" y="2730600"/>
              <a:ext cx="13399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9099720" y="2451240"/>
              <a:ext cx="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9099720" y="2451240"/>
              <a:ext cx="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9099720" y="2451240"/>
              <a:ext cx="0" cy="2793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7759800" y="273060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7759800" y="273060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1060560" y="2730600"/>
              <a:ext cx="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1060560" y="2730600"/>
              <a:ext cx="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1060560" y="2730600"/>
              <a:ext cx="0" cy="2793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2400480" y="2730600"/>
              <a:ext cx="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2400480" y="2730600"/>
              <a:ext cx="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2400480" y="2730600"/>
              <a:ext cx="0" cy="2793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1060560" y="300996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1060560" y="300996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1060560" y="3009960"/>
              <a:ext cx="13399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3740040" y="2730600"/>
              <a:ext cx="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3740040" y="2730600"/>
              <a:ext cx="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3740040" y="2730600"/>
              <a:ext cx="0" cy="2793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2400480" y="3009960"/>
              <a:ext cx="133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2400480" y="3009960"/>
              <a:ext cx="133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2400480" y="3009960"/>
              <a:ext cx="13395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5079960" y="2730600"/>
              <a:ext cx="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5079960" y="2730600"/>
              <a:ext cx="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5079960" y="2730600"/>
              <a:ext cx="0" cy="2793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3740040" y="300996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3740040" y="300996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3740040" y="3009960"/>
              <a:ext cx="13399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6419880" y="2730600"/>
              <a:ext cx="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6419880" y="2730600"/>
              <a:ext cx="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6419880" y="2730600"/>
              <a:ext cx="0" cy="2793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5079960" y="300996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5079960" y="300996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5079960" y="3009960"/>
              <a:ext cx="13399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7759800" y="2730600"/>
              <a:ext cx="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7759800" y="2730600"/>
              <a:ext cx="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7759800" y="2730600"/>
              <a:ext cx="0" cy="2793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6419880" y="300996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6419880" y="300996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6419880" y="3009960"/>
              <a:ext cx="13399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9099720" y="2730600"/>
              <a:ext cx="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9099720" y="2730600"/>
              <a:ext cx="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9099720" y="2730600"/>
              <a:ext cx="0" cy="2793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7759800" y="300996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7759800" y="300996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1060560" y="3009960"/>
              <a:ext cx="0" cy="29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1060560" y="3009960"/>
              <a:ext cx="0" cy="29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1060560" y="3009960"/>
              <a:ext cx="0" cy="2919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2400480" y="3009960"/>
              <a:ext cx="0" cy="29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2400480" y="3009960"/>
              <a:ext cx="0" cy="29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2400480" y="3009960"/>
              <a:ext cx="0" cy="2919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1060560" y="33019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1060560" y="33019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1060560" y="3301920"/>
              <a:ext cx="13399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3740040" y="3009960"/>
              <a:ext cx="0" cy="29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3740040" y="3009960"/>
              <a:ext cx="0" cy="29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3740040" y="3009960"/>
              <a:ext cx="0" cy="2919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2400480" y="3301920"/>
              <a:ext cx="133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2400480" y="3301920"/>
              <a:ext cx="133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2400480" y="3301920"/>
              <a:ext cx="13395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5079960" y="3009960"/>
              <a:ext cx="0" cy="29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5079960" y="3009960"/>
              <a:ext cx="0" cy="29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5079960" y="3009960"/>
              <a:ext cx="0" cy="2919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3740040" y="33019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3740040" y="33019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3740040" y="3301920"/>
              <a:ext cx="13399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6419880" y="3009960"/>
              <a:ext cx="0" cy="29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6419880" y="3009960"/>
              <a:ext cx="0" cy="29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6419880" y="3009960"/>
              <a:ext cx="0" cy="2919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5079960" y="33019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5079960" y="33019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5079960" y="3301920"/>
              <a:ext cx="13399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7759800" y="3009960"/>
              <a:ext cx="0" cy="29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7759800" y="3009960"/>
              <a:ext cx="0" cy="29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7759800" y="3009960"/>
              <a:ext cx="0" cy="2919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6419880" y="33019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6419880" y="33019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6419880" y="3301920"/>
              <a:ext cx="13399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9099720" y="3009960"/>
              <a:ext cx="0" cy="29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9099720" y="3009960"/>
              <a:ext cx="0" cy="29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9099720" y="3009960"/>
              <a:ext cx="0" cy="2919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7759800" y="33019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7759800" y="33019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1060560" y="3301920"/>
              <a:ext cx="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1060560" y="3301920"/>
              <a:ext cx="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2400480" y="3301920"/>
              <a:ext cx="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2400480" y="3301920"/>
              <a:ext cx="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1060560" y="35812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1060560" y="35812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1060560" y="3581280"/>
              <a:ext cx="13399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3740040" y="3301920"/>
              <a:ext cx="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3740040" y="3301920"/>
              <a:ext cx="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2400480" y="3581280"/>
              <a:ext cx="133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2400480" y="3581280"/>
              <a:ext cx="133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2400480" y="3581280"/>
              <a:ext cx="13395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5079960" y="3301920"/>
              <a:ext cx="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5079960" y="3301920"/>
              <a:ext cx="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3740040" y="35812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3740040" y="35812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3740040" y="3581280"/>
              <a:ext cx="13399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6419880" y="3301920"/>
              <a:ext cx="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6419880" y="3301920"/>
              <a:ext cx="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5079960" y="35812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5079960" y="35812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5079960" y="3581280"/>
              <a:ext cx="13399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7759800" y="3301920"/>
              <a:ext cx="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7759800" y="3301920"/>
              <a:ext cx="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6419880" y="35812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6419880" y="35812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6419880" y="3581280"/>
              <a:ext cx="13399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9099720" y="3301920"/>
              <a:ext cx="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9099720" y="3301920"/>
              <a:ext cx="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7759800" y="35812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7759800" y="35812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4" name=""/>
          <p:cNvSpPr/>
          <p:nvPr/>
        </p:nvSpPr>
        <p:spPr>
          <a:xfrm>
            <a:off x="146160" y="3556080"/>
            <a:ext cx="3003480" cy="8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ff"/>
                </a:solidFill>
                <a:latin typeface="Arial"/>
              </a:rPr>
              <a:t>Finish filling in the legend tables, and encode your tower!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6953400" y="3251160"/>
            <a:ext cx="3003480" cy="8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ff"/>
                </a:solidFill>
                <a:latin typeface="Arial"/>
              </a:rPr>
              <a:t>Then, another group will decode your instructions and try to build your tower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438120" y="444600"/>
            <a:ext cx="96552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ause. Thoughts... ?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7" name="" descr=""/>
          <p:cNvPicPr/>
          <p:nvPr/>
        </p:nvPicPr>
        <p:blipFill>
          <a:blip r:embed="rId1"/>
          <a:stretch/>
        </p:blipFill>
        <p:spPr>
          <a:xfrm>
            <a:off x="1117440" y="2540160"/>
            <a:ext cx="5251680" cy="4027320"/>
          </a:xfrm>
          <a:prstGeom prst="rect">
            <a:avLst/>
          </a:prstGeom>
          <a:ln w="0">
            <a:noFill/>
          </a:ln>
        </p:spPr>
      </p:pic>
      <p:pic>
        <p:nvPicPr>
          <p:cNvPr id="2078" name="" descr=""/>
          <p:cNvPicPr/>
          <p:nvPr/>
        </p:nvPicPr>
        <p:blipFill>
          <a:blip r:embed="rId2"/>
          <a:stretch/>
        </p:blipFill>
        <p:spPr>
          <a:xfrm>
            <a:off x="7062840" y="1828800"/>
            <a:ext cx="2143080" cy="51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Exploring Computer Scienc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247320" y="1422360"/>
            <a:ext cx="9658440" cy="56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Unit 1: Human Computer Interac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nit 2: Problem Solv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b5394"/>
                </a:solidFill>
                <a:latin typeface="Arial"/>
              </a:rPr>
              <a:t>    </a:t>
            </a:r>
            <a:r>
              <a:rPr b="0" lang="en-US" sz="2100" spc="-1" strike="noStrike">
                <a:solidFill>
                  <a:srgbClr val="0b5394"/>
                </a:solidFill>
                <a:latin typeface="Arial"/>
              </a:rPr>
              <a:t>Days 1-2: Intro to Data collection and problem solv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b5394"/>
                </a:solidFill>
                <a:latin typeface="Arial"/>
              </a:rPr>
              <a:t>    </a:t>
            </a:r>
            <a:r>
              <a:rPr b="0" lang="en-US" sz="2100" spc="-1" strike="noStrike">
                <a:solidFill>
                  <a:srgbClr val="0b5394"/>
                </a:solidFill>
                <a:latin typeface="Arial"/>
              </a:rPr>
              <a:t>Day 3: Steps in Problem Solv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b5394"/>
                </a:solidFill>
                <a:latin typeface="Arial"/>
              </a:rPr>
              <a:t>    </a:t>
            </a:r>
            <a:r>
              <a:rPr b="0" lang="en-US" sz="2100" spc="-1" strike="noStrike">
                <a:solidFill>
                  <a:srgbClr val="0b5394"/>
                </a:solidFill>
                <a:latin typeface="Arial"/>
              </a:rPr>
              <a:t>Days 4-6: Problem Solving Strategi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b5394"/>
                </a:solidFill>
                <a:latin typeface="Arial"/>
              </a:rPr>
              <a:t>    </a:t>
            </a:r>
            <a:r>
              <a:rPr b="0" lang="en-US" sz="2100" spc="-1" strike="noStrike">
                <a:solidFill>
                  <a:srgbClr val="0b5394"/>
                </a:solidFill>
                <a:latin typeface="Arial"/>
              </a:rPr>
              <a:t>Days 7-9: Reinforcing the phases in the problem solving proces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b5394"/>
                </a:solidFill>
                <a:latin typeface="Arial"/>
              </a:rPr>
              <a:t>    </a:t>
            </a:r>
            <a:r>
              <a:rPr b="0" lang="en-US" sz="2100" spc="-1" strike="noStrike">
                <a:solidFill>
                  <a:srgbClr val="0b5394"/>
                </a:solidFill>
                <a:latin typeface="Arial"/>
              </a:rPr>
              <a:t>Days 10-12: Counting in Binar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b5394"/>
                </a:solidFill>
                <a:latin typeface="Arial"/>
              </a:rPr>
              <a:t>    </a:t>
            </a:r>
            <a:r>
              <a:rPr b="0" lang="en-US" sz="2100" spc="-1" strike="noStrike">
                <a:solidFill>
                  <a:srgbClr val="0b5394"/>
                </a:solidFill>
                <a:latin typeface="Arial"/>
              </a:rPr>
              <a:t>Days 13-14: Linear and binary search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b5394"/>
                </a:solidFill>
                <a:latin typeface="Arial"/>
              </a:rPr>
              <a:t>    </a:t>
            </a:r>
            <a:r>
              <a:rPr b="0" lang="en-US" sz="2100" spc="-1" strike="noStrike">
                <a:solidFill>
                  <a:srgbClr val="0b5394"/>
                </a:solidFill>
                <a:latin typeface="Arial"/>
              </a:rPr>
              <a:t>Days 15-16: Lists and sort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b5394"/>
                </a:solidFill>
                <a:latin typeface="Arial"/>
              </a:rPr>
              <a:t>    </a:t>
            </a:r>
            <a:r>
              <a:rPr b="0" lang="en-US" sz="2100" spc="-1" strike="noStrike">
                <a:solidFill>
                  <a:srgbClr val="0b5394"/>
                </a:solidFill>
                <a:latin typeface="Arial"/>
              </a:rPr>
              <a:t>Days 17: Minimal spanning trees and graph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b5394"/>
                </a:solidFill>
                <a:latin typeface="Arial"/>
              </a:rPr>
              <a:t>    </a:t>
            </a:r>
            <a:r>
              <a:rPr b="0" lang="en-US" sz="2100" spc="-1" strike="noStrike">
                <a:solidFill>
                  <a:srgbClr val="0b5394"/>
                </a:solidFill>
                <a:latin typeface="Arial"/>
              </a:rPr>
              <a:t>Days 18-21: Final unit project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Unit 3: Web Desig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Unit 4: Introduction to Programm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999999"/>
                </a:solidFill>
                <a:latin typeface="Arial"/>
              </a:rPr>
              <a:t>Unit 5: Computing Applicat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999999"/>
                </a:solidFill>
                <a:latin typeface="Arial"/>
              </a:rPr>
              <a:t>Unit 6: Robotic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5289480" y="4172040"/>
            <a:ext cx="4435560" cy="31680"/>
          </a:xfrm>
          <a:prstGeom prst="rect">
            <a:avLst/>
          </a:prstGeom>
          <a:solidFill>
            <a:srgbClr val="9900ff"/>
          </a:solidFill>
          <a:ln w="9360">
            <a:solidFill>
              <a:srgbClr val="351c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8070840" y="2235240"/>
            <a:ext cx="1197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674ea7"/>
                </a:solidFill>
                <a:latin typeface="Arial"/>
              </a:rPr>
              <a:t>morning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7461360" y="4876920"/>
            <a:ext cx="1690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674ea7"/>
                </a:solidFill>
                <a:latin typeface="Arial"/>
              </a:rPr>
              <a:t>afterno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6039000" y="6705720"/>
            <a:ext cx="3203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o computer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69138"/>
                </a:solidFill>
                <a:latin typeface="Arial"/>
              </a:rPr>
              <a:t>Unit 2 Lab: </a:t>
            </a:r>
            <a:r>
              <a:rPr b="0" lang="en-US" sz="4300" spc="-1" strike="noStrike">
                <a:solidFill>
                  <a:srgbClr val="e69138"/>
                </a:solidFill>
                <a:latin typeface="Arial"/>
              </a:rPr>
              <a:t>Treasure Island Gam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PlaceHolder 2"/>
          <p:cNvSpPr>
            <a:spLocks noGrp="1"/>
          </p:cNvSpPr>
          <p:nvPr>
            <p:ph/>
          </p:nvPr>
        </p:nvSpPr>
        <p:spPr>
          <a:xfrm>
            <a:off x="450720" y="1320840"/>
            <a:ext cx="9288720" cy="55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e will demonstrate a shortened version of the game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b45f06"/>
                </a:solidFill>
                <a:latin typeface="Arial"/>
              </a:rPr>
              <a:t>Starting at Jolly Roger Bay, you must discover directions that will get you to Treasure Island without a map. </a:t>
            </a:r>
            <a:r>
              <a:rPr b="0" lang="en-US" sz="1600" spc="-1" strike="noStrike">
                <a:solidFill>
                  <a:srgbClr val="b45f06"/>
                </a:solidFill>
                <a:latin typeface="Arial"/>
              </a:rPr>
              <a:t>(by guessing)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s you watch,</a:t>
            </a:r>
            <a:r>
              <a:rPr b="0" lang="en-US" sz="2700" spc="-1" strike="noStrike">
                <a:solidFill>
                  <a:srgbClr val="674ea7"/>
                </a:solidFill>
                <a:latin typeface="Arial"/>
              </a:rPr>
              <a:t> think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about the following questions,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s there only one set of "correct" direction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ow can you get to Treasure Island in the least number of step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700" spc="-1" strike="noStrike">
                <a:solidFill>
                  <a:srgbClr val="674ea7"/>
                </a:solidFill>
                <a:latin typeface="Arial"/>
              </a:rPr>
              <a:t>write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your observations in your journal.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fter, you will have an opportunity to </a:t>
            </a:r>
            <a:r>
              <a:rPr b="0" lang="en-US" sz="2700" spc="-1" strike="noStrike">
                <a:solidFill>
                  <a:srgbClr val="674ea7"/>
                </a:solidFill>
                <a:latin typeface="Arial"/>
              </a:rPr>
              <a:t>share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your thought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PlaceHolder 1"/>
          <p:cNvSpPr>
            <a:spLocks noGrp="1"/>
          </p:cNvSpPr>
          <p:nvPr>
            <p:ph type="title"/>
          </p:nvPr>
        </p:nvSpPr>
        <p:spPr>
          <a:xfrm>
            <a:off x="585720" y="155520"/>
            <a:ext cx="89884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it 2 Lab: Treasure</a:t>
            </a: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 Island Solu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8" name="" descr=""/>
          <p:cNvPicPr/>
          <p:nvPr/>
        </p:nvPicPr>
        <p:blipFill>
          <a:blip r:embed="rId1"/>
          <a:stretch/>
        </p:blipFill>
        <p:spPr>
          <a:xfrm>
            <a:off x="2641680" y="1320840"/>
            <a:ext cx="4736880" cy="1434960"/>
          </a:xfrm>
          <a:prstGeom prst="rect">
            <a:avLst/>
          </a:prstGeom>
          <a:ln w="0">
            <a:noFill/>
          </a:ln>
        </p:spPr>
      </p:pic>
      <p:sp>
        <p:nvSpPr>
          <p:cNvPr id="2089" name=""/>
          <p:cNvSpPr/>
          <p:nvPr/>
        </p:nvSpPr>
        <p:spPr>
          <a:xfrm>
            <a:off x="1467000" y="3251160"/>
            <a:ext cx="7061040" cy="35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s set of islands can be represented by what we call a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inite State Machine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ich circle represents Jolly Roger Bay? How is it marked as the start of your journey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ich circle represents Treasure Island? How is it marked as your desired destination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PlaceHolder 1"/>
          <p:cNvSpPr>
            <a:spLocks noGrp="1"/>
          </p:cNvSpPr>
          <p:nvPr>
            <p:ph type="title"/>
          </p:nvPr>
        </p:nvSpPr>
        <p:spPr>
          <a:xfrm>
            <a:off x="43920" y="212760"/>
            <a:ext cx="100774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it 2 Lab: Finite State Machines (Part 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349200" y="1320840"/>
            <a:ext cx="5186520" cy="50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ake an input (instructions) and then either accept or reject the input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ach circle represents a "state."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ere, the input is a binary string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rt at triangle, follow the arrows.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ouble circles accept, single circles reject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oes this FSM accept or reject the string 1101001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2" name="" descr=""/>
          <p:cNvPicPr/>
          <p:nvPr/>
        </p:nvPicPr>
        <p:blipFill>
          <a:blip r:embed="rId1"/>
          <a:stretch/>
        </p:blipFill>
        <p:spPr>
          <a:xfrm>
            <a:off x="5384880" y="1320840"/>
            <a:ext cx="480204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Mystery FS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4" name="" descr=""/>
          <p:cNvPicPr/>
          <p:nvPr/>
        </p:nvPicPr>
        <p:blipFill>
          <a:blip r:embed="rId1"/>
          <a:stretch/>
        </p:blipFill>
        <p:spPr>
          <a:xfrm>
            <a:off x="5791320" y="1523880"/>
            <a:ext cx="3314520" cy="1460520"/>
          </a:xfrm>
          <a:prstGeom prst="rect">
            <a:avLst/>
          </a:prstGeom>
          <a:ln w="0">
            <a:noFill/>
          </a:ln>
        </p:spPr>
      </p:pic>
      <p:grpSp>
        <p:nvGrpSpPr>
          <p:cNvPr id="2095" name=""/>
          <p:cNvGrpSpPr/>
          <p:nvPr/>
        </p:nvGrpSpPr>
        <p:grpSpPr>
          <a:xfrm>
            <a:off x="3103560" y="2428920"/>
            <a:ext cx="3952800" cy="4228920"/>
            <a:chOff x="3103560" y="2428920"/>
            <a:chExt cx="3952800" cy="4228920"/>
          </a:xfrm>
        </p:grpSpPr>
        <p:sp>
          <p:nvSpPr>
            <p:cNvPr id="2096" name=""/>
            <p:cNvSpPr/>
            <p:nvPr/>
          </p:nvSpPr>
          <p:spPr>
            <a:xfrm>
              <a:off x="3103560" y="2428920"/>
              <a:ext cx="197640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5079960" y="2428920"/>
              <a:ext cx="197640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ccepted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3103560" y="2849400"/>
              <a:ext cx="1976400" cy="3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5079960" y="2849400"/>
              <a:ext cx="1976400" cy="3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3103560" y="3224160"/>
              <a:ext cx="197640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5079960" y="3224160"/>
              <a:ext cx="197640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3103560" y="3587760"/>
              <a:ext cx="19764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5079960" y="3587760"/>
              <a:ext cx="19764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3103560" y="3917880"/>
              <a:ext cx="197640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5079960" y="3917880"/>
              <a:ext cx="197640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3103560" y="4371840"/>
              <a:ext cx="19764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5079960" y="4371840"/>
              <a:ext cx="19764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3103560" y="4689360"/>
              <a:ext cx="19764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5079960" y="4689360"/>
              <a:ext cx="19764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3103560" y="5019840"/>
              <a:ext cx="19764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5079960" y="5019840"/>
              <a:ext cx="19764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3103560" y="5349960"/>
              <a:ext cx="19764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5079960" y="5349960"/>
              <a:ext cx="19764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3103560" y="5680080"/>
              <a:ext cx="19764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5079960" y="5680080"/>
              <a:ext cx="19764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3103560" y="6010200"/>
              <a:ext cx="19764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5079960" y="6010200"/>
              <a:ext cx="19764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3103560" y="6340320"/>
              <a:ext cx="19764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5079960" y="6340320"/>
              <a:ext cx="19764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5079960" y="2428920"/>
              <a:ext cx="19764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5079960" y="2849400"/>
              <a:ext cx="19764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5079960" y="3224160"/>
              <a:ext cx="19764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5079960" y="3587760"/>
              <a:ext cx="19764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5079960" y="3917880"/>
              <a:ext cx="19764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5079960" y="4371840"/>
              <a:ext cx="19764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5079960" y="4689360"/>
              <a:ext cx="19764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5079960" y="5019840"/>
              <a:ext cx="19764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5079960" y="5349960"/>
              <a:ext cx="19764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5079960" y="5680080"/>
              <a:ext cx="19764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5079960" y="6010200"/>
              <a:ext cx="19764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5079960" y="6340320"/>
              <a:ext cx="19764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5079960" y="6657840"/>
              <a:ext cx="19764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3103560" y="6340320"/>
              <a:ext cx="0" cy="3175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5079960" y="6340320"/>
              <a:ext cx="0" cy="3175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7056360" y="6340320"/>
              <a:ext cx="0" cy="3175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3103560" y="2428920"/>
              <a:ext cx="197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3103560" y="2428920"/>
              <a:ext cx="197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3103560" y="2428920"/>
              <a:ext cx="19764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3103560" y="2428920"/>
              <a:ext cx="0" cy="42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3103560" y="2428920"/>
              <a:ext cx="0" cy="42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3103560" y="2428920"/>
              <a:ext cx="0" cy="4204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5079960" y="2428920"/>
              <a:ext cx="0" cy="42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5079960" y="2428920"/>
              <a:ext cx="0" cy="42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5079960" y="2428920"/>
              <a:ext cx="0" cy="4204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3103560" y="2849400"/>
              <a:ext cx="197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3103560" y="2849400"/>
              <a:ext cx="197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3103560" y="2849400"/>
              <a:ext cx="19764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5079960" y="2428920"/>
              <a:ext cx="197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5079960" y="2428920"/>
              <a:ext cx="197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7056360" y="2428920"/>
              <a:ext cx="0" cy="42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7056360" y="2428920"/>
              <a:ext cx="0" cy="42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7056360" y="2428920"/>
              <a:ext cx="0" cy="4204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5079960" y="2849400"/>
              <a:ext cx="197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5079960" y="2849400"/>
              <a:ext cx="197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3103560" y="284940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3103560" y="284940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3103560" y="2849400"/>
              <a:ext cx="0" cy="3747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5079960" y="284940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5079960" y="284940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5079960" y="2849400"/>
              <a:ext cx="0" cy="3747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3103560" y="3224160"/>
              <a:ext cx="197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3103560" y="3224160"/>
              <a:ext cx="197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3103560" y="3224160"/>
              <a:ext cx="19764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7056360" y="284940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7056360" y="284940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7056360" y="2849400"/>
              <a:ext cx="0" cy="3747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5079960" y="3224160"/>
              <a:ext cx="197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5079960" y="3224160"/>
              <a:ext cx="197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3103560" y="3224160"/>
              <a:ext cx="0" cy="36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3103560" y="3224160"/>
              <a:ext cx="0" cy="36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3103560" y="3224160"/>
              <a:ext cx="0" cy="3636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5079960" y="3224160"/>
              <a:ext cx="0" cy="36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5079960" y="3224160"/>
              <a:ext cx="0" cy="36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5079960" y="3224160"/>
              <a:ext cx="0" cy="3636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3103560" y="3587760"/>
              <a:ext cx="197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3103560" y="3587760"/>
              <a:ext cx="197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3103560" y="3587760"/>
              <a:ext cx="19764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7056360" y="3224160"/>
              <a:ext cx="0" cy="36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7056360" y="3224160"/>
              <a:ext cx="0" cy="36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7056360" y="3224160"/>
              <a:ext cx="0" cy="3636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5079960" y="3587760"/>
              <a:ext cx="197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5079960" y="3587760"/>
              <a:ext cx="197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3103560" y="3587760"/>
              <a:ext cx="0" cy="33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3103560" y="3587760"/>
              <a:ext cx="0" cy="33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3103560" y="3587760"/>
              <a:ext cx="0" cy="3301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5079960" y="3587760"/>
              <a:ext cx="0" cy="33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5079960" y="3587760"/>
              <a:ext cx="0" cy="33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5079960" y="3587760"/>
              <a:ext cx="0" cy="3301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3103560" y="3917880"/>
              <a:ext cx="197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3103560" y="3917880"/>
              <a:ext cx="197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3103560" y="3917880"/>
              <a:ext cx="19764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7056360" y="3587760"/>
              <a:ext cx="0" cy="33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7056360" y="3587760"/>
              <a:ext cx="0" cy="33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7056360" y="3587760"/>
              <a:ext cx="0" cy="3301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5079960" y="3917880"/>
              <a:ext cx="197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5079960" y="3917880"/>
              <a:ext cx="197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3103560" y="3917880"/>
              <a:ext cx="0" cy="45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3103560" y="3917880"/>
              <a:ext cx="0" cy="45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3103560" y="3917880"/>
              <a:ext cx="0" cy="4539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5079960" y="3917880"/>
              <a:ext cx="0" cy="45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5079960" y="3917880"/>
              <a:ext cx="0" cy="45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5079960" y="3917880"/>
              <a:ext cx="0" cy="4539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3103560" y="4371840"/>
              <a:ext cx="197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3103560" y="4371840"/>
              <a:ext cx="197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3103560" y="4371840"/>
              <a:ext cx="19764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7056360" y="3917880"/>
              <a:ext cx="0" cy="45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7056360" y="3917880"/>
              <a:ext cx="0" cy="45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7056360" y="3917880"/>
              <a:ext cx="0" cy="4539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5079960" y="4371840"/>
              <a:ext cx="197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5079960" y="4371840"/>
              <a:ext cx="197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3103560" y="4371840"/>
              <a:ext cx="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3103560" y="4371840"/>
              <a:ext cx="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3103560" y="4371840"/>
              <a:ext cx="0" cy="3175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5079960" y="4371840"/>
              <a:ext cx="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5079960" y="4371840"/>
              <a:ext cx="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5079960" y="4371840"/>
              <a:ext cx="0" cy="3175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3103560" y="4689360"/>
              <a:ext cx="197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3103560" y="4689360"/>
              <a:ext cx="197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3103560" y="4689360"/>
              <a:ext cx="19764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7056360" y="4371840"/>
              <a:ext cx="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7056360" y="4371840"/>
              <a:ext cx="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7056360" y="4371840"/>
              <a:ext cx="0" cy="3175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5079960" y="4689360"/>
              <a:ext cx="197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5079960" y="4689360"/>
              <a:ext cx="197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3103560" y="4689360"/>
              <a:ext cx="0" cy="33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3103560" y="4689360"/>
              <a:ext cx="0" cy="33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3103560" y="4689360"/>
              <a:ext cx="0" cy="3304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5079960" y="4689360"/>
              <a:ext cx="0" cy="33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5079960" y="4689360"/>
              <a:ext cx="0" cy="33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5079960" y="4689360"/>
              <a:ext cx="0" cy="3304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3103560" y="5019840"/>
              <a:ext cx="197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3103560" y="5019840"/>
              <a:ext cx="197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3103560" y="5019840"/>
              <a:ext cx="19764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7056360" y="4689360"/>
              <a:ext cx="0" cy="33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7056360" y="4689360"/>
              <a:ext cx="0" cy="33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7056360" y="4689360"/>
              <a:ext cx="0" cy="3304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5079960" y="5019840"/>
              <a:ext cx="197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5079960" y="5019840"/>
              <a:ext cx="197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3103560" y="5019840"/>
              <a:ext cx="0" cy="33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3103560" y="5019840"/>
              <a:ext cx="0" cy="33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3103560" y="5019840"/>
              <a:ext cx="0" cy="3301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5079960" y="5019840"/>
              <a:ext cx="0" cy="33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5079960" y="5019840"/>
              <a:ext cx="0" cy="33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5079960" y="5019840"/>
              <a:ext cx="0" cy="3301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3103560" y="5349960"/>
              <a:ext cx="197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3103560" y="5349960"/>
              <a:ext cx="197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3103560" y="5349960"/>
              <a:ext cx="19764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7056360" y="5019840"/>
              <a:ext cx="0" cy="33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7056360" y="5019840"/>
              <a:ext cx="0" cy="33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7056360" y="5019840"/>
              <a:ext cx="0" cy="3301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5079960" y="5349960"/>
              <a:ext cx="197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5079960" y="5349960"/>
              <a:ext cx="197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3103560" y="5349960"/>
              <a:ext cx="0" cy="33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3103560" y="5349960"/>
              <a:ext cx="0" cy="33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3103560" y="5349960"/>
              <a:ext cx="0" cy="3301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5079960" y="5349960"/>
              <a:ext cx="0" cy="33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5079960" y="5349960"/>
              <a:ext cx="0" cy="33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5079960" y="5349960"/>
              <a:ext cx="0" cy="3301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3103560" y="5680080"/>
              <a:ext cx="197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3103560" y="5680080"/>
              <a:ext cx="197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3103560" y="5680080"/>
              <a:ext cx="19764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7056360" y="5349960"/>
              <a:ext cx="0" cy="33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7056360" y="5349960"/>
              <a:ext cx="0" cy="33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7056360" y="5349960"/>
              <a:ext cx="0" cy="3301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5079960" y="5680080"/>
              <a:ext cx="197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5079960" y="5680080"/>
              <a:ext cx="197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3103560" y="5680080"/>
              <a:ext cx="0" cy="33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3103560" y="5680080"/>
              <a:ext cx="0" cy="33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3103560" y="5680080"/>
              <a:ext cx="0" cy="3301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5079960" y="5680080"/>
              <a:ext cx="0" cy="33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5079960" y="5680080"/>
              <a:ext cx="0" cy="33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5079960" y="5680080"/>
              <a:ext cx="0" cy="3301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3103560" y="6010200"/>
              <a:ext cx="197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3103560" y="6010200"/>
              <a:ext cx="197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3103560" y="6010200"/>
              <a:ext cx="19764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7056360" y="5680080"/>
              <a:ext cx="0" cy="33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7056360" y="5680080"/>
              <a:ext cx="0" cy="33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7056360" y="5680080"/>
              <a:ext cx="0" cy="3301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5079960" y="6010200"/>
              <a:ext cx="197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5079960" y="6010200"/>
              <a:ext cx="197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3103560" y="6010200"/>
              <a:ext cx="0" cy="33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3103560" y="6010200"/>
              <a:ext cx="0" cy="33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3103560" y="6010200"/>
              <a:ext cx="0" cy="3301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5079960" y="6010200"/>
              <a:ext cx="0" cy="33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5079960" y="6010200"/>
              <a:ext cx="0" cy="33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5079960" y="6010200"/>
              <a:ext cx="0" cy="3301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3103560" y="6340320"/>
              <a:ext cx="197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3103560" y="6340320"/>
              <a:ext cx="197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3103560" y="6340320"/>
              <a:ext cx="19764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7056360" y="6010200"/>
              <a:ext cx="0" cy="33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7056360" y="6010200"/>
              <a:ext cx="0" cy="33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7056360" y="6010200"/>
              <a:ext cx="0" cy="3301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5079960" y="6340320"/>
              <a:ext cx="197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5079960" y="6340320"/>
              <a:ext cx="197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3103560" y="6340320"/>
              <a:ext cx="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3103560" y="6340320"/>
              <a:ext cx="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5079960" y="6340320"/>
              <a:ext cx="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5079960" y="6340320"/>
              <a:ext cx="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3103560" y="6657840"/>
              <a:ext cx="197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3103560" y="6657840"/>
              <a:ext cx="197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3103560" y="6657840"/>
              <a:ext cx="19764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7056360" y="6340320"/>
              <a:ext cx="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7056360" y="6340320"/>
              <a:ext cx="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5079960" y="6657840"/>
              <a:ext cx="197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5079960" y="6657840"/>
              <a:ext cx="197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6" name=""/>
          <p:cNvSpPr/>
          <p:nvPr/>
        </p:nvSpPr>
        <p:spPr>
          <a:xfrm>
            <a:off x="5632560" y="3251160"/>
            <a:ext cx="3609720" cy="19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ich strings does this FSM accept, generally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at do the states (circles) represent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Mystery FSM 2!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8" name="" descr=""/>
          <p:cNvPicPr/>
          <p:nvPr/>
        </p:nvPicPr>
        <p:blipFill>
          <a:blip r:embed="rId1"/>
          <a:stretch/>
        </p:blipFill>
        <p:spPr>
          <a:xfrm>
            <a:off x="5181480" y="1015920"/>
            <a:ext cx="3975120" cy="3949920"/>
          </a:xfrm>
          <a:prstGeom prst="rect">
            <a:avLst/>
          </a:prstGeom>
          <a:ln w="0">
            <a:noFill/>
          </a:ln>
        </p:spPr>
      </p:pic>
      <p:grpSp>
        <p:nvGrpSpPr>
          <p:cNvPr id="2309" name=""/>
          <p:cNvGrpSpPr/>
          <p:nvPr/>
        </p:nvGrpSpPr>
        <p:grpSpPr>
          <a:xfrm>
            <a:off x="3102120" y="2427120"/>
            <a:ext cx="3956040" cy="3819600"/>
            <a:chOff x="3102120" y="2427120"/>
            <a:chExt cx="3956040" cy="3819600"/>
          </a:xfrm>
        </p:grpSpPr>
        <p:sp>
          <p:nvSpPr>
            <p:cNvPr id="2310" name=""/>
            <p:cNvSpPr/>
            <p:nvPr/>
          </p:nvSpPr>
          <p:spPr>
            <a:xfrm>
              <a:off x="3102120" y="2427120"/>
              <a:ext cx="197784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5079960" y="2427120"/>
              <a:ext cx="197820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ccepted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3102120" y="2716200"/>
              <a:ext cx="197784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5079960" y="2716200"/>
              <a:ext cx="197820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3102120" y="2992320"/>
              <a:ext cx="197784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5079960" y="2992320"/>
              <a:ext cx="197820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3102120" y="3281400"/>
              <a:ext cx="197784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5079960" y="3281400"/>
              <a:ext cx="197820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3102120" y="3570120"/>
              <a:ext cx="1977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5079960" y="3570120"/>
              <a:ext cx="1978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3102120" y="3846600"/>
              <a:ext cx="197784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5079960" y="3846600"/>
              <a:ext cx="197820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3102120" y="4135320"/>
              <a:ext cx="197784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5079960" y="4135320"/>
              <a:ext cx="197820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3102120" y="4424400"/>
              <a:ext cx="197784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5079960" y="4424400"/>
              <a:ext cx="197820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3102120" y="4700520"/>
              <a:ext cx="197784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5079960" y="4700520"/>
              <a:ext cx="197820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3102120" y="4989600"/>
              <a:ext cx="197784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5079960" y="4989600"/>
              <a:ext cx="197820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3102120" y="5278320"/>
              <a:ext cx="197784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5079960" y="5278320"/>
              <a:ext cx="197820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3102120" y="5567400"/>
              <a:ext cx="197784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5079960" y="5567400"/>
              <a:ext cx="197820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3102120" y="5907240"/>
              <a:ext cx="197784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5079960" y="5907240"/>
              <a:ext cx="197820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5079960" y="2427120"/>
              <a:ext cx="19782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5079960" y="2716200"/>
              <a:ext cx="19782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5079960" y="2992320"/>
              <a:ext cx="19782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5079960" y="3281400"/>
              <a:ext cx="19782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5079960" y="3570120"/>
              <a:ext cx="19782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5079960" y="3846600"/>
              <a:ext cx="19782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5079960" y="4135320"/>
              <a:ext cx="19782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5079960" y="4424400"/>
              <a:ext cx="19782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5079960" y="4700520"/>
              <a:ext cx="19782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5079960" y="4989600"/>
              <a:ext cx="19782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5079960" y="5278320"/>
              <a:ext cx="19782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5079960" y="5567400"/>
              <a:ext cx="19782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5079960" y="5907240"/>
              <a:ext cx="19782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5079960" y="6246720"/>
              <a:ext cx="19782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3102120" y="5907240"/>
              <a:ext cx="0" cy="3394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5079960" y="5907240"/>
              <a:ext cx="0" cy="3394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7058160" y="5907240"/>
              <a:ext cx="0" cy="3394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3102120" y="242712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3102120" y="242712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3102120" y="2427120"/>
              <a:ext cx="197784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3102120" y="2427120"/>
              <a:ext cx="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3102120" y="2427120"/>
              <a:ext cx="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3102120" y="2427120"/>
              <a:ext cx="0" cy="2890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5079960" y="2427120"/>
              <a:ext cx="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5079960" y="2427120"/>
              <a:ext cx="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5079960" y="2427120"/>
              <a:ext cx="0" cy="2890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3102120" y="271620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3102120" y="271620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3102120" y="2716200"/>
              <a:ext cx="197784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5079960" y="242712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5079960" y="242712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7058160" y="2427120"/>
              <a:ext cx="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7058160" y="2427120"/>
              <a:ext cx="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7058160" y="2427120"/>
              <a:ext cx="0" cy="2890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5079960" y="271620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5079960" y="271620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3102120" y="2716200"/>
              <a:ext cx="0" cy="27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3102120" y="2716200"/>
              <a:ext cx="0" cy="27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3102120" y="2716200"/>
              <a:ext cx="0" cy="2761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5079960" y="2716200"/>
              <a:ext cx="0" cy="27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5079960" y="2716200"/>
              <a:ext cx="0" cy="27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5079960" y="2716200"/>
              <a:ext cx="0" cy="2761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3102120" y="299232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3102120" y="299232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3102120" y="2992320"/>
              <a:ext cx="197784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7058160" y="2716200"/>
              <a:ext cx="0" cy="27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7058160" y="2716200"/>
              <a:ext cx="0" cy="27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7058160" y="2716200"/>
              <a:ext cx="0" cy="2761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5079960" y="299232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5079960" y="299232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3102120" y="2992320"/>
              <a:ext cx="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3102120" y="2992320"/>
              <a:ext cx="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3102120" y="2992320"/>
              <a:ext cx="0" cy="2890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5079960" y="2992320"/>
              <a:ext cx="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5079960" y="2992320"/>
              <a:ext cx="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5079960" y="2992320"/>
              <a:ext cx="0" cy="2890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3102120" y="328140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3102120" y="328140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3102120" y="3281400"/>
              <a:ext cx="197784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7058160" y="2992320"/>
              <a:ext cx="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7058160" y="2992320"/>
              <a:ext cx="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7058160" y="2992320"/>
              <a:ext cx="0" cy="2890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5079960" y="328140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5079960" y="328140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3102120" y="328140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3102120" y="328140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3102120" y="3281400"/>
              <a:ext cx="0" cy="2887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5079960" y="328140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5079960" y="328140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5079960" y="3281400"/>
              <a:ext cx="0" cy="2887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3102120" y="357012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3102120" y="357012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3102120" y="3570120"/>
              <a:ext cx="197784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7058160" y="328140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7058160" y="328140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7058160" y="3281400"/>
              <a:ext cx="0" cy="2887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5079960" y="357012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5079960" y="357012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3102120" y="3570120"/>
              <a:ext cx="0" cy="27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3102120" y="3570120"/>
              <a:ext cx="0" cy="27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3102120" y="3570120"/>
              <a:ext cx="0" cy="2764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5079960" y="3570120"/>
              <a:ext cx="0" cy="27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5079960" y="3570120"/>
              <a:ext cx="0" cy="27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5079960" y="3570120"/>
              <a:ext cx="0" cy="2764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3102120" y="384660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3102120" y="384660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3102120" y="3846600"/>
              <a:ext cx="197784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7058160" y="3570120"/>
              <a:ext cx="0" cy="27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7058160" y="3570120"/>
              <a:ext cx="0" cy="27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7058160" y="3570120"/>
              <a:ext cx="0" cy="2764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5079960" y="384660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5079960" y="384660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3102120" y="384660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3102120" y="384660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3102120" y="3846600"/>
              <a:ext cx="0" cy="2887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5079960" y="384660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5079960" y="384660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5079960" y="3846600"/>
              <a:ext cx="0" cy="2887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3102120" y="413532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3102120" y="413532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3102120" y="4135320"/>
              <a:ext cx="197784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7058160" y="384660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7058160" y="384660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7058160" y="3846600"/>
              <a:ext cx="0" cy="2887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5079960" y="413532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5079960" y="413532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3102120" y="4135320"/>
              <a:ext cx="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3102120" y="4135320"/>
              <a:ext cx="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3102120" y="4135320"/>
              <a:ext cx="0" cy="2890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5079960" y="4135320"/>
              <a:ext cx="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5079960" y="4135320"/>
              <a:ext cx="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5079960" y="4135320"/>
              <a:ext cx="0" cy="2890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3102120" y="442440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3102120" y="442440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3102120" y="4424400"/>
              <a:ext cx="197784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7058160" y="4135320"/>
              <a:ext cx="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7058160" y="4135320"/>
              <a:ext cx="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7058160" y="4135320"/>
              <a:ext cx="0" cy="2890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5079960" y="442440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5079960" y="442440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3102120" y="4424400"/>
              <a:ext cx="0" cy="27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3102120" y="4424400"/>
              <a:ext cx="0" cy="27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3102120" y="4424400"/>
              <a:ext cx="0" cy="2761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5079960" y="4424400"/>
              <a:ext cx="0" cy="27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5079960" y="4424400"/>
              <a:ext cx="0" cy="27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5079960" y="4424400"/>
              <a:ext cx="0" cy="2761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3102120" y="470052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3102120" y="470052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3102120" y="4700520"/>
              <a:ext cx="197784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7058160" y="4424400"/>
              <a:ext cx="0" cy="27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7058160" y="4424400"/>
              <a:ext cx="0" cy="27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7058160" y="4424400"/>
              <a:ext cx="0" cy="2761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5079960" y="470052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5079960" y="470052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3102120" y="4700520"/>
              <a:ext cx="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3102120" y="4700520"/>
              <a:ext cx="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3102120" y="4700520"/>
              <a:ext cx="0" cy="2890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5079960" y="4700520"/>
              <a:ext cx="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5079960" y="4700520"/>
              <a:ext cx="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5079960" y="4700520"/>
              <a:ext cx="0" cy="2890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3102120" y="498960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3102120" y="498960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3102120" y="4989600"/>
              <a:ext cx="197784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7058160" y="4700520"/>
              <a:ext cx="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7058160" y="4700520"/>
              <a:ext cx="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7058160" y="4700520"/>
              <a:ext cx="0" cy="2890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5079960" y="498960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5079960" y="498960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3102120" y="498960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3102120" y="498960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3102120" y="4989600"/>
              <a:ext cx="0" cy="2887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5079960" y="498960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5079960" y="498960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5079960" y="4989600"/>
              <a:ext cx="0" cy="2887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3102120" y="527832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3102120" y="527832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3102120" y="5278320"/>
              <a:ext cx="197784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7058160" y="498960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7058160" y="498960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7058160" y="4989600"/>
              <a:ext cx="0" cy="2887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5079960" y="527832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5079960" y="527832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3102120" y="5278320"/>
              <a:ext cx="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3102120" y="5278320"/>
              <a:ext cx="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3102120" y="5278320"/>
              <a:ext cx="0" cy="2890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5079960" y="5278320"/>
              <a:ext cx="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5079960" y="5278320"/>
              <a:ext cx="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5079960" y="5278320"/>
              <a:ext cx="0" cy="2890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3102120" y="556740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3102120" y="556740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3102120" y="5567400"/>
              <a:ext cx="197784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7058160" y="5278320"/>
              <a:ext cx="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7058160" y="5278320"/>
              <a:ext cx="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7058160" y="5278320"/>
              <a:ext cx="0" cy="2890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5079960" y="556740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5079960" y="556740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3102120" y="5567400"/>
              <a:ext cx="0" cy="33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3102120" y="5567400"/>
              <a:ext cx="0" cy="33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3102120" y="5567400"/>
              <a:ext cx="0" cy="3398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5079960" y="5567400"/>
              <a:ext cx="0" cy="33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5079960" y="5567400"/>
              <a:ext cx="0" cy="33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5079960" y="5567400"/>
              <a:ext cx="0" cy="3398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3102120" y="590724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3102120" y="590724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3102120" y="5907240"/>
              <a:ext cx="197784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7058160" y="5567400"/>
              <a:ext cx="0" cy="33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7058160" y="5567400"/>
              <a:ext cx="0" cy="33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7058160" y="5567400"/>
              <a:ext cx="0" cy="3398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5079960" y="590724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5079960" y="590724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3102120" y="5907240"/>
              <a:ext cx="0" cy="33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3102120" y="5907240"/>
              <a:ext cx="0" cy="33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5079960" y="5907240"/>
              <a:ext cx="0" cy="33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5079960" y="5907240"/>
              <a:ext cx="0" cy="33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3102120" y="624672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3102120" y="624672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3102120" y="6246720"/>
              <a:ext cx="197784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7058160" y="5907240"/>
              <a:ext cx="0" cy="33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7058160" y="5907240"/>
              <a:ext cx="0" cy="33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5079960" y="624672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5079960" y="624672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7" name=""/>
          <p:cNvSpPr/>
          <p:nvPr/>
        </p:nvSpPr>
        <p:spPr>
          <a:xfrm>
            <a:off x="5835600" y="5283360"/>
            <a:ext cx="361008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ich strings does this FSM accept, generally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8" name="PlaceHolder 1"/>
          <p:cNvSpPr>
            <a:spLocks noGrp="1"/>
          </p:cNvSpPr>
          <p:nvPr>
            <p:ph type="title"/>
          </p:nvPr>
        </p:nvSpPr>
        <p:spPr>
          <a:xfrm>
            <a:off x="240840" y="298440"/>
            <a:ext cx="9657000" cy="18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Mystery FSM 3! (from the first slide)</a:t>
            </a:r>
            <a:br>
              <a:rPr sz="4300"/>
            </a:b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Robyn &amp; Johnny</a:t>
            </a:r>
            <a:br>
              <a:rPr sz="4300"/>
            </a:b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9" name=""/>
          <p:cNvGrpSpPr/>
          <p:nvPr/>
        </p:nvGrpSpPr>
        <p:grpSpPr>
          <a:xfrm>
            <a:off x="3030480" y="2381400"/>
            <a:ext cx="4098960" cy="4967280"/>
            <a:chOff x="3030480" y="2381400"/>
            <a:chExt cx="4098960" cy="4967280"/>
          </a:xfrm>
        </p:grpSpPr>
        <p:sp>
          <p:nvSpPr>
            <p:cNvPr id="2540" name=""/>
            <p:cNvSpPr/>
            <p:nvPr/>
          </p:nvSpPr>
          <p:spPr>
            <a:xfrm>
              <a:off x="3030480" y="2381400"/>
              <a:ext cx="204948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67000"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5079960" y="2381400"/>
              <a:ext cx="204948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67000"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ccepted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3030480" y="2536920"/>
              <a:ext cx="204948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74000"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5079960" y="2536920"/>
              <a:ext cx="204948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74000"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3030480" y="2708280"/>
              <a:ext cx="204948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74000"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5079960" y="2708280"/>
              <a:ext cx="204948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3030480" y="2879640"/>
              <a:ext cx="204948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67000"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5079960" y="2879640"/>
              <a:ext cx="204948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3030480" y="3035160"/>
              <a:ext cx="204948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60000"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5079960" y="3035160"/>
              <a:ext cx="204948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3030480" y="3173400"/>
              <a:ext cx="204948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67000"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5079960" y="3173400"/>
              <a:ext cx="204948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3030480" y="3328920"/>
              <a:ext cx="204948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67000"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5079960" y="3328920"/>
              <a:ext cx="204948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3030480" y="3484440"/>
              <a:ext cx="204948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65000"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5079960" y="3484440"/>
              <a:ext cx="204948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3030480" y="3633840"/>
              <a:ext cx="204948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67000"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5079960" y="3633840"/>
              <a:ext cx="204948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3030480" y="3789360"/>
              <a:ext cx="204948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67000"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5079960" y="3789360"/>
              <a:ext cx="204948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3030480" y="3944880"/>
              <a:ext cx="2049480" cy="1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53000"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010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5079960" y="3944880"/>
              <a:ext cx="2049480" cy="1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3030480" y="4067280"/>
              <a:ext cx="204948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5079960" y="4067280"/>
              <a:ext cx="204948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3030480" y="4438800"/>
              <a:ext cx="204948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5079960" y="4438800"/>
              <a:ext cx="204948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3030480" y="4809960"/>
              <a:ext cx="20494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5079960" y="4809960"/>
              <a:ext cx="20494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3030480" y="5176800"/>
              <a:ext cx="204948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1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5079960" y="5176800"/>
              <a:ext cx="204948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3030480" y="5521320"/>
              <a:ext cx="20494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5079960" y="5521320"/>
              <a:ext cx="20494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3030480" y="5888160"/>
              <a:ext cx="204948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5079960" y="5888160"/>
              <a:ext cx="204948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3030480" y="6259680"/>
              <a:ext cx="20494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5079960" y="6259680"/>
              <a:ext cx="20494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3030480" y="6615000"/>
              <a:ext cx="20494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1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5079960" y="6615000"/>
              <a:ext cx="20494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3030480" y="6981840"/>
              <a:ext cx="20494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5079960" y="6981840"/>
              <a:ext cx="20494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5079960" y="2381400"/>
              <a:ext cx="20494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5079960" y="2536920"/>
              <a:ext cx="20494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5079960" y="2708280"/>
              <a:ext cx="20494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5079960" y="2879640"/>
              <a:ext cx="20494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5079960" y="3035160"/>
              <a:ext cx="20494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5079960" y="3173400"/>
              <a:ext cx="20494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5079960" y="3328920"/>
              <a:ext cx="20494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5079960" y="3484440"/>
              <a:ext cx="20494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5079960" y="3633840"/>
              <a:ext cx="20494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5079960" y="3789360"/>
              <a:ext cx="20494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5079960" y="3944880"/>
              <a:ext cx="20494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5079960" y="4067280"/>
              <a:ext cx="20494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5079960" y="4438800"/>
              <a:ext cx="20494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5079960" y="4809960"/>
              <a:ext cx="20494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5079960" y="5176800"/>
              <a:ext cx="20494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5079960" y="5521320"/>
              <a:ext cx="20494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5079960" y="5888160"/>
              <a:ext cx="20494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5079960" y="6259680"/>
              <a:ext cx="20494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5079960" y="6615000"/>
              <a:ext cx="20494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5079960" y="6981840"/>
              <a:ext cx="20494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5079960" y="7348680"/>
              <a:ext cx="20494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3030480" y="6981840"/>
              <a:ext cx="0" cy="3668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5079960" y="6981840"/>
              <a:ext cx="0" cy="3668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7129440" y="6981840"/>
              <a:ext cx="0" cy="3668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3030480" y="2381400"/>
              <a:ext cx="204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3030480" y="2381400"/>
              <a:ext cx="204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3030480" y="2381400"/>
              <a:ext cx="20494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3030480" y="2381400"/>
              <a:ext cx="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3030480" y="2381400"/>
              <a:ext cx="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3030480" y="2381400"/>
              <a:ext cx="0" cy="1555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5079960" y="2381400"/>
              <a:ext cx="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5079960" y="2381400"/>
              <a:ext cx="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5079960" y="2381400"/>
              <a:ext cx="0" cy="1555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3030480" y="2536920"/>
              <a:ext cx="204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3030480" y="2536920"/>
              <a:ext cx="204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3030480" y="2536920"/>
              <a:ext cx="20494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5079960" y="2381400"/>
              <a:ext cx="204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5079960" y="2381400"/>
              <a:ext cx="204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7129440" y="2381400"/>
              <a:ext cx="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7129440" y="2381400"/>
              <a:ext cx="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7129440" y="2381400"/>
              <a:ext cx="0" cy="1555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5079960" y="2536920"/>
              <a:ext cx="204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5079960" y="2536920"/>
              <a:ext cx="204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3030480" y="2536920"/>
              <a:ext cx="0" cy="17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3030480" y="2536920"/>
              <a:ext cx="0" cy="17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3030480" y="2536920"/>
              <a:ext cx="0" cy="1713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5079960" y="2536920"/>
              <a:ext cx="0" cy="17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5079960" y="2536920"/>
              <a:ext cx="0" cy="17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5079960" y="2536920"/>
              <a:ext cx="0" cy="1713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3030480" y="2708280"/>
              <a:ext cx="204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3030480" y="2708280"/>
              <a:ext cx="204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3030480" y="2708280"/>
              <a:ext cx="20494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7129440" y="2536920"/>
              <a:ext cx="0" cy="17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7129440" y="2536920"/>
              <a:ext cx="0" cy="17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7129440" y="2536920"/>
              <a:ext cx="0" cy="1713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5079960" y="2708280"/>
              <a:ext cx="204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5079960" y="2708280"/>
              <a:ext cx="204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3030480" y="2708280"/>
              <a:ext cx="0" cy="17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3030480" y="2708280"/>
              <a:ext cx="0" cy="17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3030480" y="2708280"/>
              <a:ext cx="0" cy="1713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5079960" y="2708280"/>
              <a:ext cx="0" cy="17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5079960" y="2708280"/>
              <a:ext cx="0" cy="17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5079960" y="2708280"/>
              <a:ext cx="0" cy="1713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3030480" y="2879640"/>
              <a:ext cx="204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3030480" y="2879640"/>
              <a:ext cx="204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3030480" y="2879640"/>
              <a:ext cx="20494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7129440" y="2708280"/>
              <a:ext cx="0" cy="17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7129440" y="2708280"/>
              <a:ext cx="0" cy="17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7129440" y="2708280"/>
              <a:ext cx="0" cy="1713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5079960" y="2879640"/>
              <a:ext cx="204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5079960" y="2879640"/>
              <a:ext cx="204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3030480" y="2879640"/>
              <a:ext cx="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3030480" y="2879640"/>
              <a:ext cx="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3030480" y="2879640"/>
              <a:ext cx="0" cy="1555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5079960" y="2879640"/>
              <a:ext cx="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5079960" y="2879640"/>
              <a:ext cx="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5079960" y="2879640"/>
              <a:ext cx="0" cy="1555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3030480" y="3035160"/>
              <a:ext cx="204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3030480" y="3035160"/>
              <a:ext cx="204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3030480" y="3035160"/>
              <a:ext cx="20494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7129440" y="2879640"/>
              <a:ext cx="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7129440" y="2879640"/>
              <a:ext cx="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7129440" y="2879640"/>
              <a:ext cx="0" cy="1555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5079960" y="3035160"/>
              <a:ext cx="204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5079960" y="3035160"/>
              <a:ext cx="204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3030480" y="3035160"/>
              <a:ext cx="0" cy="13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3030480" y="3035160"/>
              <a:ext cx="0" cy="13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3030480" y="3035160"/>
              <a:ext cx="0" cy="1382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5079960" y="3035160"/>
              <a:ext cx="0" cy="13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5079960" y="3035160"/>
              <a:ext cx="0" cy="13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5079960" y="3035160"/>
              <a:ext cx="0" cy="1382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3030480" y="3173400"/>
              <a:ext cx="204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3030480" y="3173400"/>
              <a:ext cx="204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3030480" y="3173400"/>
              <a:ext cx="20494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7129440" y="3035160"/>
              <a:ext cx="0" cy="13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7129440" y="3035160"/>
              <a:ext cx="0" cy="13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7129440" y="3035160"/>
              <a:ext cx="0" cy="1382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5079960" y="3173400"/>
              <a:ext cx="204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5079960" y="3173400"/>
              <a:ext cx="204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3030480" y="3173400"/>
              <a:ext cx="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3030480" y="3173400"/>
              <a:ext cx="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3030480" y="3173400"/>
              <a:ext cx="0" cy="1555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5079960" y="3173400"/>
              <a:ext cx="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5079960" y="3173400"/>
              <a:ext cx="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5079960" y="3173400"/>
              <a:ext cx="0" cy="1555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3030480" y="3328920"/>
              <a:ext cx="204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3030480" y="3328920"/>
              <a:ext cx="204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3030480" y="3328920"/>
              <a:ext cx="20494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7129440" y="3173400"/>
              <a:ext cx="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7129440" y="3173400"/>
              <a:ext cx="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7129440" y="3173400"/>
              <a:ext cx="0" cy="1555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5079960" y="3328920"/>
              <a:ext cx="204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5079960" y="3328920"/>
              <a:ext cx="204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3030480" y="3328920"/>
              <a:ext cx="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3030480" y="3328920"/>
              <a:ext cx="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3030480" y="3328920"/>
              <a:ext cx="0" cy="1555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5079960" y="3328920"/>
              <a:ext cx="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5079960" y="3328920"/>
              <a:ext cx="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5079960" y="3328920"/>
              <a:ext cx="0" cy="1555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3030480" y="3484440"/>
              <a:ext cx="204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3030480" y="3484440"/>
              <a:ext cx="204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3030480" y="3484440"/>
              <a:ext cx="20494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7129440" y="3328920"/>
              <a:ext cx="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7129440" y="3328920"/>
              <a:ext cx="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7129440" y="3328920"/>
              <a:ext cx="0" cy="1555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5079960" y="3484440"/>
              <a:ext cx="204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5079960" y="3484440"/>
              <a:ext cx="204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3030480" y="3484440"/>
              <a:ext cx="0" cy="1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3030480" y="3484440"/>
              <a:ext cx="0" cy="1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3030480" y="3484440"/>
              <a:ext cx="0" cy="1494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5079960" y="3484440"/>
              <a:ext cx="0" cy="1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5079960" y="3484440"/>
              <a:ext cx="0" cy="1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5079960" y="3484440"/>
              <a:ext cx="0" cy="1494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3030480" y="3633840"/>
              <a:ext cx="204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3030480" y="3633840"/>
              <a:ext cx="204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3030480" y="3633840"/>
              <a:ext cx="20494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7129440" y="3484440"/>
              <a:ext cx="0" cy="1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7129440" y="3484440"/>
              <a:ext cx="0" cy="1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7129440" y="3484440"/>
              <a:ext cx="0" cy="1494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5079960" y="3633840"/>
              <a:ext cx="204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5079960" y="3633840"/>
              <a:ext cx="204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3030480" y="3633840"/>
              <a:ext cx="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3030480" y="3633840"/>
              <a:ext cx="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3030480" y="3633840"/>
              <a:ext cx="0" cy="1555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5079960" y="3633840"/>
              <a:ext cx="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5079960" y="3633840"/>
              <a:ext cx="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5079960" y="3633840"/>
              <a:ext cx="0" cy="1555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3030480" y="3789360"/>
              <a:ext cx="204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3030480" y="3789360"/>
              <a:ext cx="204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3030480" y="3789360"/>
              <a:ext cx="20494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7129440" y="3633840"/>
              <a:ext cx="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7129440" y="3633840"/>
              <a:ext cx="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7129440" y="3633840"/>
              <a:ext cx="0" cy="1555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5079960" y="3789360"/>
              <a:ext cx="204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5079960" y="3789360"/>
              <a:ext cx="204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3030480" y="3789360"/>
              <a:ext cx="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3030480" y="3789360"/>
              <a:ext cx="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3030480" y="3789360"/>
              <a:ext cx="0" cy="1555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5079960" y="3789360"/>
              <a:ext cx="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5079960" y="3789360"/>
              <a:ext cx="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5079960" y="3789360"/>
              <a:ext cx="0" cy="1555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3030480" y="3944880"/>
              <a:ext cx="204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3030480" y="3944880"/>
              <a:ext cx="204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3030480" y="3944880"/>
              <a:ext cx="20494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7129440" y="3789360"/>
              <a:ext cx="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7129440" y="3789360"/>
              <a:ext cx="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7129440" y="3789360"/>
              <a:ext cx="0" cy="1555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5079960" y="3944880"/>
              <a:ext cx="204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5079960" y="3944880"/>
              <a:ext cx="204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3030480" y="3944880"/>
              <a:ext cx="0" cy="12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3030480" y="3944880"/>
              <a:ext cx="0" cy="12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3030480" y="3944880"/>
              <a:ext cx="0" cy="1224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5079960" y="3944880"/>
              <a:ext cx="0" cy="12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5079960" y="3944880"/>
              <a:ext cx="0" cy="12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5079960" y="3944880"/>
              <a:ext cx="0" cy="1224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3030480" y="4067280"/>
              <a:ext cx="204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3030480" y="4067280"/>
              <a:ext cx="204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3030480" y="4067280"/>
              <a:ext cx="20494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7129440" y="3944880"/>
              <a:ext cx="0" cy="12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7129440" y="3944880"/>
              <a:ext cx="0" cy="12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7129440" y="3944880"/>
              <a:ext cx="0" cy="1224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5079960" y="4067280"/>
              <a:ext cx="204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5079960" y="4067280"/>
              <a:ext cx="204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3030480" y="4067280"/>
              <a:ext cx="0" cy="3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3030480" y="4067280"/>
              <a:ext cx="0" cy="3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3030480" y="4067280"/>
              <a:ext cx="0" cy="3715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5079960" y="4067280"/>
              <a:ext cx="0" cy="3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5079960" y="4067280"/>
              <a:ext cx="0" cy="3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5079960" y="4067280"/>
              <a:ext cx="0" cy="3715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3030480" y="4438800"/>
              <a:ext cx="204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3030480" y="4438800"/>
              <a:ext cx="204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3030480" y="4438800"/>
              <a:ext cx="20494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7129440" y="4067280"/>
              <a:ext cx="0" cy="3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7129440" y="4067280"/>
              <a:ext cx="0" cy="3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7129440" y="4067280"/>
              <a:ext cx="0" cy="3715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5079960" y="4438800"/>
              <a:ext cx="204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5079960" y="4438800"/>
              <a:ext cx="204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3030480" y="4438800"/>
              <a:ext cx="0" cy="37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3030480" y="4438800"/>
              <a:ext cx="0" cy="37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3030480" y="4438800"/>
              <a:ext cx="0" cy="3711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5079960" y="4438800"/>
              <a:ext cx="0" cy="37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5079960" y="4438800"/>
              <a:ext cx="0" cy="37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5079960" y="4438800"/>
              <a:ext cx="0" cy="3711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3030480" y="4809960"/>
              <a:ext cx="204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3030480" y="4809960"/>
              <a:ext cx="204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3030480" y="4809960"/>
              <a:ext cx="20494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7129440" y="4438800"/>
              <a:ext cx="0" cy="37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7129440" y="4438800"/>
              <a:ext cx="0" cy="37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7129440" y="4438800"/>
              <a:ext cx="0" cy="3711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5079960" y="4809960"/>
              <a:ext cx="204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5079960" y="4809960"/>
              <a:ext cx="204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3030480" y="4809960"/>
              <a:ext cx="0" cy="36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3030480" y="4809960"/>
              <a:ext cx="0" cy="36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3030480" y="4809960"/>
              <a:ext cx="0" cy="3668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5079960" y="4809960"/>
              <a:ext cx="0" cy="36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5079960" y="4809960"/>
              <a:ext cx="0" cy="36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5079960" y="4809960"/>
              <a:ext cx="0" cy="3668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3030480" y="5176800"/>
              <a:ext cx="204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3030480" y="5176800"/>
              <a:ext cx="204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3030480" y="5176800"/>
              <a:ext cx="20494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7129440" y="4809960"/>
              <a:ext cx="0" cy="36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7129440" y="4809960"/>
              <a:ext cx="0" cy="36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7129440" y="4809960"/>
              <a:ext cx="0" cy="3668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5079960" y="5176800"/>
              <a:ext cx="204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5079960" y="5176800"/>
              <a:ext cx="204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3030480" y="5176800"/>
              <a:ext cx="0" cy="34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3030480" y="5176800"/>
              <a:ext cx="0" cy="34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3030480" y="5176800"/>
              <a:ext cx="0" cy="3445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5079960" y="5176800"/>
              <a:ext cx="0" cy="34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5079960" y="5176800"/>
              <a:ext cx="0" cy="34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5079960" y="5176800"/>
              <a:ext cx="0" cy="3445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3030480" y="5521320"/>
              <a:ext cx="204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3030480" y="5521320"/>
              <a:ext cx="204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3030480" y="5521320"/>
              <a:ext cx="20494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7129440" y="5176800"/>
              <a:ext cx="0" cy="34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7129440" y="5176800"/>
              <a:ext cx="0" cy="34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7129440" y="5176800"/>
              <a:ext cx="0" cy="3445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5079960" y="5521320"/>
              <a:ext cx="204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5079960" y="5521320"/>
              <a:ext cx="204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3030480" y="5521320"/>
              <a:ext cx="0" cy="36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3030480" y="5521320"/>
              <a:ext cx="0" cy="36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3030480" y="5521320"/>
              <a:ext cx="0" cy="3668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5079960" y="5521320"/>
              <a:ext cx="0" cy="36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5079960" y="5521320"/>
              <a:ext cx="0" cy="36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5079960" y="5521320"/>
              <a:ext cx="0" cy="3668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3030480" y="5888160"/>
              <a:ext cx="204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3030480" y="5888160"/>
              <a:ext cx="204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3030480" y="5888160"/>
              <a:ext cx="20494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7129440" y="5521320"/>
              <a:ext cx="0" cy="36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7129440" y="5521320"/>
              <a:ext cx="0" cy="36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7129440" y="5521320"/>
              <a:ext cx="0" cy="3668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5079960" y="5888160"/>
              <a:ext cx="204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5079960" y="5888160"/>
              <a:ext cx="204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3030480" y="5888160"/>
              <a:ext cx="0" cy="3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3030480" y="5888160"/>
              <a:ext cx="0" cy="3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3030480" y="5888160"/>
              <a:ext cx="0" cy="3715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5079960" y="5888160"/>
              <a:ext cx="0" cy="3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5079960" y="5888160"/>
              <a:ext cx="0" cy="3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5079960" y="5888160"/>
              <a:ext cx="0" cy="3715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3030480" y="6259680"/>
              <a:ext cx="204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3030480" y="6259680"/>
              <a:ext cx="204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3030480" y="6259680"/>
              <a:ext cx="20494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7129440" y="5888160"/>
              <a:ext cx="0" cy="3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7129440" y="5888160"/>
              <a:ext cx="0" cy="3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7129440" y="5888160"/>
              <a:ext cx="0" cy="3715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5079960" y="6259680"/>
              <a:ext cx="204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5079960" y="6259680"/>
              <a:ext cx="204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3030480" y="6259680"/>
              <a:ext cx="0" cy="35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3030480" y="6259680"/>
              <a:ext cx="0" cy="35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3030480" y="6259680"/>
              <a:ext cx="0" cy="3553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5079960" y="6259680"/>
              <a:ext cx="0" cy="35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5079960" y="6259680"/>
              <a:ext cx="0" cy="35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5079960" y="6259680"/>
              <a:ext cx="0" cy="3553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3030480" y="6615000"/>
              <a:ext cx="204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3030480" y="6615000"/>
              <a:ext cx="204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3030480" y="6615000"/>
              <a:ext cx="20494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7129440" y="6259680"/>
              <a:ext cx="0" cy="35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7129440" y="6259680"/>
              <a:ext cx="0" cy="35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7129440" y="6259680"/>
              <a:ext cx="0" cy="3553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5079960" y="6615000"/>
              <a:ext cx="204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5079960" y="6615000"/>
              <a:ext cx="204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3030480" y="6615000"/>
              <a:ext cx="0" cy="36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3030480" y="6615000"/>
              <a:ext cx="0" cy="36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3030480" y="6615000"/>
              <a:ext cx="0" cy="3668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5079960" y="6615000"/>
              <a:ext cx="0" cy="36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5079960" y="6615000"/>
              <a:ext cx="0" cy="36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5079960" y="6615000"/>
              <a:ext cx="0" cy="3668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3030480" y="6981840"/>
              <a:ext cx="204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3030480" y="6981840"/>
              <a:ext cx="204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3030480" y="6981840"/>
              <a:ext cx="20494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7129440" y="6615000"/>
              <a:ext cx="0" cy="36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7129440" y="6615000"/>
              <a:ext cx="0" cy="36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7129440" y="6615000"/>
              <a:ext cx="0" cy="3668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5079960" y="6981840"/>
              <a:ext cx="204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5079960" y="6981840"/>
              <a:ext cx="204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3030480" y="6981840"/>
              <a:ext cx="0" cy="36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3030480" y="6981840"/>
              <a:ext cx="0" cy="36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5079960" y="6981840"/>
              <a:ext cx="0" cy="36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5079960" y="6981840"/>
              <a:ext cx="0" cy="36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3030480" y="7348680"/>
              <a:ext cx="204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3030480" y="7348680"/>
              <a:ext cx="204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3030480" y="7348680"/>
              <a:ext cx="20494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7129440" y="6981840"/>
              <a:ext cx="0" cy="36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7129440" y="6981840"/>
              <a:ext cx="0" cy="36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5079960" y="7348680"/>
              <a:ext cx="204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5079960" y="7348680"/>
              <a:ext cx="204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886" name="" descr=""/>
          <p:cNvPicPr/>
          <p:nvPr/>
        </p:nvPicPr>
        <p:blipFill>
          <a:blip r:embed="rId1"/>
          <a:stretch/>
        </p:blipFill>
        <p:spPr>
          <a:xfrm>
            <a:off x="5079960" y="914400"/>
            <a:ext cx="4802400" cy="4695840"/>
          </a:xfrm>
          <a:prstGeom prst="rect">
            <a:avLst/>
          </a:prstGeom>
          <a:ln w="0">
            <a:noFill/>
          </a:ln>
        </p:spPr>
      </p:pic>
      <p:sp>
        <p:nvSpPr>
          <p:cNvPr id="2887" name=""/>
          <p:cNvSpPr/>
          <p:nvPr/>
        </p:nvSpPr>
        <p:spPr>
          <a:xfrm>
            <a:off x="5734080" y="5587920"/>
            <a:ext cx="362412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ich strings does this FSM accept, generally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560"/>
            <a:ext cx="966456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roblem solving </a:t>
            </a:r>
            <a:r>
              <a:rPr b="0" i="1" lang="en-US" sz="43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40160" y="1422360"/>
            <a:ext cx="5503680" cy="48531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685960" y="6502320"/>
            <a:ext cx="52466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ere's a familiar proble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85960" y="7010280"/>
            <a:ext cx="52466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How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would you solve it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8" name="PlaceHolder 1"/>
          <p:cNvSpPr>
            <a:spLocks noGrp="1"/>
          </p:cNvSpPr>
          <p:nvPr>
            <p:ph type="title"/>
          </p:nvPr>
        </p:nvSpPr>
        <p:spPr>
          <a:xfrm>
            <a:off x="237960" y="294840"/>
            <a:ext cx="9655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Mystery FSM 3! (from the first slide)</a:t>
            </a:r>
            <a:br>
              <a:rPr sz="4300"/>
            </a:b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atrick Susa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9" name=""/>
          <p:cNvGrpSpPr/>
          <p:nvPr/>
        </p:nvGrpSpPr>
        <p:grpSpPr>
          <a:xfrm>
            <a:off x="3102120" y="2436840"/>
            <a:ext cx="3956040" cy="5959440"/>
            <a:chOff x="3102120" y="2436840"/>
            <a:chExt cx="3956040" cy="5959440"/>
          </a:xfrm>
        </p:grpSpPr>
        <p:sp>
          <p:nvSpPr>
            <p:cNvPr id="2890" name=""/>
            <p:cNvSpPr/>
            <p:nvPr/>
          </p:nvSpPr>
          <p:spPr>
            <a:xfrm>
              <a:off x="3102120" y="2436840"/>
              <a:ext cx="197784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5079960" y="2436840"/>
              <a:ext cx="197820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ccepted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3102120" y="2735280"/>
              <a:ext cx="197784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5079960" y="2735280"/>
              <a:ext cx="19782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3102120" y="3052800"/>
              <a:ext cx="19778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5079960" y="3052800"/>
              <a:ext cx="19782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3102120" y="3360600"/>
              <a:ext cx="19778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7" name=""/>
            <p:cNvSpPr/>
            <p:nvPr/>
          </p:nvSpPr>
          <p:spPr>
            <a:xfrm>
              <a:off x="5079960" y="3360600"/>
              <a:ext cx="197820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3102120" y="3638520"/>
              <a:ext cx="197784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5079960" y="3638520"/>
              <a:ext cx="19782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3102120" y="3906720"/>
              <a:ext cx="197784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5079960" y="3906720"/>
              <a:ext cx="197820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3102120" y="4205160"/>
              <a:ext cx="197784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5079960" y="4205160"/>
              <a:ext cx="197820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3102120" y="4503600"/>
              <a:ext cx="197784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5079960" y="4503600"/>
              <a:ext cx="197820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3102120" y="4791240"/>
              <a:ext cx="197784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7" name=""/>
            <p:cNvSpPr/>
            <p:nvPr/>
          </p:nvSpPr>
          <p:spPr>
            <a:xfrm>
              <a:off x="5079960" y="4791240"/>
              <a:ext cx="19782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3102120" y="5118120"/>
              <a:ext cx="19778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5079960" y="5118120"/>
              <a:ext cx="197820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3102120" y="5396040"/>
              <a:ext cx="197784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5079960" y="5396040"/>
              <a:ext cx="197820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3102120" y="5673600"/>
              <a:ext cx="197784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3" name=""/>
            <p:cNvSpPr/>
            <p:nvPr/>
          </p:nvSpPr>
          <p:spPr>
            <a:xfrm>
              <a:off x="5079960" y="5673600"/>
              <a:ext cx="19782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3102120" y="6029280"/>
              <a:ext cx="197784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5079960" y="6029280"/>
              <a:ext cx="197820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3102120" y="6377040"/>
              <a:ext cx="197784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5079960" y="6377040"/>
              <a:ext cx="197820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3102120" y="6724800"/>
              <a:ext cx="1977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1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5079960" y="6724800"/>
              <a:ext cx="197820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3102120" y="7062840"/>
              <a:ext cx="19778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5079960" y="7062840"/>
              <a:ext cx="19782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3102120" y="7370640"/>
              <a:ext cx="19778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5079960" y="7370640"/>
              <a:ext cx="19782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3102120" y="7704000"/>
              <a:ext cx="197784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5079960" y="7704000"/>
              <a:ext cx="197820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3102120" y="8051760"/>
              <a:ext cx="197784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1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5079960" y="8051760"/>
              <a:ext cx="197820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5079960" y="2436840"/>
              <a:ext cx="19782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5079960" y="2735280"/>
              <a:ext cx="19782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5079960" y="3052800"/>
              <a:ext cx="19782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5079960" y="3360600"/>
              <a:ext cx="19782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5079960" y="3638520"/>
              <a:ext cx="19782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5079960" y="3906720"/>
              <a:ext cx="19782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5079960" y="4205160"/>
              <a:ext cx="19782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5079960" y="4503600"/>
              <a:ext cx="19782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5079960" y="4791240"/>
              <a:ext cx="19782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5079960" y="5118120"/>
              <a:ext cx="19782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5079960" y="5396040"/>
              <a:ext cx="19782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5079960" y="5673600"/>
              <a:ext cx="19782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5079960" y="6029280"/>
              <a:ext cx="19782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5079960" y="6377040"/>
              <a:ext cx="19782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5079960" y="6724800"/>
              <a:ext cx="19782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5079960" y="7062840"/>
              <a:ext cx="19782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5079960" y="7370640"/>
              <a:ext cx="19782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5079960" y="7704000"/>
              <a:ext cx="19782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5079960" y="8051760"/>
              <a:ext cx="19782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5079960" y="8396280"/>
              <a:ext cx="19782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3102120" y="8051760"/>
              <a:ext cx="0" cy="3445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5079960" y="8051760"/>
              <a:ext cx="0" cy="3445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7058160" y="8051760"/>
              <a:ext cx="0" cy="3445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3102120" y="243684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3102120" y="243684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3102120" y="2436840"/>
              <a:ext cx="197784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3102120" y="2436840"/>
              <a:ext cx="0" cy="29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3102120" y="2436840"/>
              <a:ext cx="0" cy="29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3102120" y="2436840"/>
              <a:ext cx="0" cy="2984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5079960" y="2436840"/>
              <a:ext cx="0" cy="29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5079960" y="2436840"/>
              <a:ext cx="0" cy="29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5079960" y="2436840"/>
              <a:ext cx="0" cy="2984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3102120" y="273528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3102120" y="273528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3102120" y="2735280"/>
              <a:ext cx="197784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5079960" y="243684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5079960" y="243684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7058160" y="2436840"/>
              <a:ext cx="0" cy="29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7058160" y="2436840"/>
              <a:ext cx="0" cy="29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7058160" y="2436840"/>
              <a:ext cx="0" cy="2984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5079960" y="273528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5079960" y="273528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3102120" y="2735280"/>
              <a:ext cx="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3102120" y="2735280"/>
              <a:ext cx="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3102120" y="2735280"/>
              <a:ext cx="0" cy="3175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3" name=""/>
            <p:cNvSpPr/>
            <p:nvPr/>
          </p:nvSpPr>
          <p:spPr>
            <a:xfrm>
              <a:off x="5079960" y="2735280"/>
              <a:ext cx="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4" name=""/>
            <p:cNvSpPr/>
            <p:nvPr/>
          </p:nvSpPr>
          <p:spPr>
            <a:xfrm>
              <a:off x="5079960" y="2735280"/>
              <a:ext cx="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5079960" y="2735280"/>
              <a:ext cx="0" cy="3175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3102120" y="305280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3102120" y="305280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3102120" y="3052800"/>
              <a:ext cx="197784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7058160" y="2735280"/>
              <a:ext cx="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7058160" y="2735280"/>
              <a:ext cx="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7058160" y="2735280"/>
              <a:ext cx="0" cy="3175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5079960" y="305280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5079960" y="305280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3102120" y="3052800"/>
              <a:ext cx="0" cy="30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3102120" y="3052800"/>
              <a:ext cx="0" cy="30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3102120" y="3052800"/>
              <a:ext cx="0" cy="3078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5079960" y="3052800"/>
              <a:ext cx="0" cy="30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5079960" y="3052800"/>
              <a:ext cx="0" cy="30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5079960" y="3052800"/>
              <a:ext cx="0" cy="3078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3102120" y="336060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3102120" y="336060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3102120" y="3360600"/>
              <a:ext cx="197784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7058160" y="3052800"/>
              <a:ext cx="0" cy="30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7058160" y="3052800"/>
              <a:ext cx="0" cy="30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7058160" y="3052800"/>
              <a:ext cx="0" cy="3078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5079960" y="336060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5079960" y="336060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3102120" y="3360600"/>
              <a:ext cx="0" cy="27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3102120" y="3360600"/>
              <a:ext cx="0" cy="27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3102120" y="3360600"/>
              <a:ext cx="0" cy="2779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5079960" y="3360600"/>
              <a:ext cx="0" cy="27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5079960" y="3360600"/>
              <a:ext cx="0" cy="27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5079960" y="3360600"/>
              <a:ext cx="0" cy="2779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3102120" y="363852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3102120" y="363852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3102120" y="3638520"/>
              <a:ext cx="197784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7058160" y="3360600"/>
              <a:ext cx="0" cy="27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7058160" y="3360600"/>
              <a:ext cx="0" cy="27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7058160" y="3360600"/>
              <a:ext cx="0" cy="2779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5079960" y="363852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5079960" y="363852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3102120" y="3638520"/>
              <a:ext cx="0" cy="26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3102120" y="3638520"/>
              <a:ext cx="0" cy="26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3102120" y="3638520"/>
              <a:ext cx="0" cy="2682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5079960" y="3638520"/>
              <a:ext cx="0" cy="26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5079960" y="3638520"/>
              <a:ext cx="0" cy="26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5079960" y="3638520"/>
              <a:ext cx="0" cy="2682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3102120" y="390672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3102120" y="390672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3102120" y="3906720"/>
              <a:ext cx="197784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7058160" y="3638520"/>
              <a:ext cx="0" cy="26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7058160" y="3638520"/>
              <a:ext cx="0" cy="26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7058160" y="3638520"/>
              <a:ext cx="0" cy="2682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5079960" y="390672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5079960" y="390672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3102120" y="3906720"/>
              <a:ext cx="0" cy="29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3102120" y="3906720"/>
              <a:ext cx="0" cy="29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3102120" y="3906720"/>
              <a:ext cx="0" cy="2984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5079960" y="3906720"/>
              <a:ext cx="0" cy="29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5079960" y="3906720"/>
              <a:ext cx="0" cy="29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5079960" y="3906720"/>
              <a:ext cx="0" cy="2984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3102120" y="420516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3102120" y="420516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3102120" y="4205160"/>
              <a:ext cx="197784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7058160" y="3906720"/>
              <a:ext cx="0" cy="29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7058160" y="3906720"/>
              <a:ext cx="0" cy="29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7058160" y="3906720"/>
              <a:ext cx="0" cy="2984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5079960" y="420516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5079960" y="420516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3102120" y="4205160"/>
              <a:ext cx="0" cy="29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3102120" y="4205160"/>
              <a:ext cx="0" cy="29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3102120" y="4205160"/>
              <a:ext cx="0" cy="2984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5079960" y="4205160"/>
              <a:ext cx="0" cy="29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5079960" y="4205160"/>
              <a:ext cx="0" cy="29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5079960" y="4205160"/>
              <a:ext cx="0" cy="2984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3102120" y="450360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3102120" y="450360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3102120" y="4503600"/>
              <a:ext cx="197784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7058160" y="4205160"/>
              <a:ext cx="0" cy="29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7058160" y="4205160"/>
              <a:ext cx="0" cy="29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7058160" y="4205160"/>
              <a:ext cx="0" cy="2984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5079960" y="450360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5079960" y="450360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3102120" y="450360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3102120" y="450360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3102120" y="4503600"/>
              <a:ext cx="0" cy="287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5079960" y="450360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5079960" y="450360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5079960" y="4503600"/>
              <a:ext cx="0" cy="287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3102120" y="479124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3102120" y="479124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3102120" y="4791240"/>
              <a:ext cx="197784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7058160" y="450360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7058160" y="450360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7058160" y="4503600"/>
              <a:ext cx="0" cy="287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5079960" y="479124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5079960" y="479124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3102120" y="4791240"/>
              <a:ext cx="0" cy="32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3102120" y="4791240"/>
              <a:ext cx="0" cy="32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3102120" y="4791240"/>
              <a:ext cx="0" cy="3268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5079960" y="4791240"/>
              <a:ext cx="0" cy="32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5079960" y="4791240"/>
              <a:ext cx="0" cy="32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5079960" y="4791240"/>
              <a:ext cx="0" cy="3268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3102120" y="511812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3102120" y="511812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3102120" y="5118120"/>
              <a:ext cx="197784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7058160" y="4791240"/>
              <a:ext cx="0" cy="32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7058160" y="4791240"/>
              <a:ext cx="0" cy="32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7058160" y="4791240"/>
              <a:ext cx="0" cy="3268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5079960" y="511812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5079960" y="511812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3102120" y="5118120"/>
              <a:ext cx="0" cy="27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3102120" y="5118120"/>
              <a:ext cx="0" cy="27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3102120" y="5118120"/>
              <a:ext cx="0" cy="2779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5079960" y="5118120"/>
              <a:ext cx="0" cy="27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5079960" y="5118120"/>
              <a:ext cx="0" cy="27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5079960" y="5118120"/>
              <a:ext cx="0" cy="2779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3102120" y="539604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3102120" y="539604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3102120" y="5396040"/>
              <a:ext cx="197784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7058160" y="5118120"/>
              <a:ext cx="0" cy="27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7058160" y="5118120"/>
              <a:ext cx="0" cy="27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7058160" y="5118120"/>
              <a:ext cx="0" cy="2779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5079960" y="539604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5079960" y="539604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3102120" y="5396040"/>
              <a:ext cx="0" cy="27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3102120" y="5396040"/>
              <a:ext cx="0" cy="27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3102120" y="5396040"/>
              <a:ext cx="0" cy="2775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5079960" y="5396040"/>
              <a:ext cx="0" cy="27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5079960" y="5396040"/>
              <a:ext cx="0" cy="27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5079960" y="5396040"/>
              <a:ext cx="0" cy="2775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3102120" y="567360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3102120" y="567360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3102120" y="5673600"/>
              <a:ext cx="197784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7058160" y="5396040"/>
              <a:ext cx="0" cy="27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7058160" y="5396040"/>
              <a:ext cx="0" cy="27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7058160" y="5396040"/>
              <a:ext cx="0" cy="2775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8" name=""/>
            <p:cNvSpPr/>
            <p:nvPr/>
          </p:nvSpPr>
          <p:spPr>
            <a:xfrm>
              <a:off x="5079960" y="567360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9" name=""/>
            <p:cNvSpPr/>
            <p:nvPr/>
          </p:nvSpPr>
          <p:spPr>
            <a:xfrm>
              <a:off x="5079960" y="567360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0" name=""/>
            <p:cNvSpPr/>
            <p:nvPr/>
          </p:nvSpPr>
          <p:spPr>
            <a:xfrm>
              <a:off x="3102120" y="5673600"/>
              <a:ext cx="0" cy="35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3102120" y="5673600"/>
              <a:ext cx="0" cy="35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3102120" y="5673600"/>
              <a:ext cx="0" cy="3556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5079960" y="5673600"/>
              <a:ext cx="0" cy="35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5079960" y="5673600"/>
              <a:ext cx="0" cy="35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5079960" y="5673600"/>
              <a:ext cx="0" cy="3556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3102120" y="602928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3102120" y="602928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3102120" y="6029280"/>
              <a:ext cx="197784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7058160" y="5673600"/>
              <a:ext cx="0" cy="35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0" name=""/>
            <p:cNvSpPr/>
            <p:nvPr/>
          </p:nvSpPr>
          <p:spPr>
            <a:xfrm>
              <a:off x="7058160" y="5673600"/>
              <a:ext cx="0" cy="35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7058160" y="5673600"/>
              <a:ext cx="0" cy="3556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5079960" y="602928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5079960" y="602928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3102120" y="6029280"/>
              <a:ext cx="0" cy="3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3102120" y="6029280"/>
              <a:ext cx="0" cy="3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3102120" y="6029280"/>
              <a:ext cx="0" cy="3477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5079960" y="6029280"/>
              <a:ext cx="0" cy="3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5079960" y="6029280"/>
              <a:ext cx="0" cy="3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5079960" y="6029280"/>
              <a:ext cx="0" cy="3477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3102120" y="637704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3102120" y="637704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3102120" y="6377040"/>
              <a:ext cx="197784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7058160" y="6029280"/>
              <a:ext cx="0" cy="3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7058160" y="6029280"/>
              <a:ext cx="0" cy="3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7058160" y="6029280"/>
              <a:ext cx="0" cy="3477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5079960" y="637704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5079960" y="637704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3102120" y="6377040"/>
              <a:ext cx="0" cy="3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3102120" y="6377040"/>
              <a:ext cx="0" cy="3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3102120" y="6377040"/>
              <a:ext cx="0" cy="3477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5079960" y="6377040"/>
              <a:ext cx="0" cy="3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5079960" y="6377040"/>
              <a:ext cx="0" cy="3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5079960" y="6377040"/>
              <a:ext cx="0" cy="3477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3102120" y="672480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3102120" y="672480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3102120" y="6724800"/>
              <a:ext cx="197784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7058160" y="6377040"/>
              <a:ext cx="0" cy="3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7058160" y="6377040"/>
              <a:ext cx="0" cy="3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7058160" y="6377040"/>
              <a:ext cx="0" cy="3477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5079960" y="672480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5079960" y="672480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3102120" y="6724800"/>
              <a:ext cx="0" cy="33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3102120" y="6724800"/>
              <a:ext cx="0" cy="33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3102120" y="6724800"/>
              <a:ext cx="0" cy="3380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5079960" y="6724800"/>
              <a:ext cx="0" cy="33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5079960" y="6724800"/>
              <a:ext cx="0" cy="33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5079960" y="6724800"/>
              <a:ext cx="0" cy="3380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3102120" y="706284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3102120" y="706284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3102120" y="7062840"/>
              <a:ext cx="197784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7058160" y="6724800"/>
              <a:ext cx="0" cy="33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7058160" y="6724800"/>
              <a:ext cx="0" cy="33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7058160" y="6724800"/>
              <a:ext cx="0" cy="3380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5079960" y="706284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5079960" y="706284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3102120" y="7062840"/>
              <a:ext cx="0" cy="30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3102120" y="7062840"/>
              <a:ext cx="0" cy="30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3102120" y="7062840"/>
              <a:ext cx="0" cy="3078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5079960" y="7062840"/>
              <a:ext cx="0" cy="30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5079960" y="7062840"/>
              <a:ext cx="0" cy="30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5079960" y="7062840"/>
              <a:ext cx="0" cy="3078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3102120" y="737064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3102120" y="737064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3102120" y="7370640"/>
              <a:ext cx="197784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7058160" y="7062840"/>
              <a:ext cx="0" cy="30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7058160" y="7062840"/>
              <a:ext cx="0" cy="30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7058160" y="7062840"/>
              <a:ext cx="0" cy="3078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5079960" y="737064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5079960" y="737064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3102120" y="7370640"/>
              <a:ext cx="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3102120" y="7370640"/>
              <a:ext cx="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3102120" y="7370640"/>
              <a:ext cx="0" cy="3333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5079960" y="7370640"/>
              <a:ext cx="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5079960" y="7370640"/>
              <a:ext cx="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5079960" y="7370640"/>
              <a:ext cx="0" cy="3333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3102120" y="770400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3102120" y="770400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3102120" y="7704000"/>
              <a:ext cx="197784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7058160" y="7370640"/>
              <a:ext cx="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7058160" y="7370640"/>
              <a:ext cx="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7058160" y="7370640"/>
              <a:ext cx="0" cy="3333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5079960" y="770400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5079960" y="770400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3102120" y="7704000"/>
              <a:ext cx="0" cy="3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3102120" y="7704000"/>
              <a:ext cx="0" cy="3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3102120" y="7704000"/>
              <a:ext cx="0" cy="3477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5079960" y="7704000"/>
              <a:ext cx="0" cy="3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5079960" y="7704000"/>
              <a:ext cx="0" cy="3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5079960" y="7704000"/>
              <a:ext cx="0" cy="3477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3102120" y="805176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3102120" y="805176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3102120" y="8051760"/>
              <a:ext cx="197784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7058160" y="7704000"/>
              <a:ext cx="0" cy="3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7058160" y="7704000"/>
              <a:ext cx="0" cy="3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7058160" y="7704000"/>
              <a:ext cx="0" cy="3477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5079960" y="805176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5079960" y="805176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3102120" y="8051760"/>
              <a:ext cx="0" cy="34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3102120" y="8051760"/>
              <a:ext cx="0" cy="34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5079960" y="8051760"/>
              <a:ext cx="0" cy="34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5079960" y="8051760"/>
              <a:ext cx="0" cy="34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3102120" y="839628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3102120" y="839628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3102120" y="8396280"/>
              <a:ext cx="197784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7058160" y="8051760"/>
              <a:ext cx="0" cy="34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7058160" y="8051760"/>
              <a:ext cx="0" cy="34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5079960" y="839628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5079960" y="839628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19" name="" descr=""/>
          <p:cNvPicPr/>
          <p:nvPr/>
        </p:nvPicPr>
        <p:blipFill>
          <a:blip r:embed="rId1"/>
          <a:stretch/>
        </p:blipFill>
        <p:spPr>
          <a:xfrm>
            <a:off x="5079960" y="914400"/>
            <a:ext cx="4802400" cy="4695840"/>
          </a:xfrm>
          <a:prstGeom prst="rect">
            <a:avLst/>
          </a:prstGeom>
          <a:ln w="0">
            <a:noFill/>
          </a:ln>
        </p:spPr>
      </p:pic>
      <p:sp>
        <p:nvSpPr>
          <p:cNvPr id="3220" name=""/>
          <p:cNvSpPr/>
          <p:nvPr/>
        </p:nvSpPr>
        <p:spPr>
          <a:xfrm>
            <a:off x="5734080" y="5587920"/>
            <a:ext cx="362412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ich strings does this FSM accept, generally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1" name="PlaceHolder 1"/>
          <p:cNvSpPr>
            <a:spLocks noGrp="1"/>
          </p:cNvSpPr>
          <p:nvPr>
            <p:ph type="title"/>
          </p:nvPr>
        </p:nvSpPr>
        <p:spPr>
          <a:xfrm>
            <a:off x="239400" y="297000"/>
            <a:ext cx="9661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Mystery FSM 3! (from the first slide)</a:t>
            </a:r>
            <a:br>
              <a:rPr sz="4300"/>
            </a:b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heryl and Jen!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2" name=""/>
          <p:cNvGrpSpPr/>
          <p:nvPr/>
        </p:nvGrpSpPr>
        <p:grpSpPr>
          <a:xfrm>
            <a:off x="3102120" y="2436840"/>
            <a:ext cx="3956040" cy="5894280"/>
            <a:chOff x="3102120" y="2436840"/>
            <a:chExt cx="3956040" cy="5894280"/>
          </a:xfrm>
        </p:grpSpPr>
        <p:sp>
          <p:nvSpPr>
            <p:cNvPr id="3223" name=""/>
            <p:cNvSpPr/>
            <p:nvPr/>
          </p:nvSpPr>
          <p:spPr>
            <a:xfrm>
              <a:off x="3102120" y="2436840"/>
              <a:ext cx="197784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5079960" y="2436840"/>
              <a:ext cx="197820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ccepted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5" name=""/>
            <p:cNvSpPr/>
            <p:nvPr/>
          </p:nvSpPr>
          <p:spPr>
            <a:xfrm>
              <a:off x="3102120" y="2735280"/>
              <a:ext cx="197784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6" name=""/>
            <p:cNvSpPr/>
            <p:nvPr/>
          </p:nvSpPr>
          <p:spPr>
            <a:xfrm>
              <a:off x="5079960" y="2735280"/>
              <a:ext cx="197820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3102120" y="3011400"/>
              <a:ext cx="19778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5079960" y="3011400"/>
              <a:ext cx="19782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3102120" y="3344760"/>
              <a:ext cx="1977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5079960" y="3344760"/>
              <a:ext cx="1978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3102120" y="3621240"/>
              <a:ext cx="197784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5079960" y="3621240"/>
              <a:ext cx="197820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3102120" y="3897360"/>
              <a:ext cx="197784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5079960" y="3897360"/>
              <a:ext cx="197820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 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3102120" y="4195800"/>
              <a:ext cx="197784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5079960" y="4195800"/>
              <a:ext cx="197820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 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3102120" y="4494240"/>
              <a:ext cx="197784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5079960" y="4494240"/>
              <a:ext cx="197820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3102120" y="4757760"/>
              <a:ext cx="19778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0" name=""/>
            <p:cNvSpPr/>
            <p:nvPr/>
          </p:nvSpPr>
          <p:spPr>
            <a:xfrm>
              <a:off x="5079960" y="4757760"/>
              <a:ext cx="19782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1" name=""/>
            <p:cNvSpPr/>
            <p:nvPr/>
          </p:nvSpPr>
          <p:spPr>
            <a:xfrm>
              <a:off x="3102120" y="5045040"/>
              <a:ext cx="197784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5079960" y="5045040"/>
              <a:ext cx="197820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3102120" y="5321160"/>
              <a:ext cx="197784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5079960" y="5321160"/>
              <a:ext cx="197820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3102120" y="5619600"/>
              <a:ext cx="19778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5079960" y="5619600"/>
              <a:ext cx="19782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3102120" y="5952960"/>
              <a:ext cx="197784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5079960" y="5952960"/>
              <a:ext cx="19782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3102120" y="6308640"/>
              <a:ext cx="19778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5079960" y="6308640"/>
              <a:ext cx="19782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3102120" y="6630840"/>
              <a:ext cx="197784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1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5079960" y="6630840"/>
              <a:ext cx="197820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3102120" y="6975360"/>
              <a:ext cx="19778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5079960" y="6975360"/>
              <a:ext cx="19782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3102120" y="7308720"/>
              <a:ext cx="197784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5079960" y="7308720"/>
              <a:ext cx="19782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7" name=""/>
            <p:cNvSpPr/>
            <p:nvPr/>
          </p:nvSpPr>
          <p:spPr>
            <a:xfrm>
              <a:off x="3102120" y="7664400"/>
              <a:ext cx="197784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5079960" y="7664400"/>
              <a:ext cx="197820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3102120" y="8008920"/>
              <a:ext cx="19778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1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0" name=""/>
            <p:cNvSpPr/>
            <p:nvPr/>
          </p:nvSpPr>
          <p:spPr>
            <a:xfrm>
              <a:off x="5079960" y="8008920"/>
              <a:ext cx="19782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5079960" y="2436840"/>
              <a:ext cx="19782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5079960" y="2735280"/>
              <a:ext cx="19782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5079960" y="3011400"/>
              <a:ext cx="19782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5079960" y="3344760"/>
              <a:ext cx="19782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5079960" y="3621240"/>
              <a:ext cx="19782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5079960" y="3897360"/>
              <a:ext cx="19782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5079960" y="4195800"/>
              <a:ext cx="19782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5079960" y="4494240"/>
              <a:ext cx="19782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5079960" y="4757760"/>
              <a:ext cx="19782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5079960" y="5045040"/>
              <a:ext cx="19782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5079960" y="5321160"/>
              <a:ext cx="19782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5079960" y="5619600"/>
              <a:ext cx="19782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5079960" y="5952960"/>
              <a:ext cx="19782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5079960" y="6308640"/>
              <a:ext cx="19782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5079960" y="6630840"/>
              <a:ext cx="19782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5079960" y="6975360"/>
              <a:ext cx="19782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5079960" y="7308720"/>
              <a:ext cx="19782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5079960" y="7664400"/>
              <a:ext cx="19782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5079960" y="8008920"/>
              <a:ext cx="19782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5079960" y="8331120"/>
              <a:ext cx="19782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3102120" y="8008920"/>
              <a:ext cx="0" cy="3222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2" name=""/>
            <p:cNvSpPr/>
            <p:nvPr/>
          </p:nvSpPr>
          <p:spPr>
            <a:xfrm>
              <a:off x="5079960" y="8008920"/>
              <a:ext cx="0" cy="3222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3" name=""/>
            <p:cNvSpPr/>
            <p:nvPr/>
          </p:nvSpPr>
          <p:spPr>
            <a:xfrm>
              <a:off x="7058160" y="8008920"/>
              <a:ext cx="0" cy="3222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3102120" y="243684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5" name=""/>
            <p:cNvSpPr/>
            <p:nvPr/>
          </p:nvSpPr>
          <p:spPr>
            <a:xfrm>
              <a:off x="3102120" y="243684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6" name=""/>
            <p:cNvSpPr/>
            <p:nvPr/>
          </p:nvSpPr>
          <p:spPr>
            <a:xfrm>
              <a:off x="3102120" y="2436840"/>
              <a:ext cx="197784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7" name=""/>
            <p:cNvSpPr/>
            <p:nvPr/>
          </p:nvSpPr>
          <p:spPr>
            <a:xfrm>
              <a:off x="3102120" y="2436840"/>
              <a:ext cx="0" cy="29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3102120" y="2436840"/>
              <a:ext cx="0" cy="29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9" name=""/>
            <p:cNvSpPr/>
            <p:nvPr/>
          </p:nvSpPr>
          <p:spPr>
            <a:xfrm>
              <a:off x="3102120" y="2436840"/>
              <a:ext cx="0" cy="2984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5079960" y="2436840"/>
              <a:ext cx="0" cy="29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5079960" y="2436840"/>
              <a:ext cx="0" cy="29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5079960" y="2436840"/>
              <a:ext cx="0" cy="2984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3102120" y="273528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3102120" y="273528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5" name=""/>
            <p:cNvSpPr/>
            <p:nvPr/>
          </p:nvSpPr>
          <p:spPr>
            <a:xfrm>
              <a:off x="3102120" y="2735280"/>
              <a:ext cx="197784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5079960" y="243684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7" name=""/>
            <p:cNvSpPr/>
            <p:nvPr/>
          </p:nvSpPr>
          <p:spPr>
            <a:xfrm>
              <a:off x="5079960" y="243684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7058160" y="2436840"/>
              <a:ext cx="0" cy="29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7058160" y="2436840"/>
              <a:ext cx="0" cy="29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7058160" y="2436840"/>
              <a:ext cx="0" cy="2984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5079960" y="273528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5079960" y="273528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3" name=""/>
            <p:cNvSpPr/>
            <p:nvPr/>
          </p:nvSpPr>
          <p:spPr>
            <a:xfrm>
              <a:off x="3102120" y="2735280"/>
              <a:ext cx="0" cy="27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3102120" y="2735280"/>
              <a:ext cx="0" cy="27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3102120" y="2735280"/>
              <a:ext cx="0" cy="2761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6" name=""/>
            <p:cNvSpPr/>
            <p:nvPr/>
          </p:nvSpPr>
          <p:spPr>
            <a:xfrm>
              <a:off x="5079960" y="2735280"/>
              <a:ext cx="0" cy="27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5079960" y="2735280"/>
              <a:ext cx="0" cy="27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5079960" y="2735280"/>
              <a:ext cx="0" cy="2761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3102120" y="301140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3102120" y="301140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3102120" y="3011400"/>
              <a:ext cx="197784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2" name=""/>
            <p:cNvSpPr/>
            <p:nvPr/>
          </p:nvSpPr>
          <p:spPr>
            <a:xfrm>
              <a:off x="7058160" y="2735280"/>
              <a:ext cx="0" cy="27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7058160" y="2735280"/>
              <a:ext cx="0" cy="27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7058160" y="2735280"/>
              <a:ext cx="0" cy="2761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5079960" y="301140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5079960" y="301140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3102120" y="3011400"/>
              <a:ext cx="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3102120" y="3011400"/>
              <a:ext cx="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3102120" y="3011400"/>
              <a:ext cx="0" cy="3333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5079960" y="3011400"/>
              <a:ext cx="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5079960" y="3011400"/>
              <a:ext cx="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5079960" y="3011400"/>
              <a:ext cx="0" cy="3333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3102120" y="334476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3102120" y="334476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5" name=""/>
            <p:cNvSpPr/>
            <p:nvPr/>
          </p:nvSpPr>
          <p:spPr>
            <a:xfrm>
              <a:off x="3102120" y="3344760"/>
              <a:ext cx="197784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7058160" y="3011400"/>
              <a:ext cx="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7058160" y="3011400"/>
              <a:ext cx="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7058160" y="3011400"/>
              <a:ext cx="0" cy="3333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5079960" y="334476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5079960" y="334476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1" name=""/>
            <p:cNvSpPr/>
            <p:nvPr/>
          </p:nvSpPr>
          <p:spPr>
            <a:xfrm>
              <a:off x="3102120" y="3344760"/>
              <a:ext cx="0" cy="27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3102120" y="3344760"/>
              <a:ext cx="0" cy="27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3" name=""/>
            <p:cNvSpPr/>
            <p:nvPr/>
          </p:nvSpPr>
          <p:spPr>
            <a:xfrm>
              <a:off x="3102120" y="3344760"/>
              <a:ext cx="0" cy="2764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5079960" y="3344760"/>
              <a:ext cx="0" cy="27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5079960" y="3344760"/>
              <a:ext cx="0" cy="27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5079960" y="3344760"/>
              <a:ext cx="0" cy="2764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3102120" y="362124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3102120" y="362124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3102120" y="3621240"/>
              <a:ext cx="197784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7058160" y="3344760"/>
              <a:ext cx="0" cy="27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7058160" y="3344760"/>
              <a:ext cx="0" cy="27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7058160" y="3344760"/>
              <a:ext cx="0" cy="2764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3" name=""/>
            <p:cNvSpPr/>
            <p:nvPr/>
          </p:nvSpPr>
          <p:spPr>
            <a:xfrm>
              <a:off x="5079960" y="362124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5079960" y="362124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5" name=""/>
            <p:cNvSpPr/>
            <p:nvPr/>
          </p:nvSpPr>
          <p:spPr>
            <a:xfrm>
              <a:off x="3102120" y="3621240"/>
              <a:ext cx="0" cy="27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3102120" y="3621240"/>
              <a:ext cx="0" cy="27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3102120" y="3621240"/>
              <a:ext cx="0" cy="2761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5079960" y="3621240"/>
              <a:ext cx="0" cy="27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9" name=""/>
            <p:cNvSpPr/>
            <p:nvPr/>
          </p:nvSpPr>
          <p:spPr>
            <a:xfrm>
              <a:off x="5079960" y="3621240"/>
              <a:ext cx="0" cy="27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0" name=""/>
            <p:cNvSpPr/>
            <p:nvPr/>
          </p:nvSpPr>
          <p:spPr>
            <a:xfrm>
              <a:off x="5079960" y="3621240"/>
              <a:ext cx="0" cy="2761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1" name=""/>
            <p:cNvSpPr/>
            <p:nvPr/>
          </p:nvSpPr>
          <p:spPr>
            <a:xfrm>
              <a:off x="3102120" y="389736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2" name=""/>
            <p:cNvSpPr/>
            <p:nvPr/>
          </p:nvSpPr>
          <p:spPr>
            <a:xfrm>
              <a:off x="3102120" y="389736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3" name=""/>
            <p:cNvSpPr/>
            <p:nvPr/>
          </p:nvSpPr>
          <p:spPr>
            <a:xfrm>
              <a:off x="3102120" y="3897360"/>
              <a:ext cx="197784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4" name=""/>
            <p:cNvSpPr/>
            <p:nvPr/>
          </p:nvSpPr>
          <p:spPr>
            <a:xfrm>
              <a:off x="7058160" y="3621240"/>
              <a:ext cx="0" cy="27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5" name=""/>
            <p:cNvSpPr/>
            <p:nvPr/>
          </p:nvSpPr>
          <p:spPr>
            <a:xfrm>
              <a:off x="7058160" y="3621240"/>
              <a:ext cx="0" cy="27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6" name=""/>
            <p:cNvSpPr/>
            <p:nvPr/>
          </p:nvSpPr>
          <p:spPr>
            <a:xfrm>
              <a:off x="7058160" y="3621240"/>
              <a:ext cx="0" cy="2761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7" name=""/>
            <p:cNvSpPr/>
            <p:nvPr/>
          </p:nvSpPr>
          <p:spPr>
            <a:xfrm>
              <a:off x="5079960" y="389736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8" name=""/>
            <p:cNvSpPr/>
            <p:nvPr/>
          </p:nvSpPr>
          <p:spPr>
            <a:xfrm>
              <a:off x="5079960" y="389736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9" name=""/>
            <p:cNvSpPr/>
            <p:nvPr/>
          </p:nvSpPr>
          <p:spPr>
            <a:xfrm>
              <a:off x="3102120" y="3897360"/>
              <a:ext cx="0" cy="29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0" name=""/>
            <p:cNvSpPr/>
            <p:nvPr/>
          </p:nvSpPr>
          <p:spPr>
            <a:xfrm>
              <a:off x="3102120" y="3897360"/>
              <a:ext cx="0" cy="29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1" name=""/>
            <p:cNvSpPr/>
            <p:nvPr/>
          </p:nvSpPr>
          <p:spPr>
            <a:xfrm>
              <a:off x="3102120" y="3897360"/>
              <a:ext cx="0" cy="2984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2" name=""/>
            <p:cNvSpPr/>
            <p:nvPr/>
          </p:nvSpPr>
          <p:spPr>
            <a:xfrm>
              <a:off x="5079960" y="3897360"/>
              <a:ext cx="0" cy="29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3" name=""/>
            <p:cNvSpPr/>
            <p:nvPr/>
          </p:nvSpPr>
          <p:spPr>
            <a:xfrm>
              <a:off x="5079960" y="3897360"/>
              <a:ext cx="0" cy="29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4" name=""/>
            <p:cNvSpPr/>
            <p:nvPr/>
          </p:nvSpPr>
          <p:spPr>
            <a:xfrm>
              <a:off x="5079960" y="3897360"/>
              <a:ext cx="0" cy="2984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5" name=""/>
            <p:cNvSpPr/>
            <p:nvPr/>
          </p:nvSpPr>
          <p:spPr>
            <a:xfrm>
              <a:off x="3102120" y="419580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6" name=""/>
            <p:cNvSpPr/>
            <p:nvPr/>
          </p:nvSpPr>
          <p:spPr>
            <a:xfrm>
              <a:off x="3102120" y="419580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7" name=""/>
            <p:cNvSpPr/>
            <p:nvPr/>
          </p:nvSpPr>
          <p:spPr>
            <a:xfrm>
              <a:off x="3102120" y="4195800"/>
              <a:ext cx="197784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8" name=""/>
            <p:cNvSpPr/>
            <p:nvPr/>
          </p:nvSpPr>
          <p:spPr>
            <a:xfrm>
              <a:off x="7058160" y="3897360"/>
              <a:ext cx="0" cy="29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9" name=""/>
            <p:cNvSpPr/>
            <p:nvPr/>
          </p:nvSpPr>
          <p:spPr>
            <a:xfrm>
              <a:off x="7058160" y="3897360"/>
              <a:ext cx="0" cy="29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0" name=""/>
            <p:cNvSpPr/>
            <p:nvPr/>
          </p:nvSpPr>
          <p:spPr>
            <a:xfrm>
              <a:off x="7058160" y="3897360"/>
              <a:ext cx="0" cy="2984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1" name=""/>
            <p:cNvSpPr/>
            <p:nvPr/>
          </p:nvSpPr>
          <p:spPr>
            <a:xfrm>
              <a:off x="5079960" y="419580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2" name=""/>
            <p:cNvSpPr/>
            <p:nvPr/>
          </p:nvSpPr>
          <p:spPr>
            <a:xfrm>
              <a:off x="5079960" y="419580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3" name=""/>
            <p:cNvSpPr/>
            <p:nvPr/>
          </p:nvSpPr>
          <p:spPr>
            <a:xfrm>
              <a:off x="3102120" y="4195800"/>
              <a:ext cx="0" cy="29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4" name=""/>
            <p:cNvSpPr/>
            <p:nvPr/>
          </p:nvSpPr>
          <p:spPr>
            <a:xfrm>
              <a:off x="3102120" y="4195800"/>
              <a:ext cx="0" cy="29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5" name=""/>
            <p:cNvSpPr/>
            <p:nvPr/>
          </p:nvSpPr>
          <p:spPr>
            <a:xfrm>
              <a:off x="3102120" y="4195800"/>
              <a:ext cx="0" cy="2984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6" name=""/>
            <p:cNvSpPr/>
            <p:nvPr/>
          </p:nvSpPr>
          <p:spPr>
            <a:xfrm>
              <a:off x="5079960" y="4195800"/>
              <a:ext cx="0" cy="29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7" name=""/>
            <p:cNvSpPr/>
            <p:nvPr/>
          </p:nvSpPr>
          <p:spPr>
            <a:xfrm>
              <a:off x="5079960" y="4195800"/>
              <a:ext cx="0" cy="29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8" name=""/>
            <p:cNvSpPr/>
            <p:nvPr/>
          </p:nvSpPr>
          <p:spPr>
            <a:xfrm>
              <a:off x="5079960" y="4195800"/>
              <a:ext cx="0" cy="2984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9" name=""/>
            <p:cNvSpPr/>
            <p:nvPr/>
          </p:nvSpPr>
          <p:spPr>
            <a:xfrm>
              <a:off x="3102120" y="449424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0" name=""/>
            <p:cNvSpPr/>
            <p:nvPr/>
          </p:nvSpPr>
          <p:spPr>
            <a:xfrm>
              <a:off x="3102120" y="449424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1" name=""/>
            <p:cNvSpPr/>
            <p:nvPr/>
          </p:nvSpPr>
          <p:spPr>
            <a:xfrm>
              <a:off x="3102120" y="4494240"/>
              <a:ext cx="197784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2" name=""/>
            <p:cNvSpPr/>
            <p:nvPr/>
          </p:nvSpPr>
          <p:spPr>
            <a:xfrm>
              <a:off x="7058160" y="4195800"/>
              <a:ext cx="0" cy="29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3" name=""/>
            <p:cNvSpPr/>
            <p:nvPr/>
          </p:nvSpPr>
          <p:spPr>
            <a:xfrm>
              <a:off x="7058160" y="4195800"/>
              <a:ext cx="0" cy="29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4" name=""/>
            <p:cNvSpPr/>
            <p:nvPr/>
          </p:nvSpPr>
          <p:spPr>
            <a:xfrm>
              <a:off x="7058160" y="4195800"/>
              <a:ext cx="0" cy="2984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5" name=""/>
            <p:cNvSpPr/>
            <p:nvPr/>
          </p:nvSpPr>
          <p:spPr>
            <a:xfrm>
              <a:off x="5079960" y="449424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6" name=""/>
            <p:cNvSpPr/>
            <p:nvPr/>
          </p:nvSpPr>
          <p:spPr>
            <a:xfrm>
              <a:off x="5079960" y="449424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7" name=""/>
            <p:cNvSpPr/>
            <p:nvPr/>
          </p:nvSpPr>
          <p:spPr>
            <a:xfrm>
              <a:off x="3102120" y="449424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8" name=""/>
            <p:cNvSpPr/>
            <p:nvPr/>
          </p:nvSpPr>
          <p:spPr>
            <a:xfrm>
              <a:off x="3102120" y="449424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9" name=""/>
            <p:cNvSpPr/>
            <p:nvPr/>
          </p:nvSpPr>
          <p:spPr>
            <a:xfrm>
              <a:off x="3102120" y="4494240"/>
              <a:ext cx="0" cy="2635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0" name=""/>
            <p:cNvSpPr/>
            <p:nvPr/>
          </p:nvSpPr>
          <p:spPr>
            <a:xfrm>
              <a:off x="5079960" y="449424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1" name=""/>
            <p:cNvSpPr/>
            <p:nvPr/>
          </p:nvSpPr>
          <p:spPr>
            <a:xfrm>
              <a:off x="5079960" y="449424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2" name=""/>
            <p:cNvSpPr/>
            <p:nvPr/>
          </p:nvSpPr>
          <p:spPr>
            <a:xfrm>
              <a:off x="5079960" y="4494240"/>
              <a:ext cx="0" cy="2635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3" name=""/>
            <p:cNvSpPr/>
            <p:nvPr/>
          </p:nvSpPr>
          <p:spPr>
            <a:xfrm>
              <a:off x="3102120" y="475776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4" name=""/>
            <p:cNvSpPr/>
            <p:nvPr/>
          </p:nvSpPr>
          <p:spPr>
            <a:xfrm>
              <a:off x="3102120" y="475776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5" name=""/>
            <p:cNvSpPr/>
            <p:nvPr/>
          </p:nvSpPr>
          <p:spPr>
            <a:xfrm>
              <a:off x="3102120" y="4757760"/>
              <a:ext cx="197784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6" name=""/>
            <p:cNvSpPr/>
            <p:nvPr/>
          </p:nvSpPr>
          <p:spPr>
            <a:xfrm>
              <a:off x="7058160" y="449424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7" name=""/>
            <p:cNvSpPr/>
            <p:nvPr/>
          </p:nvSpPr>
          <p:spPr>
            <a:xfrm>
              <a:off x="7058160" y="449424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8" name=""/>
            <p:cNvSpPr/>
            <p:nvPr/>
          </p:nvSpPr>
          <p:spPr>
            <a:xfrm>
              <a:off x="7058160" y="4494240"/>
              <a:ext cx="0" cy="2635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9" name=""/>
            <p:cNvSpPr/>
            <p:nvPr/>
          </p:nvSpPr>
          <p:spPr>
            <a:xfrm>
              <a:off x="5079960" y="475776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5079960" y="475776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1" name=""/>
            <p:cNvSpPr/>
            <p:nvPr/>
          </p:nvSpPr>
          <p:spPr>
            <a:xfrm>
              <a:off x="3102120" y="475776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2" name=""/>
            <p:cNvSpPr/>
            <p:nvPr/>
          </p:nvSpPr>
          <p:spPr>
            <a:xfrm>
              <a:off x="3102120" y="475776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3" name=""/>
            <p:cNvSpPr/>
            <p:nvPr/>
          </p:nvSpPr>
          <p:spPr>
            <a:xfrm>
              <a:off x="3102120" y="4757760"/>
              <a:ext cx="0" cy="2872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4" name=""/>
            <p:cNvSpPr/>
            <p:nvPr/>
          </p:nvSpPr>
          <p:spPr>
            <a:xfrm>
              <a:off x="5079960" y="475776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5" name=""/>
            <p:cNvSpPr/>
            <p:nvPr/>
          </p:nvSpPr>
          <p:spPr>
            <a:xfrm>
              <a:off x="5079960" y="475776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6" name=""/>
            <p:cNvSpPr/>
            <p:nvPr/>
          </p:nvSpPr>
          <p:spPr>
            <a:xfrm>
              <a:off x="5079960" y="4757760"/>
              <a:ext cx="0" cy="2872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7" name=""/>
            <p:cNvSpPr/>
            <p:nvPr/>
          </p:nvSpPr>
          <p:spPr>
            <a:xfrm>
              <a:off x="3102120" y="504504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8" name=""/>
            <p:cNvSpPr/>
            <p:nvPr/>
          </p:nvSpPr>
          <p:spPr>
            <a:xfrm>
              <a:off x="3102120" y="504504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9" name=""/>
            <p:cNvSpPr/>
            <p:nvPr/>
          </p:nvSpPr>
          <p:spPr>
            <a:xfrm>
              <a:off x="3102120" y="5045040"/>
              <a:ext cx="197784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0" name=""/>
            <p:cNvSpPr/>
            <p:nvPr/>
          </p:nvSpPr>
          <p:spPr>
            <a:xfrm>
              <a:off x="7058160" y="475776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1" name=""/>
            <p:cNvSpPr/>
            <p:nvPr/>
          </p:nvSpPr>
          <p:spPr>
            <a:xfrm>
              <a:off x="7058160" y="475776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2" name=""/>
            <p:cNvSpPr/>
            <p:nvPr/>
          </p:nvSpPr>
          <p:spPr>
            <a:xfrm>
              <a:off x="7058160" y="4757760"/>
              <a:ext cx="0" cy="2872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3" name=""/>
            <p:cNvSpPr/>
            <p:nvPr/>
          </p:nvSpPr>
          <p:spPr>
            <a:xfrm>
              <a:off x="5079960" y="504504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4" name=""/>
            <p:cNvSpPr/>
            <p:nvPr/>
          </p:nvSpPr>
          <p:spPr>
            <a:xfrm>
              <a:off x="5079960" y="504504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5" name=""/>
            <p:cNvSpPr/>
            <p:nvPr/>
          </p:nvSpPr>
          <p:spPr>
            <a:xfrm>
              <a:off x="3102120" y="5045040"/>
              <a:ext cx="0" cy="27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3102120" y="5045040"/>
              <a:ext cx="0" cy="27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3102120" y="5045040"/>
              <a:ext cx="0" cy="2761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8" name=""/>
            <p:cNvSpPr/>
            <p:nvPr/>
          </p:nvSpPr>
          <p:spPr>
            <a:xfrm>
              <a:off x="5079960" y="5045040"/>
              <a:ext cx="0" cy="27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9" name=""/>
            <p:cNvSpPr/>
            <p:nvPr/>
          </p:nvSpPr>
          <p:spPr>
            <a:xfrm>
              <a:off x="5079960" y="5045040"/>
              <a:ext cx="0" cy="27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0" name=""/>
            <p:cNvSpPr/>
            <p:nvPr/>
          </p:nvSpPr>
          <p:spPr>
            <a:xfrm>
              <a:off x="5079960" y="5045040"/>
              <a:ext cx="0" cy="2761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1" name=""/>
            <p:cNvSpPr/>
            <p:nvPr/>
          </p:nvSpPr>
          <p:spPr>
            <a:xfrm>
              <a:off x="3102120" y="532116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2" name=""/>
            <p:cNvSpPr/>
            <p:nvPr/>
          </p:nvSpPr>
          <p:spPr>
            <a:xfrm>
              <a:off x="3102120" y="532116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3" name=""/>
            <p:cNvSpPr/>
            <p:nvPr/>
          </p:nvSpPr>
          <p:spPr>
            <a:xfrm>
              <a:off x="3102120" y="5321160"/>
              <a:ext cx="197784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4" name=""/>
            <p:cNvSpPr/>
            <p:nvPr/>
          </p:nvSpPr>
          <p:spPr>
            <a:xfrm>
              <a:off x="7058160" y="5045040"/>
              <a:ext cx="0" cy="27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5" name=""/>
            <p:cNvSpPr/>
            <p:nvPr/>
          </p:nvSpPr>
          <p:spPr>
            <a:xfrm>
              <a:off x="7058160" y="5045040"/>
              <a:ext cx="0" cy="27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7058160" y="5045040"/>
              <a:ext cx="0" cy="2761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7" name=""/>
            <p:cNvSpPr/>
            <p:nvPr/>
          </p:nvSpPr>
          <p:spPr>
            <a:xfrm>
              <a:off x="5079960" y="532116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5079960" y="532116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9" name=""/>
            <p:cNvSpPr/>
            <p:nvPr/>
          </p:nvSpPr>
          <p:spPr>
            <a:xfrm>
              <a:off x="3102120" y="5321160"/>
              <a:ext cx="0" cy="29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0" name=""/>
            <p:cNvSpPr/>
            <p:nvPr/>
          </p:nvSpPr>
          <p:spPr>
            <a:xfrm>
              <a:off x="3102120" y="5321160"/>
              <a:ext cx="0" cy="29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3102120" y="5321160"/>
              <a:ext cx="0" cy="2984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5079960" y="5321160"/>
              <a:ext cx="0" cy="29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3" name=""/>
            <p:cNvSpPr/>
            <p:nvPr/>
          </p:nvSpPr>
          <p:spPr>
            <a:xfrm>
              <a:off x="5079960" y="5321160"/>
              <a:ext cx="0" cy="29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4" name=""/>
            <p:cNvSpPr/>
            <p:nvPr/>
          </p:nvSpPr>
          <p:spPr>
            <a:xfrm>
              <a:off x="5079960" y="5321160"/>
              <a:ext cx="0" cy="2984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5" name=""/>
            <p:cNvSpPr/>
            <p:nvPr/>
          </p:nvSpPr>
          <p:spPr>
            <a:xfrm>
              <a:off x="3102120" y="561960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6" name=""/>
            <p:cNvSpPr/>
            <p:nvPr/>
          </p:nvSpPr>
          <p:spPr>
            <a:xfrm>
              <a:off x="3102120" y="561960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7" name=""/>
            <p:cNvSpPr/>
            <p:nvPr/>
          </p:nvSpPr>
          <p:spPr>
            <a:xfrm>
              <a:off x="3102120" y="5619600"/>
              <a:ext cx="197784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8" name=""/>
            <p:cNvSpPr/>
            <p:nvPr/>
          </p:nvSpPr>
          <p:spPr>
            <a:xfrm>
              <a:off x="7058160" y="5321160"/>
              <a:ext cx="0" cy="29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7058160" y="5321160"/>
              <a:ext cx="0" cy="29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7058160" y="5321160"/>
              <a:ext cx="0" cy="2984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5079960" y="561960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5079960" y="561960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3102120" y="5619600"/>
              <a:ext cx="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3102120" y="5619600"/>
              <a:ext cx="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5" name=""/>
            <p:cNvSpPr/>
            <p:nvPr/>
          </p:nvSpPr>
          <p:spPr>
            <a:xfrm>
              <a:off x="3102120" y="5619600"/>
              <a:ext cx="0" cy="3333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6" name=""/>
            <p:cNvSpPr/>
            <p:nvPr/>
          </p:nvSpPr>
          <p:spPr>
            <a:xfrm>
              <a:off x="5079960" y="5619600"/>
              <a:ext cx="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5079960" y="5619600"/>
              <a:ext cx="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8" name=""/>
            <p:cNvSpPr/>
            <p:nvPr/>
          </p:nvSpPr>
          <p:spPr>
            <a:xfrm>
              <a:off x="5079960" y="5619600"/>
              <a:ext cx="0" cy="3333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9" name=""/>
            <p:cNvSpPr/>
            <p:nvPr/>
          </p:nvSpPr>
          <p:spPr>
            <a:xfrm>
              <a:off x="3102120" y="595296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0" name=""/>
            <p:cNvSpPr/>
            <p:nvPr/>
          </p:nvSpPr>
          <p:spPr>
            <a:xfrm>
              <a:off x="3102120" y="595296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1" name=""/>
            <p:cNvSpPr/>
            <p:nvPr/>
          </p:nvSpPr>
          <p:spPr>
            <a:xfrm>
              <a:off x="3102120" y="5952960"/>
              <a:ext cx="197784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2" name=""/>
            <p:cNvSpPr/>
            <p:nvPr/>
          </p:nvSpPr>
          <p:spPr>
            <a:xfrm>
              <a:off x="7058160" y="5619600"/>
              <a:ext cx="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3" name=""/>
            <p:cNvSpPr/>
            <p:nvPr/>
          </p:nvSpPr>
          <p:spPr>
            <a:xfrm>
              <a:off x="7058160" y="5619600"/>
              <a:ext cx="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4" name=""/>
            <p:cNvSpPr/>
            <p:nvPr/>
          </p:nvSpPr>
          <p:spPr>
            <a:xfrm>
              <a:off x="7058160" y="5619600"/>
              <a:ext cx="0" cy="3333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5" name=""/>
            <p:cNvSpPr/>
            <p:nvPr/>
          </p:nvSpPr>
          <p:spPr>
            <a:xfrm>
              <a:off x="5079960" y="595296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6" name=""/>
            <p:cNvSpPr/>
            <p:nvPr/>
          </p:nvSpPr>
          <p:spPr>
            <a:xfrm>
              <a:off x="5079960" y="595296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7" name=""/>
            <p:cNvSpPr/>
            <p:nvPr/>
          </p:nvSpPr>
          <p:spPr>
            <a:xfrm>
              <a:off x="3102120" y="5952960"/>
              <a:ext cx="0" cy="35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8" name=""/>
            <p:cNvSpPr/>
            <p:nvPr/>
          </p:nvSpPr>
          <p:spPr>
            <a:xfrm>
              <a:off x="3102120" y="5952960"/>
              <a:ext cx="0" cy="35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9" name=""/>
            <p:cNvSpPr/>
            <p:nvPr/>
          </p:nvSpPr>
          <p:spPr>
            <a:xfrm>
              <a:off x="3102120" y="5952960"/>
              <a:ext cx="0" cy="3556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0" name=""/>
            <p:cNvSpPr/>
            <p:nvPr/>
          </p:nvSpPr>
          <p:spPr>
            <a:xfrm>
              <a:off x="5079960" y="5952960"/>
              <a:ext cx="0" cy="35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1" name=""/>
            <p:cNvSpPr/>
            <p:nvPr/>
          </p:nvSpPr>
          <p:spPr>
            <a:xfrm>
              <a:off x="5079960" y="5952960"/>
              <a:ext cx="0" cy="35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2" name=""/>
            <p:cNvSpPr/>
            <p:nvPr/>
          </p:nvSpPr>
          <p:spPr>
            <a:xfrm>
              <a:off x="5079960" y="5952960"/>
              <a:ext cx="0" cy="3556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3" name=""/>
            <p:cNvSpPr/>
            <p:nvPr/>
          </p:nvSpPr>
          <p:spPr>
            <a:xfrm>
              <a:off x="3102120" y="630864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4" name=""/>
            <p:cNvSpPr/>
            <p:nvPr/>
          </p:nvSpPr>
          <p:spPr>
            <a:xfrm>
              <a:off x="3102120" y="630864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5" name=""/>
            <p:cNvSpPr/>
            <p:nvPr/>
          </p:nvSpPr>
          <p:spPr>
            <a:xfrm>
              <a:off x="3102120" y="6308640"/>
              <a:ext cx="197784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6" name=""/>
            <p:cNvSpPr/>
            <p:nvPr/>
          </p:nvSpPr>
          <p:spPr>
            <a:xfrm>
              <a:off x="7058160" y="5952960"/>
              <a:ext cx="0" cy="35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7" name=""/>
            <p:cNvSpPr/>
            <p:nvPr/>
          </p:nvSpPr>
          <p:spPr>
            <a:xfrm>
              <a:off x="7058160" y="5952960"/>
              <a:ext cx="0" cy="35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8" name=""/>
            <p:cNvSpPr/>
            <p:nvPr/>
          </p:nvSpPr>
          <p:spPr>
            <a:xfrm>
              <a:off x="7058160" y="5952960"/>
              <a:ext cx="0" cy="3556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9" name=""/>
            <p:cNvSpPr/>
            <p:nvPr/>
          </p:nvSpPr>
          <p:spPr>
            <a:xfrm>
              <a:off x="5079960" y="630864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0" name=""/>
            <p:cNvSpPr/>
            <p:nvPr/>
          </p:nvSpPr>
          <p:spPr>
            <a:xfrm>
              <a:off x="5079960" y="630864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1" name=""/>
            <p:cNvSpPr/>
            <p:nvPr/>
          </p:nvSpPr>
          <p:spPr>
            <a:xfrm>
              <a:off x="3102120" y="6308640"/>
              <a:ext cx="0" cy="32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2" name=""/>
            <p:cNvSpPr/>
            <p:nvPr/>
          </p:nvSpPr>
          <p:spPr>
            <a:xfrm>
              <a:off x="3102120" y="6308640"/>
              <a:ext cx="0" cy="32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3" name=""/>
            <p:cNvSpPr/>
            <p:nvPr/>
          </p:nvSpPr>
          <p:spPr>
            <a:xfrm>
              <a:off x="3102120" y="6308640"/>
              <a:ext cx="0" cy="3222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4" name=""/>
            <p:cNvSpPr/>
            <p:nvPr/>
          </p:nvSpPr>
          <p:spPr>
            <a:xfrm>
              <a:off x="5079960" y="6308640"/>
              <a:ext cx="0" cy="32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5" name=""/>
            <p:cNvSpPr/>
            <p:nvPr/>
          </p:nvSpPr>
          <p:spPr>
            <a:xfrm>
              <a:off x="5079960" y="6308640"/>
              <a:ext cx="0" cy="32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6" name=""/>
            <p:cNvSpPr/>
            <p:nvPr/>
          </p:nvSpPr>
          <p:spPr>
            <a:xfrm>
              <a:off x="5079960" y="6308640"/>
              <a:ext cx="0" cy="3222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7" name=""/>
            <p:cNvSpPr/>
            <p:nvPr/>
          </p:nvSpPr>
          <p:spPr>
            <a:xfrm>
              <a:off x="3102120" y="663084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8" name=""/>
            <p:cNvSpPr/>
            <p:nvPr/>
          </p:nvSpPr>
          <p:spPr>
            <a:xfrm>
              <a:off x="3102120" y="663084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9" name=""/>
            <p:cNvSpPr/>
            <p:nvPr/>
          </p:nvSpPr>
          <p:spPr>
            <a:xfrm>
              <a:off x="3102120" y="6630840"/>
              <a:ext cx="197784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0" name=""/>
            <p:cNvSpPr/>
            <p:nvPr/>
          </p:nvSpPr>
          <p:spPr>
            <a:xfrm>
              <a:off x="7058160" y="6308640"/>
              <a:ext cx="0" cy="32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1" name=""/>
            <p:cNvSpPr/>
            <p:nvPr/>
          </p:nvSpPr>
          <p:spPr>
            <a:xfrm>
              <a:off x="7058160" y="6308640"/>
              <a:ext cx="0" cy="32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2" name=""/>
            <p:cNvSpPr/>
            <p:nvPr/>
          </p:nvSpPr>
          <p:spPr>
            <a:xfrm>
              <a:off x="7058160" y="6308640"/>
              <a:ext cx="0" cy="3222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3" name=""/>
            <p:cNvSpPr/>
            <p:nvPr/>
          </p:nvSpPr>
          <p:spPr>
            <a:xfrm>
              <a:off x="5079960" y="663084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4" name=""/>
            <p:cNvSpPr/>
            <p:nvPr/>
          </p:nvSpPr>
          <p:spPr>
            <a:xfrm>
              <a:off x="5079960" y="663084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5" name=""/>
            <p:cNvSpPr/>
            <p:nvPr/>
          </p:nvSpPr>
          <p:spPr>
            <a:xfrm>
              <a:off x="3102120" y="6630840"/>
              <a:ext cx="0" cy="34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6" name=""/>
            <p:cNvSpPr/>
            <p:nvPr/>
          </p:nvSpPr>
          <p:spPr>
            <a:xfrm>
              <a:off x="3102120" y="6630840"/>
              <a:ext cx="0" cy="34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7" name=""/>
            <p:cNvSpPr/>
            <p:nvPr/>
          </p:nvSpPr>
          <p:spPr>
            <a:xfrm>
              <a:off x="3102120" y="6630840"/>
              <a:ext cx="0" cy="3445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8" name=""/>
            <p:cNvSpPr/>
            <p:nvPr/>
          </p:nvSpPr>
          <p:spPr>
            <a:xfrm>
              <a:off x="5079960" y="6630840"/>
              <a:ext cx="0" cy="34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5079960" y="6630840"/>
              <a:ext cx="0" cy="34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0" name=""/>
            <p:cNvSpPr/>
            <p:nvPr/>
          </p:nvSpPr>
          <p:spPr>
            <a:xfrm>
              <a:off x="5079960" y="6630840"/>
              <a:ext cx="0" cy="3445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1" name=""/>
            <p:cNvSpPr/>
            <p:nvPr/>
          </p:nvSpPr>
          <p:spPr>
            <a:xfrm>
              <a:off x="3102120" y="697536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2" name=""/>
            <p:cNvSpPr/>
            <p:nvPr/>
          </p:nvSpPr>
          <p:spPr>
            <a:xfrm>
              <a:off x="3102120" y="697536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3" name=""/>
            <p:cNvSpPr/>
            <p:nvPr/>
          </p:nvSpPr>
          <p:spPr>
            <a:xfrm>
              <a:off x="3102120" y="6975360"/>
              <a:ext cx="197784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4" name=""/>
            <p:cNvSpPr/>
            <p:nvPr/>
          </p:nvSpPr>
          <p:spPr>
            <a:xfrm>
              <a:off x="7058160" y="6630840"/>
              <a:ext cx="0" cy="34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5" name=""/>
            <p:cNvSpPr/>
            <p:nvPr/>
          </p:nvSpPr>
          <p:spPr>
            <a:xfrm>
              <a:off x="7058160" y="6630840"/>
              <a:ext cx="0" cy="34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6" name=""/>
            <p:cNvSpPr/>
            <p:nvPr/>
          </p:nvSpPr>
          <p:spPr>
            <a:xfrm>
              <a:off x="7058160" y="6630840"/>
              <a:ext cx="0" cy="3445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7" name=""/>
            <p:cNvSpPr/>
            <p:nvPr/>
          </p:nvSpPr>
          <p:spPr>
            <a:xfrm>
              <a:off x="5079960" y="697536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8" name=""/>
            <p:cNvSpPr/>
            <p:nvPr/>
          </p:nvSpPr>
          <p:spPr>
            <a:xfrm>
              <a:off x="5079960" y="697536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9" name=""/>
            <p:cNvSpPr/>
            <p:nvPr/>
          </p:nvSpPr>
          <p:spPr>
            <a:xfrm>
              <a:off x="3102120" y="6975360"/>
              <a:ext cx="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0" name=""/>
            <p:cNvSpPr/>
            <p:nvPr/>
          </p:nvSpPr>
          <p:spPr>
            <a:xfrm>
              <a:off x="3102120" y="6975360"/>
              <a:ext cx="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1" name=""/>
            <p:cNvSpPr/>
            <p:nvPr/>
          </p:nvSpPr>
          <p:spPr>
            <a:xfrm>
              <a:off x="3102120" y="6975360"/>
              <a:ext cx="0" cy="3333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2" name=""/>
            <p:cNvSpPr/>
            <p:nvPr/>
          </p:nvSpPr>
          <p:spPr>
            <a:xfrm>
              <a:off x="5079960" y="6975360"/>
              <a:ext cx="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3" name=""/>
            <p:cNvSpPr/>
            <p:nvPr/>
          </p:nvSpPr>
          <p:spPr>
            <a:xfrm>
              <a:off x="5079960" y="6975360"/>
              <a:ext cx="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4" name=""/>
            <p:cNvSpPr/>
            <p:nvPr/>
          </p:nvSpPr>
          <p:spPr>
            <a:xfrm>
              <a:off x="5079960" y="6975360"/>
              <a:ext cx="0" cy="3333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5" name=""/>
            <p:cNvSpPr/>
            <p:nvPr/>
          </p:nvSpPr>
          <p:spPr>
            <a:xfrm>
              <a:off x="3102120" y="730872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6" name=""/>
            <p:cNvSpPr/>
            <p:nvPr/>
          </p:nvSpPr>
          <p:spPr>
            <a:xfrm>
              <a:off x="3102120" y="730872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3102120" y="7308720"/>
              <a:ext cx="197784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8" name=""/>
            <p:cNvSpPr/>
            <p:nvPr/>
          </p:nvSpPr>
          <p:spPr>
            <a:xfrm>
              <a:off x="7058160" y="6975360"/>
              <a:ext cx="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9" name=""/>
            <p:cNvSpPr/>
            <p:nvPr/>
          </p:nvSpPr>
          <p:spPr>
            <a:xfrm>
              <a:off x="7058160" y="6975360"/>
              <a:ext cx="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0" name=""/>
            <p:cNvSpPr/>
            <p:nvPr/>
          </p:nvSpPr>
          <p:spPr>
            <a:xfrm>
              <a:off x="7058160" y="6975360"/>
              <a:ext cx="0" cy="3333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1" name=""/>
            <p:cNvSpPr/>
            <p:nvPr/>
          </p:nvSpPr>
          <p:spPr>
            <a:xfrm>
              <a:off x="5079960" y="730872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2" name=""/>
            <p:cNvSpPr/>
            <p:nvPr/>
          </p:nvSpPr>
          <p:spPr>
            <a:xfrm>
              <a:off x="5079960" y="730872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3" name=""/>
            <p:cNvSpPr/>
            <p:nvPr/>
          </p:nvSpPr>
          <p:spPr>
            <a:xfrm>
              <a:off x="3102120" y="7308720"/>
              <a:ext cx="0" cy="35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4" name=""/>
            <p:cNvSpPr/>
            <p:nvPr/>
          </p:nvSpPr>
          <p:spPr>
            <a:xfrm>
              <a:off x="3102120" y="7308720"/>
              <a:ext cx="0" cy="35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5" name=""/>
            <p:cNvSpPr/>
            <p:nvPr/>
          </p:nvSpPr>
          <p:spPr>
            <a:xfrm>
              <a:off x="3102120" y="7308720"/>
              <a:ext cx="0" cy="3556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6" name=""/>
            <p:cNvSpPr/>
            <p:nvPr/>
          </p:nvSpPr>
          <p:spPr>
            <a:xfrm>
              <a:off x="5079960" y="7308720"/>
              <a:ext cx="0" cy="35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7" name=""/>
            <p:cNvSpPr/>
            <p:nvPr/>
          </p:nvSpPr>
          <p:spPr>
            <a:xfrm>
              <a:off x="5079960" y="7308720"/>
              <a:ext cx="0" cy="35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8" name=""/>
            <p:cNvSpPr/>
            <p:nvPr/>
          </p:nvSpPr>
          <p:spPr>
            <a:xfrm>
              <a:off x="5079960" y="7308720"/>
              <a:ext cx="0" cy="3556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9" name=""/>
            <p:cNvSpPr/>
            <p:nvPr/>
          </p:nvSpPr>
          <p:spPr>
            <a:xfrm>
              <a:off x="3102120" y="766440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0" name=""/>
            <p:cNvSpPr/>
            <p:nvPr/>
          </p:nvSpPr>
          <p:spPr>
            <a:xfrm>
              <a:off x="3102120" y="766440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3102120" y="7664400"/>
              <a:ext cx="197784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2" name=""/>
            <p:cNvSpPr/>
            <p:nvPr/>
          </p:nvSpPr>
          <p:spPr>
            <a:xfrm>
              <a:off x="7058160" y="7308720"/>
              <a:ext cx="0" cy="35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3" name=""/>
            <p:cNvSpPr/>
            <p:nvPr/>
          </p:nvSpPr>
          <p:spPr>
            <a:xfrm>
              <a:off x="7058160" y="7308720"/>
              <a:ext cx="0" cy="35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4" name=""/>
            <p:cNvSpPr/>
            <p:nvPr/>
          </p:nvSpPr>
          <p:spPr>
            <a:xfrm>
              <a:off x="7058160" y="7308720"/>
              <a:ext cx="0" cy="3556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5079960" y="766440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6" name=""/>
            <p:cNvSpPr/>
            <p:nvPr/>
          </p:nvSpPr>
          <p:spPr>
            <a:xfrm>
              <a:off x="5079960" y="766440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7" name=""/>
            <p:cNvSpPr/>
            <p:nvPr/>
          </p:nvSpPr>
          <p:spPr>
            <a:xfrm>
              <a:off x="3102120" y="7664400"/>
              <a:ext cx="0" cy="34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8" name=""/>
            <p:cNvSpPr/>
            <p:nvPr/>
          </p:nvSpPr>
          <p:spPr>
            <a:xfrm>
              <a:off x="3102120" y="7664400"/>
              <a:ext cx="0" cy="34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9" name=""/>
            <p:cNvSpPr/>
            <p:nvPr/>
          </p:nvSpPr>
          <p:spPr>
            <a:xfrm>
              <a:off x="3102120" y="7664400"/>
              <a:ext cx="0" cy="3445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0" name=""/>
            <p:cNvSpPr/>
            <p:nvPr/>
          </p:nvSpPr>
          <p:spPr>
            <a:xfrm>
              <a:off x="5079960" y="7664400"/>
              <a:ext cx="0" cy="34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5079960" y="7664400"/>
              <a:ext cx="0" cy="34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5079960" y="7664400"/>
              <a:ext cx="0" cy="3445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3102120" y="800892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3102120" y="800892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3102120" y="8008920"/>
              <a:ext cx="197784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7058160" y="7664400"/>
              <a:ext cx="0" cy="34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7058160" y="7664400"/>
              <a:ext cx="0" cy="34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8" name=""/>
            <p:cNvSpPr/>
            <p:nvPr/>
          </p:nvSpPr>
          <p:spPr>
            <a:xfrm>
              <a:off x="7058160" y="7664400"/>
              <a:ext cx="0" cy="3445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9" name=""/>
            <p:cNvSpPr/>
            <p:nvPr/>
          </p:nvSpPr>
          <p:spPr>
            <a:xfrm>
              <a:off x="5079960" y="800892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5079960" y="800892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1" name=""/>
            <p:cNvSpPr/>
            <p:nvPr/>
          </p:nvSpPr>
          <p:spPr>
            <a:xfrm>
              <a:off x="3102120" y="8008920"/>
              <a:ext cx="0" cy="32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2" name=""/>
            <p:cNvSpPr/>
            <p:nvPr/>
          </p:nvSpPr>
          <p:spPr>
            <a:xfrm>
              <a:off x="3102120" y="8008920"/>
              <a:ext cx="0" cy="32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5079960" y="8008920"/>
              <a:ext cx="0" cy="32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4" name=""/>
            <p:cNvSpPr/>
            <p:nvPr/>
          </p:nvSpPr>
          <p:spPr>
            <a:xfrm>
              <a:off x="5079960" y="8008920"/>
              <a:ext cx="0" cy="32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3102120" y="833112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3102120" y="833112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7" name=""/>
            <p:cNvSpPr/>
            <p:nvPr/>
          </p:nvSpPr>
          <p:spPr>
            <a:xfrm>
              <a:off x="3102120" y="8331120"/>
              <a:ext cx="197784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7058160" y="8008920"/>
              <a:ext cx="0" cy="32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7058160" y="8008920"/>
              <a:ext cx="0" cy="32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0" name=""/>
            <p:cNvSpPr/>
            <p:nvPr/>
          </p:nvSpPr>
          <p:spPr>
            <a:xfrm>
              <a:off x="5079960" y="833112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5079960" y="833112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52" name="" descr=""/>
          <p:cNvPicPr/>
          <p:nvPr/>
        </p:nvPicPr>
        <p:blipFill>
          <a:blip r:embed="rId1"/>
          <a:stretch/>
        </p:blipFill>
        <p:spPr>
          <a:xfrm>
            <a:off x="5079960" y="914400"/>
            <a:ext cx="4802400" cy="4695840"/>
          </a:xfrm>
          <a:prstGeom prst="rect">
            <a:avLst/>
          </a:prstGeom>
          <a:ln w="0">
            <a:noFill/>
          </a:ln>
        </p:spPr>
      </p:pic>
      <p:sp>
        <p:nvSpPr>
          <p:cNvPr id="3553" name=""/>
          <p:cNvSpPr/>
          <p:nvPr/>
        </p:nvSpPr>
        <p:spPr>
          <a:xfrm>
            <a:off x="5734080" y="5587920"/>
            <a:ext cx="362412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ich strings does this FSM accept, generally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our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55" name=""/>
          <p:cNvGrpSpPr/>
          <p:nvPr/>
        </p:nvGrpSpPr>
        <p:grpSpPr>
          <a:xfrm>
            <a:off x="3102120" y="2436840"/>
            <a:ext cx="3956040" cy="5945040"/>
            <a:chOff x="3102120" y="2436840"/>
            <a:chExt cx="3956040" cy="5945040"/>
          </a:xfrm>
        </p:grpSpPr>
        <p:sp>
          <p:nvSpPr>
            <p:cNvPr id="3556" name=""/>
            <p:cNvSpPr/>
            <p:nvPr/>
          </p:nvSpPr>
          <p:spPr>
            <a:xfrm>
              <a:off x="3102120" y="2436840"/>
              <a:ext cx="19778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7" name=""/>
            <p:cNvSpPr/>
            <p:nvPr/>
          </p:nvSpPr>
          <p:spPr>
            <a:xfrm>
              <a:off x="5079960" y="2436840"/>
              <a:ext cx="19782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ccepted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8" name=""/>
            <p:cNvSpPr/>
            <p:nvPr/>
          </p:nvSpPr>
          <p:spPr>
            <a:xfrm>
              <a:off x="3102120" y="2732040"/>
              <a:ext cx="197784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9" name=""/>
            <p:cNvSpPr/>
            <p:nvPr/>
          </p:nvSpPr>
          <p:spPr>
            <a:xfrm>
              <a:off x="5079960" y="2732040"/>
              <a:ext cx="197820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0" name=""/>
            <p:cNvSpPr/>
            <p:nvPr/>
          </p:nvSpPr>
          <p:spPr>
            <a:xfrm>
              <a:off x="3102120" y="3040200"/>
              <a:ext cx="19778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5079960" y="3040200"/>
              <a:ext cx="19782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2" name=""/>
            <p:cNvSpPr/>
            <p:nvPr/>
          </p:nvSpPr>
          <p:spPr>
            <a:xfrm>
              <a:off x="3102120" y="3348000"/>
              <a:ext cx="197784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3" name=""/>
            <p:cNvSpPr/>
            <p:nvPr/>
          </p:nvSpPr>
          <p:spPr>
            <a:xfrm>
              <a:off x="5079960" y="3348000"/>
              <a:ext cx="197820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4" name=""/>
            <p:cNvSpPr/>
            <p:nvPr/>
          </p:nvSpPr>
          <p:spPr>
            <a:xfrm>
              <a:off x="3102120" y="3656160"/>
              <a:ext cx="197784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5" name=""/>
            <p:cNvSpPr/>
            <p:nvPr/>
          </p:nvSpPr>
          <p:spPr>
            <a:xfrm>
              <a:off x="5079960" y="3656160"/>
              <a:ext cx="197820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6" name=""/>
            <p:cNvSpPr/>
            <p:nvPr/>
          </p:nvSpPr>
          <p:spPr>
            <a:xfrm>
              <a:off x="3102120" y="3938760"/>
              <a:ext cx="19778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5079960" y="3938760"/>
              <a:ext cx="19782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8" name=""/>
            <p:cNvSpPr/>
            <p:nvPr/>
          </p:nvSpPr>
          <p:spPr>
            <a:xfrm>
              <a:off x="3102120" y="4233960"/>
              <a:ext cx="197784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9" name=""/>
            <p:cNvSpPr/>
            <p:nvPr/>
          </p:nvSpPr>
          <p:spPr>
            <a:xfrm>
              <a:off x="5079960" y="4233960"/>
              <a:ext cx="197820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0" name=""/>
            <p:cNvSpPr/>
            <p:nvPr/>
          </p:nvSpPr>
          <p:spPr>
            <a:xfrm>
              <a:off x="3102120" y="4516560"/>
              <a:ext cx="197784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1" name=""/>
            <p:cNvSpPr/>
            <p:nvPr/>
          </p:nvSpPr>
          <p:spPr>
            <a:xfrm>
              <a:off x="5079960" y="4516560"/>
              <a:ext cx="197820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2" name=""/>
            <p:cNvSpPr/>
            <p:nvPr/>
          </p:nvSpPr>
          <p:spPr>
            <a:xfrm>
              <a:off x="3102120" y="4799160"/>
              <a:ext cx="197784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3" name=""/>
            <p:cNvSpPr/>
            <p:nvPr/>
          </p:nvSpPr>
          <p:spPr>
            <a:xfrm>
              <a:off x="5079960" y="4799160"/>
              <a:ext cx="197820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4" name=""/>
            <p:cNvSpPr/>
            <p:nvPr/>
          </p:nvSpPr>
          <p:spPr>
            <a:xfrm>
              <a:off x="3102120" y="5081760"/>
              <a:ext cx="19778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5" name=""/>
            <p:cNvSpPr/>
            <p:nvPr/>
          </p:nvSpPr>
          <p:spPr>
            <a:xfrm>
              <a:off x="5079960" y="5081760"/>
              <a:ext cx="19782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6" name=""/>
            <p:cNvSpPr/>
            <p:nvPr/>
          </p:nvSpPr>
          <p:spPr>
            <a:xfrm>
              <a:off x="3102120" y="5376960"/>
              <a:ext cx="197784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7" name=""/>
            <p:cNvSpPr/>
            <p:nvPr/>
          </p:nvSpPr>
          <p:spPr>
            <a:xfrm>
              <a:off x="5079960" y="5376960"/>
              <a:ext cx="197820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3102120" y="5659560"/>
              <a:ext cx="197784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5079960" y="5659560"/>
              <a:ext cx="197820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0" name=""/>
            <p:cNvSpPr/>
            <p:nvPr/>
          </p:nvSpPr>
          <p:spPr>
            <a:xfrm>
              <a:off x="3102120" y="6008760"/>
              <a:ext cx="197784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5079960" y="6008760"/>
              <a:ext cx="19782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3102120" y="6343560"/>
              <a:ext cx="19778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5079960" y="6343560"/>
              <a:ext cx="19782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4" name=""/>
            <p:cNvSpPr/>
            <p:nvPr/>
          </p:nvSpPr>
          <p:spPr>
            <a:xfrm>
              <a:off x="3102120" y="6678720"/>
              <a:ext cx="197784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1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5079960" y="6678720"/>
              <a:ext cx="197820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3102120" y="7027920"/>
              <a:ext cx="197784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7" name=""/>
            <p:cNvSpPr/>
            <p:nvPr/>
          </p:nvSpPr>
          <p:spPr>
            <a:xfrm>
              <a:off x="5079960" y="7027920"/>
              <a:ext cx="19782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3102120" y="7362720"/>
              <a:ext cx="19778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5079960" y="7362720"/>
              <a:ext cx="19782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0" name=""/>
            <p:cNvSpPr/>
            <p:nvPr/>
          </p:nvSpPr>
          <p:spPr>
            <a:xfrm>
              <a:off x="3102120" y="7697880"/>
              <a:ext cx="197784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1" name=""/>
            <p:cNvSpPr/>
            <p:nvPr/>
          </p:nvSpPr>
          <p:spPr>
            <a:xfrm>
              <a:off x="5079960" y="7697880"/>
              <a:ext cx="197820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2" name=""/>
            <p:cNvSpPr/>
            <p:nvPr/>
          </p:nvSpPr>
          <p:spPr>
            <a:xfrm>
              <a:off x="3102120" y="8047080"/>
              <a:ext cx="197784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1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3" name=""/>
            <p:cNvSpPr/>
            <p:nvPr/>
          </p:nvSpPr>
          <p:spPr>
            <a:xfrm>
              <a:off x="5079960" y="8047080"/>
              <a:ext cx="19782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5079960" y="2436840"/>
              <a:ext cx="19782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5" name=""/>
            <p:cNvSpPr/>
            <p:nvPr/>
          </p:nvSpPr>
          <p:spPr>
            <a:xfrm>
              <a:off x="5079960" y="2732040"/>
              <a:ext cx="19782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6" name=""/>
            <p:cNvSpPr/>
            <p:nvPr/>
          </p:nvSpPr>
          <p:spPr>
            <a:xfrm>
              <a:off x="5079960" y="3040200"/>
              <a:ext cx="19782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5079960" y="3348000"/>
              <a:ext cx="19782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8" name=""/>
            <p:cNvSpPr/>
            <p:nvPr/>
          </p:nvSpPr>
          <p:spPr>
            <a:xfrm>
              <a:off x="5079960" y="3656160"/>
              <a:ext cx="19782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9" name=""/>
            <p:cNvSpPr/>
            <p:nvPr/>
          </p:nvSpPr>
          <p:spPr>
            <a:xfrm>
              <a:off x="5079960" y="3938760"/>
              <a:ext cx="19782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5079960" y="4233960"/>
              <a:ext cx="19782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1" name=""/>
            <p:cNvSpPr/>
            <p:nvPr/>
          </p:nvSpPr>
          <p:spPr>
            <a:xfrm>
              <a:off x="5079960" y="4516560"/>
              <a:ext cx="19782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2" name=""/>
            <p:cNvSpPr/>
            <p:nvPr/>
          </p:nvSpPr>
          <p:spPr>
            <a:xfrm>
              <a:off x="5079960" y="4799160"/>
              <a:ext cx="19782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3" name=""/>
            <p:cNvSpPr/>
            <p:nvPr/>
          </p:nvSpPr>
          <p:spPr>
            <a:xfrm>
              <a:off x="5079960" y="5081760"/>
              <a:ext cx="19782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4" name=""/>
            <p:cNvSpPr/>
            <p:nvPr/>
          </p:nvSpPr>
          <p:spPr>
            <a:xfrm>
              <a:off x="5079960" y="5376960"/>
              <a:ext cx="19782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5" name=""/>
            <p:cNvSpPr/>
            <p:nvPr/>
          </p:nvSpPr>
          <p:spPr>
            <a:xfrm>
              <a:off x="5079960" y="5659560"/>
              <a:ext cx="19782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6" name=""/>
            <p:cNvSpPr/>
            <p:nvPr/>
          </p:nvSpPr>
          <p:spPr>
            <a:xfrm>
              <a:off x="5079960" y="6008760"/>
              <a:ext cx="19782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7" name=""/>
            <p:cNvSpPr/>
            <p:nvPr/>
          </p:nvSpPr>
          <p:spPr>
            <a:xfrm>
              <a:off x="5079960" y="6343560"/>
              <a:ext cx="19782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8" name=""/>
            <p:cNvSpPr/>
            <p:nvPr/>
          </p:nvSpPr>
          <p:spPr>
            <a:xfrm>
              <a:off x="5079960" y="6678720"/>
              <a:ext cx="19782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9" name=""/>
            <p:cNvSpPr/>
            <p:nvPr/>
          </p:nvSpPr>
          <p:spPr>
            <a:xfrm>
              <a:off x="5079960" y="7027920"/>
              <a:ext cx="19782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0" name=""/>
            <p:cNvSpPr/>
            <p:nvPr/>
          </p:nvSpPr>
          <p:spPr>
            <a:xfrm>
              <a:off x="5079960" y="7362720"/>
              <a:ext cx="19782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1" name=""/>
            <p:cNvSpPr/>
            <p:nvPr/>
          </p:nvSpPr>
          <p:spPr>
            <a:xfrm>
              <a:off x="5079960" y="7697880"/>
              <a:ext cx="19782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5079960" y="8047080"/>
              <a:ext cx="19782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3" name=""/>
            <p:cNvSpPr/>
            <p:nvPr/>
          </p:nvSpPr>
          <p:spPr>
            <a:xfrm>
              <a:off x="5079960" y="8381880"/>
              <a:ext cx="19782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4" name=""/>
            <p:cNvSpPr/>
            <p:nvPr/>
          </p:nvSpPr>
          <p:spPr>
            <a:xfrm>
              <a:off x="3102120" y="8047080"/>
              <a:ext cx="0" cy="3348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5079960" y="8047080"/>
              <a:ext cx="0" cy="3348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7058160" y="8047080"/>
              <a:ext cx="0" cy="3348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7" name=""/>
            <p:cNvSpPr/>
            <p:nvPr/>
          </p:nvSpPr>
          <p:spPr>
            <a:xfrm>
              <a:off x="3102120" y="243684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8" name=""/>
            <p:cNvSpPr/>
            <p:nvPr/>
          </p:nvSpPr>
          <p:spPr>
            <a:xfrm>
              <a:off x="3102120" y="243684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9" name=""/>
            <p:cNvSpPr/>
            <p:nvPr/>
          </p:nvSpPr>
          <p:spPr>
            <a:xfrm>
              <a:off x="3102120" y="2436840"/>
              <a:ext cx="197784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0" name=""/>
            <p:cNvSpPr/>
            <p:nvPr/>
          </p:nvSpPr>
          <p:spPr>
            <a:xfrm>
              <a:off x="3102120" y="2436840"/>
              <a:ext cx="0" cy="29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1" name=""/>
            <p:cNvSpPr/>
            <p:nvPr/>
          </p:nvSpPr>
          <p:spPr>
            <a:xfrm>
              <a:off x="3102120" y="2436840"/>
              <a:ext cx="0" cy="29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2" name=""/>
            <p:cNvSpPr/>
            <p:nvPr/>
          </p:nvSpPr>
          <p:spPr>
            <a:xfrm>
              <a:off x="3102120" y="2436840"/>
              <a:ext cx="0" cy="2952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3" name=""/>
            <p:cNvSpPr/>
            <p:nvPr/>
          </p:nvSpPr>
          <p:spPr>
            <a:xfrm>
              <a:off x="5079960" y="2436840"/>
              <a:ext cx="0" cy="29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4" name=""/>
            <p:cNvSpPr/>
            <p:nvPr/>
          </p:nvSpPr>
          <p:spPr>
            <a:xfrm>
              <a:off x="5079960" y="2436840"/>
              <a:ext cx="0" cy="29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5" name=""/>
            <p:cNvSpPr/>
            <p:nvPr/>
          </p:nvSpPr>
          <p:spPr>
            <a:xfrm>
              <a:off x="5079960" y="2436840"/>
              <a:ext cx="0" cy="2952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6" name=""/>
            <p:cNvSpPr/>
            <p:nvPr/>
          </p:nvSpPr>
          <p:spPr>
            <a:xfrm>
              <a:off x="3102120" y="273204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3102120" y="273204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8" name=""/>
            <p:cNvSpPr/>
            <p:nvPr/>
          </p:nvSpPr>
          <p:spPr>
            <a:xfrm>
              <a:off x="3102120" y="2732040"/>
              <a:ext cx="197784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9" name=""/>
            <p:cNvSpPr/>
            <p:nvPr/>
          </p:nvSpPr>
          <p:spPr>
            <a:xfrm>
              <a:off x="5079960" y="243684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0" name=""/>
            <p:cNvSpPr/>
            <p:nvPr/>
          </p:nvSpPr>
          <p:spPr>
            <a:xfrm>
              <a:off x="5079960" y="243684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1" name=""/>
            <p:cNvSpPr/>
            <p:nvPr/>
          </p:nvSpPr>
          <p:spPr>
            <a:xfrm>
              <a:off x="7058160" y="2436840"/>
              <a:ext cx="0" cy="29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2" name=""/>
            <p:cNvSpPr/>
            <p:nvPr/>
          </p:nvSpPr>
          <p:spPr>
            <a:xfrm>
              <a:off x="7058160" y="2436840"/>
              <a:ext cx="0" cy="29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3" name=""/>
            <p:cNvSpPr/>
            <p:nvPr/>
          </p:nvSpPr>
          <p:spPr>
            <a:xfrm>
              <a:off x="7058160" y="2436840"/>
              <a:ext cx="0" cy="2952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4" name=""/>
            <p:cNvSpPr/>
            <p:nvPr/>
          </p:nvSpPr>
          <p:spPr>
            <a:xfrm>
              <a:off x="5079960" y="273204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5" name=""/>
            <p:cNvSpPr/>
            <p:nvPr/>
          </p:nvSpPr>
          <p:spPr>
            <a:xfrm>
              <a:off x="5079960" y="273204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6" name=""/>
            <p:cNvSpPr/>
            <p:nvPr/>
          </p:nvSpPr>
          <p:spPr>
            <a:xfrm>
              <a:off x="3102120" y="2732040"/>
              <a:ext cx="0" cy="3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3102120" y="2732040"/>
              <a:ext cx="0" cy="3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8" name=""/>
            <p:cNvSpPr/>
            <p:nvPr/>
          </p:nvSpPr>
          <p:spPr>
            <a:xfrm>
              <a:off x="3102120" y="2732040"/>
              <a:ext cx="0" cy="3081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9" name=""/>
            <p:cNvSpPr/>
            <p:nvPr/>
          </p:nvSpPr>
          <p:spPr>
            <a:xfrm>
              <a:off x="5079960" y="2732040"/>
              <a:ext cx="0" cy="3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0" name=""/>
            <p:cNvSpPr/>
            <p:nvPr/>
          </p:nvSpPr>
          <p:spPr>
            <a:xfrm>
              <a:off x="5079960" y="2732040"/>
              <a:ext cx="0" cy="3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1" name=""/>
            <p:cNvSpPr/>
            <p:nvPr/>
          </p:nvSpPr>
          <p:spPr>
            <a:xfrm>
              <a:off x="5079960" y="2732040"/>
              <a:ext cx="0" cy="3081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2" name=""/>
            <p:cNvSpPr/>
            <p:nvPr/>
          </p:nvSpPr>
          <p:spPr>
            <a:xfrm>
              <a:off x="3102120" y="304020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3" name=""/>
            <p:cNvSpPr/>
            <p:nvPr/>
          </p:nvSpPr>
          <p:spPr>
            <a:xfrm>
              <a:off x="3102120" y="304020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4" name=""/>
            <p:cNvSpPr/>
            <p:nvPr/>
          </p:nvSpPr>
          <p:spPr>
            <a:xfrm>
              <a:off x="3102120" y="3040200"/>
              <a:ext cx="197784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5" name=""/>
            <p:cNvSpPr/>
            <p:nvPr/>
          </p:nvSpPr>
          <p:spPr>
            <a:xfrm>
              <a:off x="7058160" y="2732040"/>
              <a:ext cx="0" cy="3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6" name=""/>
            <p:cNvSpPr/>
            <p:nvPr/>
          </p:nvSpPr>
          <p:spPr>
            <a:xfrm>
              <a:off x="7058160" y="2732040"/>
              <a:ext cx="0" cy="3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7" name=""/>
            <p:cNvSpPr/>
            <p:nvPr/>
          </p:nvSpPr>
          <p:spPr>
            <a:xfrm>
              <a:off x="7058160" y="2732040"/>
              <a:ext cx="0" cy="3081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8" name=""/>
            <p:cNvSpPr/>
            <p:nvPr/>
          </p:nvSpPr>
          <p:spPr>
            <a:xfrm>
              <a:off x="5079960" y="304020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9" name=""/>
            <p:cNvSpPr/>
            <p:nvPr/>
          </p:nvSpPr>
          <p:spPr>
            <a:xfrm>
              <a:off x="5079960" y="304020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0" name=""/>
            <p:cNvSpPr/>
            <p:nvPr/>
          </p:nvSpPr>
          <p:spPr>
            <a:xfrm>
              <a:off x="3102120" y="3040200"/>
              <a:ext cx="0" cy="30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1" name=""/>
            <p:cNvSpPr/>
            <p:nvPr/>
          </p:nvSpPr>
          <p:spPr>
            <a:xfrm>
              <a:off x="3102120" y="3040200"/>
              <a:ext cx="0" cy="30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2" name=""/>
            <p:cNvSpPr/>
            <p:nvPr/>
          </p:nvSpPr>
          <p:spPr>
            <a:xfrm>
              <a:off x="3102120" y="3040200"/>
              <a:ext cx="0" cy="3078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3" name=""/>
            <p:cNvSpPr/>
            <p:nvPr/>
          </p:nvSpPr>
          <p:spPr>
            <a:xfrm>
              <a:off x="5079960" y="3040200"/>
              <a:ext cx="0" cy="30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4" name=""/>
            <p:cNvSpPr/>
            <p:nvPr/>
          </p:nvSpPr>
          <p:spPr>
            <a:xfrm>
              <a:off x="5079960" y="3040200"/>
              <a:ext cx="0" cy="30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5" name=""/>
            <p:cNvSpPr/>
            <p:nvPr/>
          </p:nvSpPr>
          <p:spPr>
            <a:xfrm>
              <a:off x="5079960" y="3040200"/>
              <a:ext cx="0" cy="3078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6" name=""/>
            <p:cNvSpPr/>
            <p:nvPr/>
          </p:nvSpPr>
          <p:spPr>
            <a:xfrm>
              <a:off x="3102120" y="334800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7" name=""/>
            <p:cNvSpPr/>
            <p:nvPr/>
          </p:nvSpPr>
          <p:spPr>
            <a:xfrm>
              <a:off x="3102120" y="334800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8" name=""/>
            <p:cNvSpPr/>
            <p:nvPr/>
          </p:nvSpPr>
          <p:spPr>
            <a:xfrm>
              <a:off x="3102120" y="3348000"/>
              <a:ext cx="197784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9" name=""/>
            <p:cNvSpPr/>
            <p:nvPr/>
          </p:nvSpPr>
          <p:spPr>
            <a:xfrm>
              <a:off x="7058160" y="3040200"/>
              <a:ext cx="0" cy="30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0" name=""/>
            <p:cNvSpPr/>
            <p:nvPr/>
          </p:nvSpPr>
          <p:spPr>
            <a:xfrm>
              <a:off x="7058160" y="3040200"/>
              <a:ext cx="0" cy="30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1" name=""/>
            <p:cNvSpPr/>
            <p:nvPr/>
          </p:nvSpPr>
          <p:spPr>
            <a:xfrm>
              <a:off x="7058160" y="3040200"/>
              <a:ext cx="0" cy="3078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2" name=""/>
            <p:cNvSpPr/>
            <p:nvPr/>
          </p:nvSpPr>
          <p:spPr>
            <a:xfrm>
              <a:off x="5079960" y="334800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3" name=""/>
            <p:cNvSpPr/>
            <p:nvPr/>
          </p:nvSpPr>
          <p:spPr>
            <a:xfrm>
              <a:off x="5079960" y="334800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4" name=""/>
            <p:cNvSpPr/>
            <p:nvPr/>
          </p:nvSpPr>
          <p:spPr>
            <a:xfrm>
              <a:off x="3102120" y="3348000"/>
              <a:ext cx="0" cy="3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5" name=""/>
            <p:cNvSpPr/>
            <p:nvPr/>
          </p:nvSpPr>
          <p:spPr>
            <a:xfrm>
              <a:off x="3102120" y="3348000"/>
              <a:ext cx="0" cy="3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6" name=""/>
            <p:cNvSpPr/>
            <p:nvPr/>
          </p:nvSpPr>
          <p:spPr>
            <a:xfrm>
              <a:off x="3102120" y="3348000"/>
              <a:ext cx="0" cy="3081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7" name=""/>
            <p:cNvSpPr/>
            <p:nvPr/>
          </p:nvSpPr>
          <p:spPr>
            <a:xfrm>
              <a:off x="5079960" y="3348000"/>
              <a:ext cx="0" cy="3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8" name=""/>
            <p:cNvSpPr/>
            <p:nvPr/>
          </p:nvSpPr>
          <p:spPr>
            <a:xfrm>
              <a:off x="5079960" y="3348000"/>
              <a:ext cx="0" cy="3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9" name=""/>
            <p:cNvSpPr/>
            <p:nvPr/>
          </p:nvSpPr>
          <p:spPr>
            <a:xfrm>
              <a:off x="5079960" y="3348000"/>
              <a:ext cx="0" cy="3081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0" name=""/>
            <p:cNvSpPr/>
            <p:nvPr/>
          </p:nvSpPr>
          <p:spPr>
            <a:xfrm>
              <a:off x="3102120" y="365616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1" name=""/>
            <p:cNvSpPr/>
            <p:nvPr/>
          </p:nvSpPr>
          <p:spPr>
            <a:xfrm>
              <a:off x="3102120" y="365616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2" name=""/>
            <p:cNvSpPr/>
            <p:nvPr/>
          </p:nvSpPr>
          <p:spPr>
            <a:xfrm>
              <a:off x="3102120" y="3656160"/>
              <a:ext cx="197784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3" name=""/>
            <p:cNvSpPr/>
            <p:nvPr/>
          </p:nvSpPr>
          <p:spPr>
            <a:xfrm>
              <a:off x="7058160" y="3348000"/>
              <a:ext cx="0" cy="3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4" name=""/>
            <p:cNvSpPr/>
            <p:nvPr/>
          </p:nvSpPr>
          <p:spPr>
            <a:xfrm>
              <a:off x="7058160" y="3348000"/>
              <a:ext cx="0" cy="3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5" name=""/>
            <p:cNvSpPr/>
            <p:nvPr/>
          </p:nvSpPr>
          <p:spPr>
            <a:xfrm>
              <a:off x="7058160" y="3348000"/>
              <a:ext cx="0" cy="3081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6" name=""/>
            <p:cNvSpPr/>
            <p:nvPr/>
          </p:nvSpPr>
          <p:spPr>
            <a:xfrm>
              <a:off x="5079960" y="365616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7" name=""/>
            <p:cNvSpPr/>
            <p:nvPr/>
          </p:nvSpPr>
          <p:spPr>
            <a:xfrm>
              <a:off x="5079960" y="365616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8" name=""/>
            <p:cNvSpPr/>
            <p:nvPr/>
          </p:nvSpPr>
          <p:spPr>
            <a:xfrm>
              <a:off x="3102120" y="365616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9" name=""/>
            <p:cNvSpPr/>
            <p:nvPr/>
          </p:nvSpPr>
          <p:spPr>
            <a:xfrm>
              <a:off x="3102120" y="365616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0" name=""/>
            <p:cNvSpPr/>
            <p:nvPr/>
          </p:nvSpPr>
          <p:spPr>
            <a:xfrm>
              <a:off x="3102120" y="3656160"/>
              <a:ext cx="0" cy="2826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1" name=""/>
            <p:cNvSpPr/>
            <p:nvPr/>
          </p:nvSpPr>
          <p:spPr>
            <a:xfrm>
              <a:off x="5079960" y="365616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2" name=""/>
            <p:cNvSpPr/>
            <p:nvPr/>
          </p:nvSpPr>
          <p:spPr>
            <a:xfrm>
              <a:off x="5079960" y="365616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3" name=""/>
            <p:cNvSpPr/>
            <p:nvPr/>
          </p:nvSpPr>
          <p:spPr>
            <a:xfrm>
              <a:off x="5079960" y="3656160"/>
              <a:ext cx="0" cy="2826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4" name=""/>
            <p:cNvSpPr/>
            <p:nvPr/>
          </p:nvSpPr>
          <p:spPr>
            <a:xfrm>
              <a:off x="3102120" y="393876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5" name=""/>
            <p:cNvSpPr/>
            <p:nvPr/>
          </p:nvSpPr>
          <p:spPr>
            <a:xfrm>
              <a:off x="3102120" y="393876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6" name=""/>
            <p:cNvSpPr/>
            <p:nvPr/>
          </p:nvSpPr>
          <p:spPr>
            <a:xfrm>
              <a:off x="3102120" y="3938760"/>
              <a:ext cx="197784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7" name=""/>
            <p:cNvSpPr/>
            <p:nvPr/>
          </p:nvSpPr>
          <p:spPr>
            <a:xfrm>
              <a:off x="7058160" y="365616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8" name=""/>
            <p:cNvSpPr/>
            <p:nvPr/>
          </p:nvSpPr>
          <p:spPr>
            <a:xfrm>
              <a:off x="7058160" y="365616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9" name=""/>
            <p:cNvSpPr/>
            <p:nvPr/>
          </p:nvSpPr>
          <p:spPr>
            <a:xfrm>
              <a:off x="7058160" y="3656160"/>
              <a:ext cx="0" cy="2826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0" name=""/>
            <p:cNvSpPr/>
            <p:nvPr/>
          </p:nvSpPr>
          <p:spPr>
            <a:xfrm>
              <a:off x="5079960" y="393876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1" name=""/>
            <p:cNvSpPr/>
            <p:nvPr/>
          </p:nvSpPr>
          <p:spPr>
            <a:xfrm>
              <a:off x="5079960" y="393876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2" name=""/>
            <p:cNvSpPr/>
            <p:nvPr/>
          </p:nvSpPr>
          <p:spPr>
            <a:xfrm>
              <a:off x="3102120" y="3938760"/>
              <a:ext cx="0" cy="29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3" name=""/>
            <p:cNvSpPr/>
            <p:nvPr/>
          </p:nvSpPr>
          <p:spPr>
            <a:xfrm>
              <a:off x="3102120" y="3938760"/>
              <a:ext cx="0" cy="29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4" name=""/>
            <p:cNvSpPr/>
            <p:nvPr/>
          </p:nvSpPr>
          <p:spPr>
            <a:xfrm>
              <a:off x="3102120" y="3938760"/>
              <a:ext cx="0" cy="2952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5" name=""/>
            <p:cNvSpPr/>
            <p:nvPr/>
          </p:nvSpPr>
          <p:spPr>
            <a:xfrm>
              <a:off x="5079960" y="3938760"/>
              <a:ext cx="0" cy="29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6" name=""/>
            <p:cNvSpPr/>
            <p:nvPr/>
          </p:nvSpPr>
          <p:spPr>
            <a:xfrm>
              <a:off x="5079960" y="3938760"/>
              <a:ext cx="0" cy="29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7" name=""/>
            <p:cNvSpPr/>
            <p:nvPr/>
          </p:nvSpPr>
          <p:spPr>
            <a:xfrm>
              <a:off x="5079960" y="3938760"/>
              <a:ext cx="0" cy="2952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8" name=""/>
            <p:cNvSpPr/>
            <p:nvPr/>
          </p:nvSpPr>
          <p:spPr>
            <a:xfrm>
              <a:off x="3102120" y="423396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9" name=""/>
            <p:cNvSpPr/>
            <p:nvPr/>
          </p:nvSpPr>
          <p:spPr>
            <a:xfrm>
              <a:off x="3102120" y="423396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0" name=""/>
            <p:cNvSpPr/>
            <p:nvPr/>
          </p:nvSpPr>
          <p:spPr>
            <a:xfrm>
              <a:off x="3102120" y="4233960"/>
              <a:ext cx="197784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1" name=""/>
            <p:cNvSpPr/>
            <p:nvPr/>
          </p:nvSpPr>
          <p:spPr>
            <a:xfrm>
              <a:off x="7058160" y="3938760"/>
              <a:ext cx="0" cy="29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2" name=""/>
            <p:cNvSpPr/>
            <p:nvPr/>
          </p:nvSpPr>
          <p:spPr>
            <a:xfrm>
              <a:off x="7058160" y="3938760"/>
              <a:ext cx="0" cy="29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3" name=""/>
            <p:cNvSpPr/>
            <p:nvPr/>
          </p:nvSpPr>
          <p:spPr>
            <a:xfrm>
              <a:off x="7058160" y="3938760"/>
              <a:ext cx="0" cy="2952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4" name=""/>
            <p:cNvSpPr/>
            <p:nvPr/>
          </p:nvSpPr>
          <p:spPr>
            <a:xfrm>
              <a:off x="5079960" y="423396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5" name=""/>
            <p:cNvSpPr/>
            <p:nvPr/>
          </p:nvSpPr>
          <p:spPr>
            <a:xfrm>
              <a:off x="5079960" y="423396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6" name=""/>
            <p:cNvSpPr/>
            <p:nvPr/>
          </p:nvSpPr>
          <p:spPr>
            <a:xfrm>
              <a:off x="3102120" y="423396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7" name=""/>
            <p:cNvSpPr/>
            <p:nvPr/>
          </p:nvSpPr>
          <p:spPr>
            <a:xfrm>
              <a:off x="3102120" y="423396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8" name=""/>
            <p:cNvSpPr/>
            <p:nvPr/>
          </p:nvSpPr>
          <p:spPr>
            <a:xfrm>
              <a:off x="3102120" y="4233960"/>
              <a:ext cx="0" cy="2826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9" name=""/>
            <p:cNvSpPr/>
            <p:nvPr/>
          </p:nvSpPr>
          <p:spPr>
            <a:xfrm>
              <a:off x="5079960" y="423396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0" name=""/>
            <p:cNvSpPr/>
            <p:nvPr/>
          </p:nvSpPr>
          <p:spPr>
            <a:xfrm>
              <a:off x="5079960" y="423396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1" name=""/>
            <p:cNvSpPr/>
            <p:nvPr/>
          </p:nvSpPr>
          <p:spPr>
            <a:xfrm>
              <a:off x="5079960" y="4233960"/>
              <a:ext cx="0" cy="2826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2" name=""/>
            <p:cNvSpPr/>
            <p:nvPr/>
          </p:nvSpPr>
          <p:spPr>
            <a:xfrm>
              <a:off x="3102120" y="451656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3" name=""/>
            <p:cNvSpPr/>
            <p:nvPr/>
          </p:nvSpPr>
          <p:spPr>
            <a:xfrm>
              <a:off x="3102120" y="451656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4" name=""/>
            <p:cNvSpPr/>
            <p:nvPr/>
          </p:nvSpPr>
          <p:spPr>
            <a:xfrm>
              <a:off x="3102120" y="4516560"/>
              <a:ext cx="197784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5" name=""/>
            <p:cNvSpPr/>
            <p:nvPr/>
          </p:nvSpPr>
          <p:spPr>
            <a:xfrm>
              <a:off x="7058160" y="423396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6" name=""/>
            <p:cNvSpPr/>
            <p:nvPr/>
          </p:nvSpPr>
          <p:spPr>
            <a:xfrm>
              <a:off x="7058160" y="423396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7" name=""/>
            <p:cNvSpPr/>
            <p:nvPr/>
          </p:nvSpPr>
          <p:spPr>
            <a:xfrm>
              <a:off x="7058160" y="4233960"/>
              <a:ext cx="0" cy="2826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8" name=""/>
            <p:cNvSpPr/>
            <p:nvPr/>
          </p:nvSpPr>
          <p:spPr>
            <a:xfrm>
              <a:off x="5079960" y="451656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9" name=""/>
            <p:cNvSpPr/>
            <p:nvPr/>
          </p:nvSpPr>
          <p:spPr>
            <a:xfrm>
              <a:off x="5079960" y="451656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0" name=""/>
            <p:cNvSpPr/>
            <p:nvPr/>
          </p:nvSpPr>
          <p:spPr>
            <a:xfrm>
              <a:off x="3102120" y="451656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1" name=""/>
            <p:cNvSpPr/>
            <p:nvPr/>
          </p:nvSpPr>
          <p:spPr>
            <a:xfrm>
              <a:off x="3102120" y="451656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2" name=""/>
            <p:cNvSpPr/>
            <p:nvPr/>
          </p:nvSpPr>
          <p:spPr>
            <a:xfrm>
              <a:off x="3102120" y="4516560"/>
              <a:ext cx="0" cy="2826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3" name=""/>
            <p:cNvSpPr/>
            <p:nvPr/>
          </p:nvSpPr>
          <p:spPr>
            <a:xfrm>
              <a:off x="5079960" y="451656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4" name=""/>
            <p:cNvSpPr/>
            <p:nvPr/>
          </p:nvSpPr>
          <p:spPr>
            <a:xfrm>
              <a:off x="5079960" y="451656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5" name=""/>
            <p:cNvSpPr/>
            <p:nvPr/>
          </p:nvSpPr>
          <p:spPr>
            <a:xfrm>
              <a:off x="5079960" y="4516560"/>
              <a:ext cx="0" cy="2826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6" name=""/>
            <p:cNvSpPr/>
            <p:nvPr/>
          </p:nvSpPr>
          <p:spPr>
            <a:xfrm>
              <a:off x="3102120" y="479916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7" name=""/>
            <p:cNvSpPr/>
            <p:nvPr/>
          </p:nvSpPr>
          <p:spPr>
            <a:xfrm>
              <a:off x="3102120" y="479916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8" name=""/>
            <p:cNvSpPr/>
            <p:nvPr/>
          </p:nvSpPr>
          <p:spPr>
            <a:xfrm>
              <a:off x="3102120" y="4799160"/>
              <a:ext cx="197784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9" name=""/>
            <p:cNvSpPr/>
            <p:nvPr/>
          </p:nvSpPr>
          <p:spPr>
            <a:xfrm>
              <a:off x="7058160" y="451656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0" name=""/>
            <p:cNvSpPr/>
            <p:nvPr/>
          </p:nvSpPr>
          <p:spPr>
            <a:xfrm>
              <a:off x="7058160" y="451656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1" name=""/>
            <p:cNvSpPr/>
            <p:nvPr/>
          </p:nvSpPr>
          <p:spPr>
            <a:xfrm>
              <a:off x="7058160" y="4516560"/>
              <a:ext cx="0" cy="2826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2" name=""/>
            <p:cNvSpPr/>
            <p:nvPr/>
          </p:nvSpPr>
          <p:spPr>
            <a:xfrm>
              <a:off x="5079960" y="479916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3" name=""/>
            <p:cNvSpPr/>
            <p:nvPr/>
          </p:nvSpPr>
          <p:spPr>
            <a:xfrm>
              <a:off x="5079960" y="479916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4" name=""/>
            <p:cNvSpPr/>
            <p:nvPr/>
          </p:nvSpPr>
          <p:spPr>
            <a:xfrm>
              <a:off x="3102120" y="479916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5" name=""/>
            <p:cNvSpPr/>
            <p:nvPr/>
          </p:nvSpPr>
          <p:spPr>
            <a:xfrm>
              <a:off x="3102120" y="479916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6" name=""/>
            <p:cNvSpPr/>
            <p:nvPr/>
          </p:nvSpPr>
          <p:spPr>
            <a:xfrm>
              <a:off x="3102120" y="4799160"/>
              <a:ext cx="0" cy="2826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7" name=""/>
            <p:cNvSpPr/>
            <p:nvPr/>
          </p:nvSpPr>
          <p:spPr>
            <a:xfrm>
              <a:off x="5079960" y="479916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8" name=""/>
            <p:cNvSpPr/>
            <p:nvPr/>
          </p:nvSpPr>
          <p:spPr>
            <a:xfrm>
              <a:off x="5079960" y="479916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9" name=""/>
            <p:cNvSpPr/>
            <p:nvPr/>
          </p:nvSpPr>
          <p:spPr>
            <a:xfrm>
              <a:off x="5079960" y="4799160"/>
              <a:ext cx="0" cy="2826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0" name=""/>
            <p:cNvSpPr/>
            <p:nvPr/>
          </p:nvSpPr>
          <p:spPr>
            <a:xfrm>
              <a:off x="3102120" y="508176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1" name=""/>
            <p:cNvSpPr/>
            <p:nvPr/>
          </p:nvSpPr>
          <p:spPr>
            <a:xfrm>
              <a:off x="3102120" y="508176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2" name=""/>
            <p:cNvSpPr/>
            <p:nvPr/>
          </p:nvSpPr>
          <p:spPr>
            <a:xfrm>
              <a:off x="3102120" y="5081760"/>
              <a:ext cx="197784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3" name=""/>
            <p:cNvSpPr/>
            <p:nvPr/>
          </p:nvSpPr>
          <p:spPr>
            <a:xfrm>
              <a:off x="7058160" y="479916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4" name=""/>
            <p:cNvSpPr/>
            <p:nvPr/>
          </p:nvSpPr>
          <p:spPr>
            <a:xfrm>
              <a:off x="7058160" y="479916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5" name=""/>
            <p:cNvSpPr/>
            <p:nvPr/>
          </p:nvSpPr>
          <p:spPr>
            <a:xfrm>
              <a:off x="7058160" y="4799160"/>
              <a:ext cx="0" cy="2826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6" name=""/>
            <p:cNvSpPr/>
            <p:nvPr/>
          </p:nvSpPr>
          <p:spPr>
            <a:xfrm>
              <a:off x="5079960" y="508176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7" name=""/>
            <p:cNvSpPr/>
            <p:nvPr/>
          </p:nvSpPr>
          <p:spPr>
            <a:xfrm>
              <a:off x="5079960" y="508176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8" name=""/>
            <p:cNvSpPr/>
            <p:nvPr/>
          </p:nvSpPr>
          <p:spPr>
            <a:xfrm>
              <a:off x="3102120" y="5081760"/>
              <a:ext cx="0" cy="29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9" name=""/>
            <p:cNvSpPr/>
            <p:nvPr/>
          </p:nvSpPr>
          <p:spPr>
            <a:xfrm>
              <a:off x="3102120" y="5081760"/>
              <a:ext cx="0" cy="29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0" name=""/>
            <p:cNvSpPr/>
            <p:nvPr/>
          </p:nvSpPr>
          <p:spPr>
            <a:xfrm>
              <a:off x="3102120" y="5081760"/>
              <a:ext cx="0" cy="2952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1" name=""/>
            <p:cNvSpPr/>
            <p:nvPr/>
          </p:nvSpPr>
          <p:spPr>
            <a:xfrm>
              <a:off x="5079960" y="5081760"/>
              <a:ext cx="0" cy="29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2" name=""/>
            <p:cNvSpPr/>
            <p:nvPr/>
          </p:nvSpPr>
          <p:spPr>
            <a:xfrm>
              <a:off x="5079960" y="5081760"/>
              <a:ext cx="0" cy="29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3" name=""/>
            <p:cNvSpPr/>
            <p:nvPr/>
          </p:nvSpPr>
          <p:spPr>
            <a:xfrm>
              <a:off x="5079960" y="5081760"/>
              <a:ext cx="0" cy="2952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4" name=""/>
            <p:cNvSpPr/>
            <p:nvPr/>
          </p:nvSpPr>
          <p:spPr>
            <a:xfrm>
              <a:off x="3102120" y="537696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5" name=""/>
            <p:cNvSpPr/>
            <p:nvPr/>
          </p:nvSpPr>
          <p:spPr>
            <a:xfrm>
              <a:off x="3102120" y="537696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6" name=""/>
            <p:cNvSpPr/>
            <p:nvPr/>
          </p:nvSpPr>
          <p:spPr>
            <a:xfrm>
              <a:off x="3102120" y="5376960"/>
              <a:ext cx="197784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7" name=""/>
            <p:cNvSpPr/>
            <p:nvPr/>
          </p:nvSpPr>
          <p:spPr>
            <a:xfrm>
              <a:off x="7058160" y="5081760"/>
              <a:ext cx="0" cy="29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8" name=""/>
            <p:cNvSpPr/>
            <p:nvPr/>
          </p:nvSpPr>
          <p:spPr>
            <a:xfrm>
              <a:off x="7058160" y="5081760"/>
              <a:ext cx="0" cy="29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9" name=""/>
            <p:cNvSpPr/>
            <p:nvPr/>
          </p:nvSpPr>
          <p:spPr>
            <a:xfrm>
              <a:off x="7058160" y="5081760"/>
              <a:ext cx="0" cy="2952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0" name=""/>
            <p:cNvSpPr/>
            <p:nvPr/>
          </p:nvSpPr>
          <p:spPr>
            <a:xfrm>
              <a:off x="5079960" y="537696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1" name=""/>
            <p:cNvSpPr/>
            <p:nvPr/>
          </p:nvSpPr>
          <p:spPr>
            <a:xfrm>
              <a:off x="5079960" y="537696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2" name=""/>
            <p:cNvSpPr/>
            <p:nvPr/>
          </p:nvSpPr>
          <p:spPr>
            <a:xfrm>
              <a:off x="3102120" y="537696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3" name=""/>
            <p:cNvSpPr/>
            <p:nvPr/>
          </p:nvSpPr>
          <p:spPr>
            <a:xfrm>
              <a:off x="3102120" y="537696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4" name=""/>
            <p:cNvSpPr/>
            <p:nvPr/>
          </p:nvSpPr>
          <p:spPr>
            <a:xfrm>
              <a:off x="3102120" y="5376960"/>
              <a:ext cx="0" cy="2826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5" name=""/>
            <p:cNvSpPr/>
            <p:nvPr/>
          </p:nvSpPr>
          <p:spPr>
            <a:xfrm>
              <a:off x="5079960" y="537696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6" name=""/>
            <p:cNvSpPr/>
            <p:nvPr/>
          </p:nvSpPr>
          <p:spPr>
            <a:xfrm>
              <a:off x="5079960" y="537696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7" name=""/>
            <p:cNvSpPr/>
            <p:nvPr/>
          </p:nvSpPr>
          <p:spPr>
            <a:xfrm>
              <a:off x="5079960" y="5376960"/>
              <a:ext cx="0" cy="2826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8" name=""/>
            <p:cNvSpPr/>
            <p:nvPr/>
          </p:nvSpPr>
          <p:spPr>
            <a:xfrm>
              <a:off x="3102120" y="565956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9" name=""/>
            <p:cNvSpPr/>
            <p:nvPr/>
          </p:nvSpPr>
          <p:spPr>
            <a:xfrm>
              <a:off x="3102120" y="565956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0" name=""/>
            <p:cNvSpPr/>
            <p:nvPr/>
          </p:nvSpPr>
          <p:spPr>
            <a:xfrm>
              <a:off x="3102120" y="5659560"/>
              <a:ext cx="197784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1" name=""/>
            <p:cNvSpPr/>
            <p:nvPr/>
          </p:nvSpPr>
          <p:spPr>
            <a:xfrm>
              <a:off x="7058160" y="537696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2" name=""/>
            <p:cNvSpPr/>
            <p:nvPr/>
          </p:nvSpPr>
          <p:spPr>
            <a:xfrm>
              <a:off x="7058160" y="537696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3" name=""/>
            <p:cNvSpPr/>
            <p:nvPr/>
          </p:nvSpPr>
          <p:spPr>
            <a:xfrm>
              <a:off x="7058160" y="5376960"/>
              <a:ext cx="0" cy="2826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4" name=""/>
            <p:cNvSpPr/>
            <p:nvPr/>
          </p:nvSpPr>
          <p:spPr>
            <a:xfrm>
              <a:off x="5079960" y="565956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5" name=""/>
            <p:cNvSpPr/>
            <p:nvPr/>
          </p:nvSpPr>
          <p:spPr>
            <a:xfrm>
              <a:off x="5079960" y="565956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6" name=""/>
            <p:cNvSpPr/>
            <p:nvPr/>
          </p:nvSpPr>
          <p:spPr>
            <a:xfrm>
              <a:off x="3102120" y="5659560"/>
              <a:ext cx="0" cy="34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7" name=""/>
            <p:cNvSpPr/>
            <p:nvPr/>
          </p:nvSpPr>
          <p:spPr>
            <a:xfrm>
              <a:off x="3102120" y="5659560"/>
              <a:ext cx="0" cy="34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8" name=""/>
            <p:cNvSpPr/>
            <p:nvPr/>
          </p:nvSpPr>
          <p:spPr>
            <a:xfrm>
              <a:off x="3102120" y="5659560"/>
              <a:ext cx="0" cy="3492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9" name=""/>
            <p:cNvSpPr/>
            <p:nvPr/>
          </p:nvSpPr>
          <p:spPr>
            <a:xfrm>
              <a:off x="5079960" y="5659560"/>
              <a:ext cx="0" cy="34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0" name=""/>
            <p:cNvSpPr/>
            <p:nvPr/>
          </p:nvSpPr>
          <p:spPr>
            <a:xfrm>
              <a:off x="5079960" y="5659560"/>
              <a:ext cx="0" cy="34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1" name=""/>
            <p:cNvSpPr/>
            <p:nvPr/>
          </p:nvSpPr>
          <p:spPr>
            <a:xfrm>
              <a:off x="5079960" y="5659560"/>
              <a:ext cx="0" cy="3492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2" name=""/>
            <p:cNvSpPr/>
            <p:nvPr/>
          </p:nvSpPr>
          <p:spPr>
            <a:xfrm>
              <a:off x="3102120" y="600876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3" name=""/>
            <p:cNvSpPr/>
            <p:nvPr/>
          </p:nvSpPr>
          <p:spPr>
            <a:xfrm>
              <a:off x="3102120" y="600876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4" name=""/>
            <p:cNvSpPr/>
            <p:nvPr/>
          </p:nvSpPr>
          <p:spPr>
            <a:xfrm>
              <a:off x="3102120" y="6008760"/>
              <a:ext cx="197784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5" name=""/>
            <p:cNvSpPr/>
            <p:nvPr/>
          </p:nvSpPr>
          <p:spPr>
            <a:xfrm>
              <a:off x="7058160" y="5659560"/>
              <a:ext cx="0" cy="34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6" name=""/>
            <p:cNvSpPr/>
            <p:nvPr/>
          </p:nvSpPr>
          <p:spPr>
            <a:xfrm>
              <a:off x="7058160" y="5659560"/>
              <a:ext cx="0" cy="34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7" name=""/>
            <p:cNvSpPr/>
            <p:nvPr/>
          </p:nvSpPr>
          <p:spPr>
            <a:xfrm>
              <a:off x="7058160" y="5659560"/>
              <a:ext cx="0" cy="3492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8" name=""/>
            <p:cNvSpPr/>
            <p:nvPr/>
          </p:nvSpPr>
          <p:spPr>
            <a:xfrm>
              <a:off x="5079960" y="600876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9" name=""/>
            <p:cNvSpPr/>
            <p:nvPr/>
          </p:nvSpPr>
          <p:spPr>
            <a:xfrm>
              <a:off x="5079960" y="600876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0" name=""/>
            <p:cNvSpPr/>
            <p:nvPr/>
          </p:nvSpPr>
          <p:spPr>
            <a:xfrm>
              <a:off x="3102120" y="6008760"/>
              <a:ext cx="0" cy="33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1" name=""/>
            <p:cNvSpPr/>
            <p:nvPr/>
          </p:nvSpPr>
          <p:spPr>
            <a:xfrm>
              <a:off x="3102120" y="6008760"/>
              <a:ext cx="0" cy="33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2" name=""/>
            <p:cNvSpPr/>
            <p:nvPr/>
          </p:nvSpPr>
          <p:spPr>
            <a:xfrm>
              <a:off x="3102120" y="6008760"/>
              <a:ext cx="0" cy="3348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3" name=""/>
            <p:cNvSpPr/>
            <p:nvPr/>
          </p:nvSpPr>
          <p:spPr>
            <a:xfrm>
              <a:off x="5079960" y="6008760"/>
              <a:ext cx="0" cy="33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4" name=""/>
            <p:cNvSpPr/>
            <p:nvPr/>
          </p:nvSpPr>
          <p:spPr>
            <a:xfrm>
              <a:off x="5079960" y="6008760"/>
              <a:ext cx="0" cy="33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5" name=""/>
            <p:cNvSpPr/>
            <p:nvPr/>
          </p:nvSpPr>
          <p:spPr>
            <a:xfrm>
              <a:off x="5079960" y="6008760"/>
              <a:ext cx="0" cy="3348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6" name=""/>
            <p:cNvSpPr/>
            <p:nvPr/>
          </p:nvSpPr>
          <p:spPr>
            <a:xfrm>
              <a:off x="3102120" y="634356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7" name=""/>
            <p:cNvSpPr/>
            <p:nvPr/>
          </p:nvSpPr>
          <p:spPr>
            <a:xfrm>
              <a:off x="3102120" y="634356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8" name=""/>
            <p:cNvSpPr/>
            <p:nvPr/>
          </p:nvSpPr>
          <p:spPr>
            <a:xfrm>
              <a:off x="3102120" y="6343560"/>
              <a:ext cx="197784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9" name=""/>
            <p:cNvSpPr/>
            <p:nvPr/>
          </p:nvSpPr>
          <p:spPr>
            <a:xfrm>
              <a:off x="7058160" y="6008760"/>
              <a:ext cx="0" cy="33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0" name=""/>
            <p:cNvSpPr/>
            <p:nvPr/>
          </p:nvSpPr>
          <p:spPr>
            <a:xfrm>
              <a:off x="7058160" y="6008760"/>
              <a:ext cx="0" cy="33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1" name=""/>
            <p:cNvSpPr/>
            <p:nvPr/>
          </p:nvSpPr>
          <p:spPr>
            <a:xfrm>
              <a:off x="7058160" y="6008760"/>
              <a:ext cx="0" cy="3348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2" name=""/>
            <p:cNvSpPr/>
            <p:nvPr/>
          </p:nvSpPr>
          <p:spPr>
            <a:xfrm>
              <a:off x="5079960" y="634356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3" name=""/>
            <p:cNvSpPr/>
            <p:nvPr/>
          </p:nvSpPr>
          <p:spPr>
            <a:xfrm>
              <a:off x="5079960" y="634356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4" name=""/>
            <p:cNvSpPr/>
            <p:nvPr/>
          </p:nvSpPr>
          <p:spPr>
            <a:xfrm>
              <a:off x="3102120" y="6343560"/>
              <a:ext cx="0" cy="33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5" name=""/>
            <p:cNvSpPr/>
            <p:nvPr/>
          </p:nvSpPr>
          <p:spPr>
            <a:xfrm>
              <a:off x="3102120" y="6343560"/>
              <a:ext cx="0" cy="33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6" name=""/>
            <p:cNvSpPr/>
            <p:nvPr/>
          </p:nvSpPr>
          <p:spPr>
            <a:xfrm>
              <a:off x="3102120" y="6343560"/>
              <a:ext cx="0" cy="3351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7" name=""/>
            <p:cNvSpPr/>
            <p:nvPr/>
          </p:nvSpPr>
          <p:spPr>
            <a:xfrm>
              <a:off x="5079960" y="6343560"/>
              <a:ext cx="0" cy="33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8" name=""/>
            <p:cNvSpPr/>
            <p:nvPr/>
          </p:nvSpPr>
          <p:spPr>
            <a:xfrm>
              <a:off x="5079960" y="6343560"/>
              <a:ext cx="0" cy="33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9" name=""/>
            <p:cNvSpPr/>
            <p:nvPr/>
          </p:nvSpPr>
          <p:spPr>
            <a:xfrm>
              <a:off x="5079960" y="6343560"/>
              <a:ext cx="0" cy="3351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0" name=""/>
            <p:cNvSpPr/>
            <p:nvPr/>
          </p:nvSpPr>
          <p:spPr>
            <a:xfrm>
              <a:off x="3102120" y="667872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1" name=""/>
            <p:cNvSpPr/>
            <p:nvPr/>
          </p:nvSpPr>
          <p:spPr>
            <a:xfrm>
              <a:off x="3102120" y="667872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2" name=""/>
            <p:cNvSpPr/>
            <p:nvPr/>
          </p:nvSpPr>
          <p:spPr>
            <a:xfrm>
              <a:off x="3102120" y="6678720"/>
              <a:ext cx="197784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3" name=""/>
            <p:cNvSpPr/>
            <p:nvPr/>
          </p:nvSpPr>
          <p:spPr>
            <a:xfrm>
              <a:off x="7058160" y="6343560"/>
              <a:ext cx="0" cy="33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4" name=""/>
            <p:cNvSpPr/>
            <p:nvPr/>
          </p:nvSpPr>
          <p:spPr>
            <a:xfrm>
              <a:off x="7058160" y="6343560"/>
              <a:ext cx="0" cy="33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5" name=""/>
            <p:cNvSpPr/>
            <p:nvPr/>
          </p:nvSpPr>
          <p:spPr>
            <a:xfrm>
              <a:off x="7058160" y="6343560"/>
              <a:ext cx="0" cy="3351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6" name=""/>
            <p:cNvSpPr/>
            <p:nvPr/>
          </p:nvSpPr>
          <p:spPr>
            <a:xfrm>
              <a:off x="5079960" y="667872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7" name=""/>
            <p:cNvSpPr/>
            <p:nvPr/>
          </p:nvSpPr>
          <p:spPr>
            <a:xfrm>
              <a:off x="5079960" y="667872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8" name=""/>
            <p:cNvSpPr/>
            <p:nvPr/>
          </p:nvSpPr>
          <p:spPr>
            <a:xfrm>
              <a:off x="3102120" y="6678720"/>
              <a:ext cx="0" cy="34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9" name=""/>
            <p:cNvSpPr/>
            <p:nvPr/>
          </p:nvSpPr>
          <p:spPr>
            <a:xfrm>
              <a:off x="3102120" y="6678720"/>
              <a:ext cx="0" cy="34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0" name=""/>
            <p:cNvSpPr/>
            <p:nvPr/>
          </p:nvSpPr>
          <p:spPr>
            <a:xfrm>
              <a:off x="3102120" y="6678720"/>
              <a:ext cx="0" cy="3492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1" name=""/>
            <p:cNvSpPr/>
            <p:nvPr/>
          </p:nvSpPr>
          <p:spPr>
            <a:xfrm>
              <a:off x="5079960" y="6678720"/>
              <a:ext cx="0" cy="34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2" name=""/>
            <p:cNvSpPr/>
            <p:nvPr/>
          </p:nvSpPr>
          <p:spPr>
            <a:xfrm>
              <a:off x="5079960" y="6678720"/>
              <a:ext cx="0" cy="34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3" name=""/>
            <p:cNvSpPr/>
            <p:nvPr/>
          </p:nvSpPr>
          <p:spPr>
            <a:xfrm>
              <a:off x="5079960" y="6678720"/>
              <a:ext cx="0" cy="3492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4" name=""/>
            <p:cNvSpPr/>
            <p:nvPr/>
          </p:nvSpPr>
          <p:spPr>
            <a:xfrm>
              <a:off x="3102120" y="702792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5" name=""/>
            <p:cNvSpPr/>
            <p:nvPr/>
          </p:nvSpPr>
          <p:spPr>
            <a:xfrm>
              <a:off x="3102120" y="702792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6" name=""/>
            <p:cNvSpPr/>
            <p:nvPr/>
          </p:nvSpPr>
          <p:spPr>
            <a:xfrm>
              <a:off x="3102120" y="7027920"/>
              <a:ext cx="197784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7" name=""/>
            <p:cNvSpPr/>
            <p:nvPr/>
          </p:nvSpPr>
          <p:spPr>
            <a:xfrm>
              <a:off x="7058160" y="6678720"/>
              <a:ext cx="0" cy="34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8" name=""/>
            <p:cNvSpPr/>
            <p:nvPr/>
          </p:nvSpPr>
          <p:spPr>
            <a:xfrm>
              <a:off x="7058160" y="6678720"/>
              <a:ext cx="0" cy="34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9" name=""/>
            <p:cNvSpPr/>
            <p:nvPr/>
          </p:nvSpPr>
          <p:spPr>
            <a:xfrm>
              <a:off x="7058160" y="6678720"/>
              <a:ext cx="0" cy="3492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0" name=""/>
            <p:cNvSpPr/>
            <p:nvPr/>
          </p:nvSpPr>
          <p:spPr>
            <a:xfrm>
              <a:off x="5079960" y="702792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1" name=""/>
            <p:cNvSpPr/>
            <p:nvPr/>
          </p:nvSpPr>
          <p:spPr>
            <a:xfrm>
              <a:off x="5079960" y="702792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2" name=""/>
            <p:cNvSpPr/>
            <p:nvPr/>
          </p:nvSpPr>
          <p:spPr>
            <a:xfrm>
              <a:off x="3102120" y="7027920"/>
              <a:ext cx="0" cy="33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3" name=""/>
            <p:cNvSpPr/>
            <p:nvPr/>
          </p:nvSpPr>
          <p:spPr>
            <a:xfrm>
              <a:off x="3102120" y="7027920"/>
              <a:ext cx="0" cy="33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4" name=""/>
            <p:cNvSpPr/>
            <p:nvPr/>
          </p:nvSpPr>
          <p:spPr>
            <a:xfrm>
              <a:off x="3102120" y="7027920"/>
              <a:ext cx="0" cy="3348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5" name=""/>
            <p:cNvSpPr/>
            <p:nvPr/>
          </p:nvSpPr>
          <p:spPr>
            <a:xfrm>
              <a:off x="5079960" y="7027920"/>
              <a:ext cx="0" cy="33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6" name=""/>
            <p:cNvSpPr/>
            <p:nvPr/>
          </p:nvSpPr>
          <p:spPr>
            <a:xfrm>
              <a:off x="5079960" y="7027920"/>
              <a:ext cx="0" cy="33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7" name=""/>
            <p:cNvSpPr/>
            <p:nvPr/>
          </p:nvSpPr>
          <p:spPr>
            <a:xfrm>
              <a:off x="5079960" y="7027920"/>
              <a:ext cx="0" cy="3348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8" name=""/>
            <p:cNvSpPr/>
            <p:nvPr/>
          </p:nvSpPr>
          <p:spPr>
            <a:xfrm>
              <a:off x="3102120" y="736272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9" name=""/>
            <p:cNvSpPr/>
            <p:nvPr/>
          </p:nvSpPr>
          <p:spPr>
            <a:xfrm>
              <a:off x="3102120" y="736272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0" name=""/>
            <p:cNvSpPr/>
            <p:nvPr/>
          </p:nvSpPr>
          <p:spPr>
            <a:xfrm>
              <a:off x="3102120" y="7362720"/>
              <a:ext cx="197784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1" name=""/>
            <p:cNvSpPr/>
            <p:nvPr/>
          </p:nvSpPr>
          <p:spPr>
            <a:xfrm>
              <a:off x="7058160" y="7027920"/>
              <a:ext cx="0" cy="33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2" name=""/>
            <p:cNvSpPr/>
            <p:nvPr/>
          </p:nvSpPr>
          <p:spPr>
            <a:xfrm>
              <a:off x="7058160" y="7027920"/>
              <a:ext cx="0" cy="33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3" name=""/>
            <p:cNvSpPr/>
            <p:nvPr/>
          </p:nvSpPr>
          <p:spPr>
            <a:xfrm>
              <a:off x="7058160" y="7027920"/>
              <a:ext cx="0" cy="3348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4" name=""/>
            <p:cNvSpPr/>
            <p:nvPr/>
          </p:nvSpPr>
          <p:spPr>
            <a:xfrm>
              <a:off x="5079960" y="736272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5" name=""/>
            <p:cNvSpPr/>
            <p:nvPr/>
          </p:nvSpPr>
          <p:spPr>
            <a:xfrm>
              <a:off x="5079960" y="736272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6" name=""/>
            <p:cNvSpPr/>
            <p:nvPr/>
          </p:nvSpPr>
          <p:spPr>
            <a:xfrm>
              <a:off x="3102120" y="7362720"/>
              <a:ext cx="0" cy="33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7" name=""/>
            <p:cNvSpPr/>
            <p:nvPr/>
          </p:nvSpPr>
          <p:spPr>
            <a:xfrm>
              <a:off x="3102120" y="7362720"/>
              <a:ext cx="0" cy="33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8" name=""/>
            <p:cNvSpPr/>
            <p:nvPr/>
          </p:nvSpPr>
          <p:spPr>
            <a:xfrm>
              <a:off x="3102120" y="7362720"/>
              <a:ext cx="0" cy="3351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9" name=""/>
            <p:cNvSpPr/>
            <p:nvPr/>
          </p:nvSpPr>
          <p:spPr>
            <a:xfrm>
              <a:off x="5079960" y="7362720"/>
              <a:ext cx="0" cy="33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0" name=""/>
            <p:cNvSpPr/>
            <p:nvPr/>
          </p:nvSpPr>
          <p:spPr>
            <a:xfrm>
              <a:off x="5079960" y="7362720"/>
              <a:ext cx="0" cy="33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1" name=""/>
            <p:cNvSpPr/>
            <p:nvPr/>
          </p:nvSpPr>
          <p:spPr>
            <a:xfrm>
              <a:off x="5079960" y="7362720"/>
              <a:ext cx="0" cy="3351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2" name=""/>
            <p:cNvSpPr/>
            <p:nvPr/>
          </p:nvSpPr>
          <p:spPr>
            <a:xfrm>
              <a:off x="3102120" y="769788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3" name=""/>
            <p:cNvSpPr/>
            <p:nvPr/>
          </p:nvSpPr>
          <p:spPr>
            <a:xfrm>
              <a:off x="3102120" y="769788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4" name=""/>
            <p:cNvSpPr/>
            <p:nvPr/>
          </p:nvSpPr>
          <p:spPr>
            <a:xfrm>
              <a:off x="3102120" y="7697880"/>
              <a:ext cx="197784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5" name=""/>
            <p:cNvSpPr/>
            <p:nvPr/>
          </p:nvSpPr>
          <p:spPr>
            <a:xfrm>
              <a:off x="7058160" y="7362720"/>
              <a:ext cx="0" cy="33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6" name=""/>
            <p:cNvSpPr/>
            <p:nvPr/>
          </p:nvSpPr>
          <p:spPr>
            <a:xfrm>
              <a:off x="7058160" y="7362720"/>
              <a:ext cx="0" cy="33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7" name=""/>
            <p:cNvSpPr/>
            <p:nvPr/>
          </p:nvSpPr>
          <p:spPr>
            <a:xfrm>
              <a:off x="7058160" y="7362720"/>
              <a:ext cx="0" cy="3351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8" name=""/>
            <p:cNvSpPr/>
            <p:nvPr/>
          </p:nvSpPr>
          <p:spPr>
            <a:xfrm>
              <a:off x="5079960" y="769788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9" name=""/>
            <p:cNvSpPr/>
            <p:nvPr/>
          </p:nvSpPr>
          <p:spPr>
            <a:xfrm>
              <a:off x="5079960" y="769788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0" name=""/>
            <p:cNvSpPr/>
            <p:nvPr/>
          </p:nvSpPr>
          <p:spPr>
            <a:xfrm>
              <a:off x="3102120" y="7697880"/>
              <a:ext cx="0" cy="34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1" name=""/>
            <p:cNvSpPr/>
            <p:nvPr/>
          </p:nvSpPr>
          <p:spPr>
            <a:xfrm>
              <a:off x="3102120" y="7697880"/>
              <a:ext cx="0" cy="34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2" name=""/>
            <p:cNvSpPr/>
            <p:nvPr/>
          </p:nvSpPr>
          <p:spPr>
            <a:xfrm>
              <a:off x="3102120" y="7697880"/>
              <a:ext cx="0" cy="3492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3" name=""/>
            <p:cNvSpPr/>
            <p:nvPr/>
          </p:nvSpPr>
          <p:spPr>
            <a:xfrm>
              <a:off x="5079960" y="7697880"/>
              <a:ext cx="0" cy="34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4" name=""/>
            <p:cNvSpPr/>
            <p:nvPr/>
          </p:nvSpPr>
          <p:spPr>
            <a:xfrm>
              <a:off x="5079960" y="7697880"/>
              <a:ext cx="0" cy="34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5" name=""/>
            <p:cNvSpPr/>
            <p:nvPr/>
          </p:nvSpPr>
          <p:spPr>
            <a:xfrm>
              <a:off x="5079960" y="7697880"/>
              <a:ext cx="0" cy="3492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6" name=""/>
            <p:cNvSpPr/>
            <p:nvPr/>
          </p:nvSpPr>
          <p:spPr>
            <a:xfrm>
              <a:off x="3102120" y="804708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7" name=""/>
            <p:cNvSpPr/>
            <p:nvPr/>
          </p:nvSpPr>
          <p:spPr>
            <a:xfrm>
              <a:off x="3102120" y="804708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8" name=""/>
            <p:cNvSpPr/>
            <p:nvPr/>
          </p:nvSpPr>
          <p:spPr>
            <a:xfrm>
              <a:off x="3102120" y="8047080"/>
              <a:ext cx="197784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9" name=""/>
            <p:cNvSpPr/>
            <p:nvPr/>
          </p:nvSpPr>
          <p:spPr>
            <a:xfrm>
              <a:off x="7058160" y="7697880"/>
              <a:ext cx="0" cy="34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0" name=""/>
            <p:cNvSpPr/>
            <p:nvPr/>
          </p:nvSpPr>
          <p:spPr>
            <a:xfrm>
              <a:off x="7058160" y="7697880"/>
              <a:ext cx="0" cy="34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1" name=""/>
            <p:cNvSpPr/>
            <p:nvPr/>
          </p:nvSpPr>
          <p:spPr>
            <a:xfrm>
              <a:off x="7058160" y="7697880"/>
              <a:ext cx="0" cy="3492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2" name=""/>
            <p:cNvSpPr/>
            <p:nvPr/>
          </p:nvSpPr>
          <p:spPr>
            <a:xfrm>
              <a:off x="5079960" y="804708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3" name=""/>
            <p:cNvSpPr/>
            <p:nvPr/>
          </p:nvSpPr>
          <p:spPr>
            <a:xfrm>
              <a:off x="5079960" y="804708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4" name=""/>
            <p:cNvSpPr/>
            <p:nvPr/>
          </p:nvSpPr>
          <p:spPr>
            <a:xfrm>
              <a:off x="3102120" y="8047080"/>
              <a:ext cx="0" cy="33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5" name=""/>
            <p:cNvSpPr/>
            <p:nvPr/>
          </p:nvSpPr>
          <p:spPr>
            <a:xfrm>
              <a:off x="3102120" y="8047080"/>
              <a:ext cx="0" cy="33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6" name=""/>
            <p:cNvSpPr/>
            <p:nvPr/>
          </p:nvSpPr>
          <p:spPr>
            <a:xfrm>
              <a:off x="5079960" y="8047080"/>
              <a:ext cx="0" cy="33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7" name=""/>
            <p:cNvSpPr/>
            <p:nvPr/>
          </p:nvSpPr>
          <p:spPr>
            <a:xfrm>
              <a:off x="5079960" y="8047080"/>
              <a:ext cx="0" cy="33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8" name=""/>
            <p:cNvSpPr/>
            <p:nvPr/>
          </p:nvSpPr>
          <p:spPr>
            <a:xfrm>
              <a:off x="3102120" y="838188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9" name=""/>
            <p:cNvSpPr/>
            <p:nvPr/>
          </p:nvSpPr>
          <p:spPr>
            <a:xfrm>
              <a:off x="3102120" y="8381880"/>
              <a:ext cx="19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0" name=""/>
            <p:cNvSpPr/>
            <p:nvPr/>
          </p:nvSpPr>
          <p:spPr>
            <a:xfrm>
              <a:off x="3102120" y="8381880"/>
              <a:ext cx="197784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1" name=""/>
            <p:cNvSpPr/>
            <p:nvPr/>
          </p:nvSpPr>
          <p:spPr>
            <a:xfrm>
              <a:off x="7058160" y="8047080"/>
              <a:ext cx="0" cy="33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2" name=""/>
            <p:cNvSpPr/>
            <p:nvPr/>
          </p:nvSpPr>
          <p:spPr>
            <a:xfrm>
              <a:off x="7058160" y="8047080"/>
              <a:ext cx="0" cy="33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3" name=""/>
            <p:cNvSpPr/>
            <p:nvPr/>
          </p:nvSpPr>
          <p:spPr>
            <a:xfrm>
              <a:off x="5079960" y="838188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4" name=""/>
            <p:cNvSpPr/>
            <p:nvPr/>
          </p:nvSpPr>
          <p:spPr>
            <a:xfrm>
              <a:off x="5079960" y="838188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85" name="" descr=""/>
          <p:cNvPicPr/>
          <p:nvPr/>
        </p:nvPicPr>
        <p:blipFill>
          <a:blip r:embed="rId1"/>
          <a:stretch/>
        </p:blipFill>
        <p:spPr>
          <a:xfrm>
            <a:off x="5079960" y="914400"/>
            <a:ext cx="4802400" cy="4695840"/>
          </a:xfrm>
          <a:prstGeom prst="rect">
            <a:avLst/>
          </a:prstGeom>
          <a:ln w="0">
            <a:noFill/>
          </a:ln>
        </p:spPr>
      </p:pic>
      <p:sp>
        <p:nvSpPr>
          <p:cNvPr id="3886" name=""/>
          <p:cNvSpPr/>
          <p:nvPr/>
        </p:nvSpPr>
        <p:spPr>
          <a:xfrm>
            <a:off x="5734080" y="5587920"/>
            <a:ext cx="362412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ich strings does this FSM accept, generally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Applications of Finite State Machine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8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9878760" cy="611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principles of finite state machines show up everywhere in our everyday life. Guess which of these use finite state machines to operat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89" name="" descr=""/>
          <p:cNvPicPr/>
          <p:nvPr/>
        </p:nvPicPr>
        <p:blipFill>
          <a:blip r:embed="rId1"/>
          <a:stretch/>
        </p:blipFill>
        <p:spPr>
          <a:xfrm>
            <a:off x="203040" y="2641680"/>
            <a:ext cx="3375360" cy="4851360"/>
          </a:xfrm>
          <a:prstGeom prst="rect">
            <a:avLst/>
          </a:prstGeom>
          <a:ln w="0">
            <a:noFill/>
          </a:ln>
        </p:spPr>
      </p:pic>
      <p:pic>
        <p:nvPicPr>
          <p:cNvPr id="3890" name="" descr=""/>
          <p:cNvPicPr/>
          <p:nvPr/>
        </p:nvPicPr>
        <p:blipFill>
          <a:blip r:embed="rId2"/>
          <a:stretch/>
        </p:blipFill>
        <p:spPr>
          <a:xfrm>
            <a:off x="7112160" y="3860640"/>
            <a:ext cx="3608280" cy="3708720"/>
          </a:xfrm>
          <a:prstGeom prst="rect">
            <a:avLst/>
          </a:prstGeom>
          <a:ln w="0">
            <a:noFill/>
          </a:ln>
        </p:spPr>
      </p:pic>
      <p:pic>
        <p:nvPicPr>
          <p:cNvPr id="3891" name="" descr=""/>
          <p:cNvPicPr/>
          <p:nvPr/>
        </p:nvPicPr>
        <p:blipFill>
          <a:blip r:embed="rId3"/>
          <a:stretch/>
        </p:blipFill>
        <p:spPr>
          <a:xfrm>
            <a:off x="1828800" y="2540160"/>
            <a:ext cx="4730760" cy="3423960"/>
          </a:xfrm>
          <a:prstGeom prst="rect">
            <a:avLst/>
          </a:prstGeom>
          <a:ln w="0">
            <a:noFill/>
          </a:ln>
        </p:spPr>
      </p:pic>
      <p:pic>
        <p:nvPicPr>
          <p:cNvPr id="3892" name="" descr=""/>
          <p:cNvPicPr/>
          <p:nvPr/>
        </p:nvPicPr>
        <p:blipFill>
          <a:blip r:embed="rId4"/>
          <a:stretch/>
        </p:blipFill>
        <p:spPr>
          <a:xfrm>
            <a:off x="5486400" y="2133720"/>
            <a:ext cx="2773440" cy="46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3" name="" descr=""/>
          <p:cNvPicPr/>
          <p:nvPr/>
        </p:nvPicPr>
        <p:blipFill>
          <a:blip r:embed="rId1"/>
          <a:stretch/>
        </p:blipFill>
        <p:spPr>
          <a:xfrm>
            <a:off x="5384880" y="0"/>
            <a:ext cx="4802040" cy="4695840"/>
          </a:xfrm>
          <a:prstGeom prst="rect">
            <a:avLst/>
          </a:prstGeom>
          <a:ln w="0">
            <a:noFill/>
          </a:ln>
        </p:spPr>
      </p:pic>
      <p:sp>
        <p:nvSpPr>
          <p:cNvPr id="389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JFLAP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5" name="PlaceHolder 2"/>
          <p:cNvSpPr>
            <a:spLocks noGrp="1"/>
          </p:cNvSpPr>
          <p:nvPr>
            <p:ph/>
          </p:nvPr>
        </p:nvSpPr>
        <p:spPr>
          <a:xfrm>
            <a:off x="230040" y="1827000"/>
            <a:ext cx="5515200" cy="55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ow did we make these beautiful FSM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</a:rPr>
              <a:t>JFLAP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is a cross-platform utility for creating and testing finite state machines (and lots of other abstract machines!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Lunch Video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97" name="" descr=""/>
          <p:cNvPicPr/>
          <p:nvPr/>
        </p:nvPicPr>
        <p:blipFill>
          <a:blip r:embed="rId1"/>
          <a:stretch/>
        </p:blipFill>
        <p:spPr>
          <a:xfrm>
            <a:off x="1930320" y="1117440"/>
            <a:ext cx="6721560" cy="5040360"/>
          </a:xfrm>
          <a:prstGeom prst="rect">
            <a:avLst/>
          </a:prstGeom>
          <a:ln w="0">
            <a:noFill/>
          </a:ln>
        </p:spPr>
      </p:pic>
      <p:sp>
        <p:nvSpPr>
          <p:cNvPr id="3898" name=""/>
          <p:cNvSpPr/>
          <p:nvPr/>
        </p:nvSpPr>
        <p:spPr>
          <a:xfrm>
            <a:off x="1568520" y="6502320"/>
            <a:ext cx="74469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Creation of the Computer- middle sec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0" name="PlaceHolder 2"/>
          <p:cNvSpPr>
            <a:spLocks noGrp="1"/>
          </p:cNvSpPr>
          <p:nvPr>
            <p:ph/>
          </p:nvPr>
        </p:nvSpPr>
        <p:spPr>
          <a:xfrm>
            <a:off x="1364760" y="1523520"/>
            <a:ext cx="785988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p until now, we've been looking at ones and zeros. These are really abstract pieces of data!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ll of the little ones and zeroes (bits) are used to represent pieces of information that are useful to us, like bank records, or grade book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ots of compelling problem solving in Computer Science happens at the </a:t>
            </a:r>
            <a:r>
              <a:rPr b="1" lang="en-US" sz="2700" spc="-1" strike="noStrike">
                <a:solidFill>
                  <a:srgbClr val="0000ff"/>
                </a:solidFill>
                <a:latin typeface="Arial"/>
              </a:rPr>
              <a:t>data structure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leve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ne of the simplest data structures we can imagine is a 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list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ower Building Activity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2" name="PlaceHolder 2"/>
          <p:cNvSpPr>
            <a:spLocks noGrp="1"/>
          </p:cNvSpPr>
          <p:nvPr>
            <p:ph/>
          </p:nvPr>
        </p:nvSpPr>
        <p:spPr>
          <a:xfrm>
            <a:off x="247320" y="1218960"/>
            <a:ext cx="9659880" cy="59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mpt: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onald Trump wants to build a 100 meter high tower as quickly as possible.  He has unlimited resources and unlimited budget and is willing to spend any amount to get the job don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e has chosen to build the tower with blocks that are only 1 meter tall. The blocks interlock on top and bottom (like legos). They cannot be  stacked sideway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sing special lifters, putting one block on top of another block takes one week regardless of how high the stacks are. 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at is the shortest amount of time that it will take to build the tower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ower Building 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4" name="PlaceHolder 2"/>
          <p:cNvSpPr>
            <a:spLocks noGrp="1"/>
          </p:cNvSpPr>
          <p:nvPr>
            <p:ph/>
          </p:nvPr>
        </p:nvSpPr>
        <p:spPr>
          <a:xfrm>
            <a:off x="247320" y="1218960"/>
            <a:ext cx="9659880" cy="59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nk about your tower building strategy.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ow many weeks will it take to build the tower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an you think of any faster strategie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you can use as many machines as you want!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5" name="" descr=""/>
          <p:cNvPicPr/>
          <p:nvPr/>
        </p:nvPicPr>
        <p:blipFill>
          <a:blip r:embed="rId1"/>
          <a:stretch/>
        </p:blipFill>
        <p:spPr>
          <a:xfrm>
            <a:off x="7620120" y="2946240"/>
            <a:ext cx="2324160" cy="44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ower-building strategie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7" name="PlaceHolder 2"/>
          <p:cNvSpPr>
            <a:spLocks noGrp="1"/>
          </p:cNvSpPr>
          <p:nvPr>
            <p:ph/>
          </p:nvPr>
        </p:nvSpPr>
        <p:spPr>
          <a:xfrm>
            <a:off x="348840" y="1422000"/>
            <a:ext cx="9659880" cy="54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at are different strategies that were used to solve the tower building problem?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at's the </a:t>
            </a:r>
            <a:r>
              <a:rPr b="1" lang="en-US" sz="2700" spc="-1" strike="noStrike">
                <a:solidFill>
                  <a:srgbClr val="0000ff"/>
                </a:solidFill>
                <a:latin typeface="Arial"/>
              </a:rPr>
              <a:t>slowest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(straightforward) way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at's the 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fastest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way to build the tower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560"/>
            <a:ext cx="966456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roblem solving </a:t>
            </a:r>
            <a:r>
              <a:rPr b="0" i="1" lang="en-US" sz="43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24600" y="1422360"/>
            <a:ext cx="4603680" cy="55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1) experiment / understan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2) describe a pl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3) test your plan (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execute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t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4) reflect / evalua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04920" y="1422360"/>
            <a:ext cx="4518000" cy="45752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50720" y="6197760"/>
            <a:ext cx="437688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The </a:t>
            </a:r>
            <a:r>
              <a:rPr b="1" i="1" lang="en-US" sz="2700" spc="-1" strike="noStrike">
                <a:solidFill>
                  <a:srgbClr val="0000ff"/>
                </a:solidFill>
                <a:latin typeface="Arial"/>
              </a:rPr>
              <a:t>process </a:t>
            </a: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is much more useful than the solution!!</a:t>
            </a:r>
            <a:r>
              <a:rPr b="1" i="1" lang="en-US" sz="2700" spc="-1" strike="noStrike">
                <a:solidFill>
                  <a:srgbClr val="0000ff"/>
                </a:solidFill>
                <a:latin typeface="Arial"/>
              </a:rPr>
              <a:t> </a:t>
            </a: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280" y="7112160"/>
            <a:ext cx="51120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solving </a:t>
            </a:r>
            <a:r>
              <a:rPr b="0" i="1" lang="en-US" sz="2700" spc="-1" strike="noStrike">
                <a:solidFill>
                  <a:srgbClr val="ff0000"/>
                </a:solidFill>
                <a:latin typeface="Arial"/>
              </a:rPr>
              <a:t>one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 vs. solving </a:t>
            </a:r>
            <a:r>
              <a:rPr b="0" i="1" lang="en-US" sz="2700" spc="-1" strike="noStrike">
                <a:solidFill>
                  <a:srgbClr val="ff0000"/>
                </a:solidFill>
                <a:latin typeface="Arial"/>
              </a:rPr>
              <a:t>man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arching!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9" name="" descr=""/>
          <p:cNvPicPr/>
          <p:nvPr/>
        </p:nvPicPr>
        <p:blipFill>
          <a:blip r:embed="rId1"/>
          <a:stretch/>
        </p:blipFill>
        <p:spPr>
          <a:xfrm>
            <a:off x="1930320" y="1219320"/>
            <a:ext cx="3768840" cy="3965400"/>
          </a:xfrm>
          <a:prstGeom prst="rect">
            <a:avLst/>
          </a:prstGeom>
          <a:ln w="0">
            <a:noFill/>
          </a:ln>
        </p:spPr>
      </p:pic>
      <p:pic>
        <p:nvPicPr>
          <p:cNvPr id="3910" name="" descr=""/>
          <p:cNvPicPr/>
          <p:nvPr/>
        </p:nvPicPr>
        <p:blipFill>
          <a:blip r:embed="rId2"/>
          <a:stretch/>
        </p:blipFill>
        <p:spPr>
          <a:xfrm>
            <a:off x="6299280" y="1219320"/>
            <a:ext cx="3768480" cy="3965400"/>
          </a:xfrm>
          <a:prstGeom prst="rect">
            <a:avLst/>
          </a:prstGeom>
          <a:ln w="0">
            <a:noFill/>
          </a:ln>
        </p:spPr>
      </p:pic>
      <p:sp>
        <p:nvSpPr>
          <p:cNvPr id="3911" name=""/>
          <p:cNvSpPr/>
          <p:nvPr/>
        </p:nvSpPr>
        <p:spPr>
          <a:xfrm>
            <a:off x="6750000" y="5283360"/>
            <a:ext cx="296064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ebster's Dictionar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2" name=""/>
          <p:cNvSpPr/>
          <p:nvPr/>
        </p:nvSpPr>
        <p:spPr>
          <a:xfrm>
            <a:off x="2381400" y="5384880"/>
            <a:ext cx="296064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ubster's Dictionar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3" name=""/>
          <p:cNvSpPr/>
          <p:nvPr/>
        </p:nvSpPr>
        <p:spPr>
          <a:xfrm>
            <a:off x="146160" y="3454560"/>
            <a:ext cx="159372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"spam"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4" name=""/>
          <p:cNvSpPr/>
          <p:nvPr/>
        </p:nvSpPr>
        <p:spPr>
          <a:xfrm>
            <a:off x="1365120" y="6908760"/>
            <a:ext cx="753912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What </a:t>
            </a:r>
            <a:r>
              <a:rPr b="1" i="1" lang="en-US" sz="2700" spc="-1" strike="noStrike">
                <a:solidFill>
                  <a:srgbClr val="0000ff"/>
                </a:solidFill>
                <a:latin typeface="Arial"/>
              </a:rPr>
              <a:t>algorithm </a:t>
            </a: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do we use to find "spam"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Linear Search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6" name="PlaceHolder 2"/>
          <p:cNvSpPr>
            <a:spLocks noGrp="1"/>
          </p:cNvSpPr>
          <p:nvPr>
            <p:ph/>
          </p:nvPr>
        </p:nvSpPr>
        <p:spPr>
          <a:xfrm>
            <a:off x="250560" y="1195560"/>
            <a:ext cx="9677160" cy="15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rt at the first word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"Is this the word we want?"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it's not, go to the next word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7" name=""/>
          <p:cNvSpPr/>
          <p:nvPr/>
        </p:nvSpPr>
        <p:spPr>
          <a:xfrm>
            <a:off x="5429160" y="3149640"/>
            <a:ext cx="428328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ow many words did we have to look at before we got to the right on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8" name=""/>
          <p:cNvSpPr/>
          <p:nvPr/>
        </p:nvSpPr>
        <p:spPr>
          <a:xfrm flipV="1">
            <a:off x="4375080" y="3257640"/>
            <a:ext cx="700200" cy="2309760"/>
          </a:xfrm>
          <a:custGeom>
            <a:avLst/>
            <a:gdLst/>
            <a:ahLst/>
            <a:rect l="l" t="t" r="r" b="b"/>
            <a:pathLst>
              <a:path w="22715" h="21600">
                <a:moveTo>
                  <a:pt x="6165" y="21600"/>
                </a:moveTo>
                <a:lnTo>
                  <a:pt x="6165" y="11173"/>
                </a:lnTo>
                <a:cubicBezTo>
                  <a:pt x="6165" y="11173"/>
                  <a:pt x="1031" y="11188"/>
                  <a:pt x="985" y="11173"/>
                </a:cubicBezTo>
                <a:cubicBezTo>
                  <a:pt x="0" y="11173"/>
                  <a:pt x="995" y="10190"/>
                  <a:pt x="995" y="10190"/>
                </a:cubicBezTo>
                <a:lnTo>
                  <a:pt x="11345" y="0"/>
                </a:lnTo>
                <a:cubicBezTo>
                  <a:pt x="11345" y="0"/>
                  <a:pt x="21669" y="10187"/>
                  <a:pt x="21691" y="10187"/>
                </a:cubicBezTo>
                <a:cubicBezTo>
                  <a:pt x="22715" y="11337"/>
                  <a:pt x="21705" y="11173"/>
                  <a:pt x="21705" y="11173"/>
                </a:cubicBezTo>
                <a:lnTo>
                  <a:pt x="16526" y="11173"/>
                </a:lnTo>
                <a:lnTo>
                  <a:pt x="16526" y="21600"/>
                </a:lnTo>
                <a:lnTo>
                  <a:pt x="6165" y="21600"/>
                </a:lnTo>
                <a:close/>
              </a:path>
            </a:pathLst>
          </a:custGeom>
          <a:solidFill>
            <a:srgbClr val="ffe5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19" name="" descr=""/>
          <p:cNvPicPr/>
          <p:nvPr/>
        </p:nvPicPr>
        <p:blipFill>
          <a:blip r:embed="rId1"/>
          <a:stretch/>
        </p:blipFill>
        <p:spPr>
          <a:xfrm>
            <a:off x="507960" y="2946240"/>
            <a:ext cx="386712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0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Binary Search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1" name="PlaceHolder 2"/>
          <p:cNvSpPr>
            <a:spLocks noGrp="1"/>
          </p:cNvSpPr>
          <p:nvPr>
            <p:ph/>
          </p:nvPr>
        </p:nvSpPr>
        <p:spPr>
          <a:xfrm>
            <a:off x="221760" y="1211040"/>
            <a:ext cx="970308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rt in the middl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"Is this the word we want?"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it's before the word we want, go to the middle of the second half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it's after the word we want, go to the middle of the first half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2" name="" descr=""/>
          <p:cNvPicPr/>
          <p:nvPr/>
        </p:nvPicPr>
        <p:blipFill>
          <a:blip r:embed="rId1"/>
          <a:stretch/>
        </p:blipFill>
        <p:spPr>
          <a:xfrm>
            <a:off x="154080" y="3657600"/>
            <a:ext cx="3768480" cy="39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Binary Search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4" name="PlaceHolder 2"/>
          <p:cNvSpPr>
            <a:spLocks noGrp="1"/>
          </p:cNvSpPr>
          <p:nvPr>
            <p:ph/>
          </p:nvPr>
        </p:nvSpPr>
        <p:spPr>
          <a:xfrm>
            <a:off x="221760" y="1211040"/>
            <a:ext cx="970308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rt in the middl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"Is this the word we want?"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it's before the word we want, go to the middle of the second half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it's after the word we want, go to the middle of the first half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5" name="" descr=""/>
          <p:cNvPicPr/>
          <p:nvPr/>
        </p:nvPicPr>
        <p:blipFill>
          <a:blip r:embed="rId1"/>
          <a:stretch/>
        </p:blipFill>
        <p:spPr>
          <a:xfrm>
            <a:off x="154080" y="3657600"/>
            <a:ext cx="3768480" cy="3965400"/>
          </a:xfrm>
          <a:prstGeom prst="rect">
            <a:avLst/>
          </a:prstGeom>
          <a:ln w="0">
            <a:noFill/>
          </a:ln>
        </p:spPr>
      </p:pic>
      <p:pic>
        <p:nvPicPr>
          <p:cNvPr id="3926" name="" descr=""/>
          <p:cNvPicPr/>
          <p:nvPr/>
        </p:nvPicPr>
        <p:blipFill>
          <a:blip r:embed="rId2"/>
          <a:stretch/>
        </p:blipFill>
        <p:spPr>
          <a:xfrm>
            <a:off x="154080" y="3657600"/>
            <a:ext cx="5638680" cy="39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Binary Search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8" name="PlaceHolder 2"/>
          <p:cNvSpPr>
            <a:spLocks noGrp="1"/>
          </p:cNvSpPr>
          <p:nvPr>
            <p:ph/>
          </p:nvPr>
        </p:nvSpPr>
        <p:spPr>
          <a:xfrm>
            <a:off x="221760" y="1211040"/>
            <a:ext cx="970308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rt in the middl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"Is this the word we want?"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it's before the word we want, go to the middle of the second half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it's after the word we want, go to the middle of the first half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9" name="" descr=""/>
          <p:cNvPicPr/>
          <p:nvPr/>
        </p:nvPicPr>
        <p:blipFill>
          <a:blip r:embed="rId1"/>
          <a:stretch/>
        </p:blipFill>
        <p:spPr>
          <a:xfrm>
            <a:off x="154080" y="3657600"/>
            <a:ext cx="3768480" cy="3965400"/>
          </a:xfrm>
          <a:prstGeom prst="rect">
            <a:avLst/>
          </a:prstGeom>
          <a:ln w="0">
            <a:noFill/>
          </a:ln>
        </p:spPr>
      </p:pic>
      <p:pic>
        <p:nvPicPr>
          <p:cNvPr id="3930" name="" descr=""/>
          <p:cNvPicPr/>
          <p:nvPr/>
        </p:nvPicPr>
        <p:blipFill>
          <a:blip r:embed="rId2"/>
          <a:stretch/>
        </p:blipFill>
        <p:spPr>
          <a:xfrm>
            <a:off x="154080" y="3657600"/>
            <a:ext cx="5638680" cy="3965400"/>
          </a:xfrm>
          <a:prstGeom prst="rect">
            <a:avLst/>
          </a:prstGeom>
          <a:ln w="0">
            <a:noFill/>
          </a:ln>
        </p:spPr>
      </p:pic>
      <p:pic>
        <p:nvPicPr>
          <p:cNvPr id="3931" name="" descr=""/>
          <p:cNvPicPr/>
          <p:nvPr/>
        </p:nvPicPr>
        <p:blipFill>
          <a:blip r:embed="rId3"/>
          <a:stretch/>
        </p:blipFill>
        <p:spPr>
          <a:xfrm>
            <a:off x="154080" y="3657600"/>
            <a:ext cx="4759200" cy="39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2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Binary Search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3" name="PlaceHolder 2"/>
          <p:cNvSpPr>
            <a:spLocks noGrp="1"/>
          </p:cNvSpPr>
          <p:nvPr>
            <p:ph/>
          </p:nvPr>
        </p:nvSpPr>
        <p:spPr>
          <a:xfrm>
            <a:off x="221760" y="1211040"/>
            <a:ext cx="970308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rt in the middl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"Is this the word we want?"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it's before the word we want, go to the middle of the second half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it's after the word we want, go to the middle of the first half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4" name="" descr=""/>
          <p:cNvPicPr/>
          <p:nvPr/>
        </p:nvPicPr>
        <p:blipFill>
          <a:blip r:embed="rId1"/>
          <a:stretch/>
        </p:blipFill>
        <p:spPr>
          <a:xfrm>
            <a:off x="154080" y="3657600"/>
            <a:ext cx="3768480" cy="3965400"/>
          </a:xfrm>
          <a:prstGeom prst="rect">
            <a:avLst/>
          </a:prstGeom>
          <a:ln w="0">
            <a:noFill/>
          </a:ln>
        </p:spPr>
      </p:pic>
      <p:pic>
        <p:nvPicPr>
          <p:cNvPr id="3935" name="" descr=""/>
          <p:cNvPicPr/>
          <p:nvPr/>
        </p:nvPicPr>
        <p:blipFill>
          <a:blip r:embed="rId2"/>
          <a:stretch/>
        </p:blipFill>
        <p:spPr>
          <a:xfrm>
            <a:off x="154080" y="3657600"/>
            <a:ext cx="5638680" cy="3965400"/>
          </a:xfrm>
          <a:prstGeom prst="rect">
            <a:avLst/>
          </a:prstGeom>
          <a:ln w="0">
            <a:noFill/>
          </a:ln>
        </p:spPr>
      </p:pic>
      <p:pic>
        <p:nvPicPr>
          <p:cNvPr id="3936" name="" descr=""/>
          <p:cNvPicPr/>
          <p:nvPr/>
        </p:nvPicPr>
        <p:blipFill>
          <a:blip r:embed="rId3"/>
          <a:stretch/>
        </p:blipFill>
        <p:spPr>
          <a:xfrm>
            <a:off x="154080" y="3657600"/>
            <a:ext cx="4759200" cy="3965400"/>
          </a:xfrm>
          <a:prstGeom prst="rect">
            <a:avLst/>
          </a:prstGeom>
          <a:ln w="0">
            <a:noFill/>
          </a:ln>
        </p:spPr>
      </p:pic>
      <p:pic>
        <p:nvPicPr>
          <p:cNvPr id="3937" name="" descr=""/>
          <p:cNvPicPr/>
          <p:nvPr/>
        </p:nvPicPr>
        <p:blipFill>
          <a:blip r:embed="rId4"/>
          <a:stretch/>
        </p:blipFill>
        <p:spPr>
          <a:xfrm>
            <a:off x="154080" y="3657600"/>
            <a:ext cx="4208400" cy="39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Binary Search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9" name="PlaceHolder 2"/>
          <p:cNvSpPr>
            <a:spLocks noGrp="1"/>
          </p:cNvSpPr>
          <p:nvPr>
            <p:ph/>
          </p:nvPr>
        </p:nvSpPr>
        <p:spPr>
          <a:xfrm>
            <a:off x="221760" y="1211040"/>
            <a:ext cx="970308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rt in the middl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"Is this the word we want?"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it's before the word we want, go to the middle of the second half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it's after the word we want, go to the middle of the first half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0" name="" descr=""/>
          <p:cNvPicPr/>
          <p:nvPr/>
        </p:nvPicPr>
        <p:blipFill>
          <a:blip r:embed="rId1"/>
          <a:stretch/>
        </p:blipFill>
        <p:spPr>
          <a:xfrm>
            <a:off x="154080" y="3657600"/>
            <a:ext cx="3768480" cy="3965400"/>
          </a:xfrm>
          <a:prstGeom prst="rect">
            <a:avLst/>
          </a:prstGeom>
          <a:ln w="0">
            <a:noFill/>
          </a:ln>
        </p:spPr>
      </p:pic>
      <p:pic>
        <p:nvPicPr>
          <p:cNvPr id="3941" name="" descr=""/>
          <p:cNvPicPr/>
          <p:nvPr/>
        </p:nvPicPr>
        <p:blipFill>
          <a:blip r:embed="rId2"/>
          <a:stretch/>
        </p:blipFill>
        <p:spPr>
          <a:xfrm>
            <a:off x="154080" y="3657600"/>
            <a:ext cx="5638680" cy="3965400"/>
          </a:xfrm>
          <a:prstGeom prst="rect">
            <a:avLst/>
          </a:prstGeom>
          <a:ln w="0">
            <a:noFill/>
          </a:ln>
        </p:spPr>
      </p:pic>
      <p:pic>
        <p:nvPicPr>
          <p:cNvPr id="3942" name="" descr=""/>
          <p:cNvPicPr/>
          <p:nvPr/>
        </p:nvPicPr>
        <p:blipFill>
          <a:blip r:embed="rId3"/>
          <a:stretch/>
        </p:blipFill>
        <p:spPr>
          <a:xfrm>
            <a:off x="154080" y="3657600"/>
            <a:ext cx="4759200" cy="3965400"/>
          </a:xfrm>
          <a:prstGeom prst="rect">
            <a:avLst/>
          </a:prstGeom>
          <a:ln w="0">
            <a:noFill/>
          </a:ln>
        </p:spPr>
      </p:pic>
      <p:pic>
        <p:nvPicPr>
          <p:cNvPr id="3943" name="" descr=""/>
          <p:cNvPicPr/>
          <p:nvPr/>
        </p:nvPicPr>
        <p:blipFill>
          <a:blip r:embed="rId4"/>
          <a:stretch/>
        </p:blipFill>
        <p:spPr>
          <a:xfrm>
            <a:off x="154080" y="3657600"/>
            <a:ext cx="4208400" cy="3965400"/>
          </a:xfrm>
          <a:prstGeom prst="rect">
            <a:avLst/>
          </a:prstGeom>
          <a:ln w="0">
            <a:noFill/>
          </a:ln>
        </p:spPr>
      </p:pic>
      <p:pic>
        <p:nvPicPr>
          <p:cNvPr id="3944" name="" descr=""/>
          <p:cNvPicPr/>
          <p:nvPr/>
        </p:nvPicPr>
        <p:blipFill>
          <a:blip r:embed="rId5"/>
          <a:stretch/>
        </p:blipFill>
        <p:spPr>
          <a:xfrm>
            <a:off x="154080" y="3657600"/>
            <a:ext cx="4098960" cy="3965400"/>
          </a:xfrm>
          <a:prstGeom prst="rect">
            <a:avLst/>
          </a:prstGeom>
          <a:ln w="0">
            <a:noFill/>
          </a:ln>
        </p:spPr>
      </p:pic>
      <p:sp>
        <p:nvSpPr>
          <p:cNvPr id="3945" name=""/>
          <p:cNvSpPr/>
          <p:nvPr/>
        </p:nvSpPr>
        <p:spPr>
          <a:xfrm>
            <a:off x="5835600" y="6502320"/>
            <a:ext cx="4170240" cy="8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ff"/>
                </a:solidFill>
                <a:latin typeface="Arial"/>
              </a:rPr>
              <a:t>If the dictionary had 100 words in it, how many words did we have to look at before we got to the right one?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6" name=""/>
          <p:cNvSpPr/>
          <p:nvPr/>
        </p:nvSpPr>
        <p:spPr>
          <a:xfrm>
            <a:off x="5632560" y="3860640"/>
            <a:ext cx="4170240" cy="5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s this 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binary searching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going to be better than </a:t>
            </a:r>
            <a:r>
              <a:rPr b="0" lang="en-US" sz="1900" spc="-1" strike="noStrike">
                <a:solidFill>
                  <a:srgbClr val="00ff00"/>
                </a:solidFill>
                <a:latin typeface="Arial"/>
              </a:rPr>
              <a:t>linear searching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Linear vs. Binary Search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8" name="PlaceHolder 2"/>
          <p:cNvSpPr>
            <a:spLocks noGrp="1"/>
          </p:cNvSpPr>
          <p:nvPr>
            <p:ph/>
          </p:nvPr>
        </p:nvSpPr>
        <p:spPr>
          <a:xfrm>
            <a:off x="1162080" y="1726920"/>
            <a:ext cx="8074080" cy="53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a large amount of </a:t>
            </a:r>
            <a:r>
              <a:rPr b="1" i="1" lang="en-US" sz="2700" spc="-1" strike="noStrike">
                <a:solidFill>
                  <a:srgbClr val="0000ff"/>
                </a:solidFill>
                <a:latin typeface="Arial"/>
              </a:rPr>
              <a:t>sorted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data, binary search is almost always more efficient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1" i="1" lang="en-US" sz="2700" spc="-1" strike="noStrike">
                <a:solidFill>
                  <a:srgbClr val="ff0000"/>
                </a:solidFill>
                <a:latin typeface="Arial"/>
              </a:rPr>
              <a:t>how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do we get our data sorted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orting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0" name="PlaceHolder 2"/>
          <p:cNvSpPr>
            <a:spLocks noGrp="1"/>
          </p:cNvSpPr>
          <p:nvPr>
            <p:ph/>
          </p:nvPr>
        </p:nvSpPr>
        <p:spPr>
          <a:xfrm>
            <a:off x="2396880" y="3106440"/>
            <a:ext cx="536580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hallenge: Sort a list of numbers in increasing order using as few comparisons at possibl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1" name="" descr=""/>
          <p:cNvPicPr/>
          <p:nvPr/>
        </p:nvPicPr>
        <p:blipFill>
          <a:blip r:embed="rId1"/>
          <a:stretch/>
        </p:blipFill>
        <p:spPr>
          <a:xfrm>
            <a:off x="7416720" y="5689440"/>
            <a:ext cx="2641680" cy="18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2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Let's sort!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7680" y="304560"/>
            <a:ext cx="966456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roblem solving </a:t>
            </a:r>
            <a:r>
              <a:rPr b="0" i="1" lang="en-US" sz="43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124600" y="1422360"/>
            <a:ext cx="4603680" cy="55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1) experiment / understan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to start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what's the goal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y a strategy... and/or an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y smaller pie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2) describe a pl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st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xt step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9900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ff"/>
                </a:solidFill>
                <a:latin typeface="Arial"/>
              </a:rPr>
              <a:t>are there choices?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so, how do you handle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3) test your plan (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execute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t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 through the steps in your 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4) reflect / evalua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es it work in this cas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uld it always work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274e13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74e13"/>
                </a:solidFill>
                <a:latin typeface="Arial"/>
              </a:rPr>
              <a:t>what are hard or easy case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274e13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74e13"/>
                </a:solidFill>
                <a:latin typeface="Arial"/>
              </a:rPr>
              <a:t>what are the applications of thi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04920" y="1625760"/>
            <a:ext cx="4518000" cy="45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3" name="" descr=""/>
          <p:cNvPicPr/>
          <p:nvPr/>
        </p:nvPicPr>
        <p:blipFill>
          <a:blip r:embed="rId1"/>
          <a:stretch/>
        </p:blipFill>
        <p:spPr>
          <a:xfrm>
            <a:off x="1625760" y="2438280"/>
            <a:ext cx="6375240" cy="4132440"/>
          </a:xfrm>
          <a:prstGeom prst="rect">
            <a:avLst/>
          </a:prstGeom>
          <a:ln w="0">
            <a:noFill/>
          </a:ln>
        </p:spPr>
      </p:pic>
      <p:sp>
        <p:nvSpPr>
          <p:cNvPr id="3954" name="PlaceHolder 1"/>
          <p:cNvSpPr>
            <a:spLocks noGrp="1"/>
          </p:cNvSpPr>
          <p:nvPr>
            <p:ph/>
          </p:nvPr>
        </p:nvSpPr>
        <p:spPr>
          <a:xfrm>
            <a:off x="247680" y="1422000"/>
            <a:ext cx="9663120" cy="596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ut your blinders on!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e can only compare two elements at a tim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mputer's can't tell when a list is sorted "by inspection" like we can. They need a concrete set of conditions that lets them know that a list is sorted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5" name="PlaceHolder 2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hinking Like A Computer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Binary vs. linear sorting ?!?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7" name="PlaceHolder 2"/>
          <p:cNvSpPr>
            <a:spLocks noGrp="1"/>
          </p:cNvSpPr>
          <p:nvPr>
            <p:ph/>
          </p:nvPr>
        </p:nvSpPr>
        <p:spPr>
          <a:xfrm>
            <a:off x="1161720" y="1725480"/>
            <a:ext cx="7899480" cy="49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et's try two sorting strategies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1) "Minsort"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2) "Mergesort"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e'll keep track of the number of comparison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top!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9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hoto Op!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60" name="" descr=""/>
          <p:cNvPicPr/>
          <p:nvPr/>
        </p:nvPicPr>
        <p:blipFill>
          <a:blip r:embed="rId1"/>
          <a:stretch/>
        </p:blipFill>
        <p:spPr>
          <a:xfrm>
            <a:off x="3149640" y="914400"/>
            <a:ext cx="5889600" cy="58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Binary vs. linear sorting ?!?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2" name="PlaceHolder 2"/>
          <p:cNvSpPr>
            <a:spLocks noGrp="1"/>
          </p:cNvSpPr>
          <p:nvPr>
            <p:ph/>
          </p:nvPr>
        </p:nvSpPr>
        <p:spPr>
          <a:xfrm>
            <a:off x="1161720" y="1725480"/>
            <a:ext cx="7899480" cy="49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ow did they compar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1) "Minsort"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2) "Mergesort"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ow does this relate to dictionary-searching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ECS sorting materia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4" name="PlaceHolder 2"/>
          <p:cNvSpPr>
            <a:spLocks noGrp="1"/>
          </p:cNvSpPr>
          <p:nvPr>
            <p:ph/>
          </p:nvPr>
        </p:nvSpPr>
        <p:spPr>
          <a:xfrm>
            <a:off x="654120" y="2235240"/>
            <a:ext cx="3387600" cy="15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5" name=""/>
          <p:cNvSpPr/>
          <p:nvPr/>
        </p:nvSpPr>
        <p:spPr>
          <a:xfrm>
            <a:off x="5327640" y="3048120"/>
            <a:ext cx="4417920" cy="23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insort/maxsor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bble sor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erge sor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quick sor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ifferent sorting algorithm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7" name="PlaceHolder 2"/>
          <p:cNvSpPr>
            <a:spLocks noGrp="1"/>
          </p:cNvSpPr>
          <p:nvPr>
            <p:ph/>
          </p:nvPr>
        </p:nvSpPr>
        <p:spPr>
          <a:xfrm>
            <a:off x="1161720" y="1727280"/>
            <a:ext cx="7767720" cy="52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insort/maxsor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bble sor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erge sor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quick sor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ich of these do you think is the fastest (requires the least comparisons)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Minsor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9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vague, handwavey idea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arch for the first element, then the second, and so on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0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Minsor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1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mpare elements pairwise and find the minimum element in the list. Remove this element from the unsorted list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lace this element at the end of the sorted list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peat to find the second, third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e know we are finished when there are no elements in the unsorted list. (This means all of the elements are sorted, in the other list!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2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Minsor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3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et's try it!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ow many comparisons did minsort tak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Bubble Sor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vague, handwavey idea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ort the entire list at once by switching elements if we notice them out of order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560"/>
            <a:ext cx="966456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roblem solving </a:t>
            </a:r>
            <a:r>
              <a:rPr b="0" i="1" lang="en-US" sz="43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70040" y="7010280"/>
            <a:ext cx="68277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at is the </a:t>
            </a: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path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rom the ring to the G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990880" y="6502320"/>
            <a:ext cx="406728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"rook-jumping maze"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521080" y="1365120"/>
            <a:ext cx="5118120" cy="48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Bubble Sor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mpare each set of adjacent element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we find two elements that are "out of order", swap the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peat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e know</a:t>
            </a: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e are finished when there are no elements "out of order"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Bubble Sor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9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et's try it!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ow many comparisons did bubble sort tak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0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Merge Sor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1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an we sort faster than thi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en we have two lists that are already sorted, making one larger sorted list from them is </a:t>
            </a: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very easy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2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Merge Sor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3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 merge two sorted lists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mpare the first element of each list, and remove the lesser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s element should be the first element of the sorted list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       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peat to find the second, third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en there are no elements in one of the lists, we can simply append the other list to the sorted list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4" name="PlaceHolder 1"/>
          <p:cNvSpPr>
            <a:spLocks noGrp="1"/>
          </p:cNvSpPr>
          <p:nvPr>
            <p:ph type="title"/>
          </p:nvPr>
        </p:nvSpPr>
        <p:spPr>
          <a:xfrm>
            <a:off x="258840" y="293400"/>
            <a:ext cx="958536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Merge Sor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plit the list in half(ish) again and again until you have a bunch of lists of one element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ne element lists a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already sorted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erge these one-element sorted lists to get two-element sorted list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erge the two-element sorted lists to get four-element sorted lists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nd so on, until all of your lists have been merged into one big sorted list!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6" name="PlaceHolder 1"/>
          <p:cNvSpPr>
            <a:spLocks noGrp="1"/>
          </p:cNvSpPr>
          <p:nvPr>
            <p:ph type="title"/>
          </p:nvPr>
        </p:nvSpPr>
        <p:spPr>
          <a:xfrm>
            <a:off x="258840" y="293400"/>
            <a:ext cx="958536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Merge Sor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et's try it!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ow many comparisons did merge sort tak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Quick Sor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9" name="PlaceHolder 2"/>
          <p:cNvSpPr>
            <a:spLocks noGrp="1"/>
          </p:cNvSpPr>
          <p:nvPr>
            <p:ph/>
          </p:nvPr>
        </p:nvSpPr>
        <p:spPr>
          <a:xfrm>
            <a:off x="552240" y="1523880"/>
            <a:ext cx="8988120" cy="39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ick an element in the list. (Any element will do.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"Weirdo"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mpare each element in the list to the Weirdo.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the element is greater than the Weirdo, put it to the Weirdo's right.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it's less than the Weirdo, put it to the Weirdo's left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e now have two smaller unsorted lists!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ort the smaller list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ow? Using quick sort!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0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orting CSUnplugged Vide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1" name="" descr=""/>
          <p:cNvPicPr/>
          <p:nvPr/>
        </p:nvPicPr>
        <p:blipFill>
          <a:blip r:embed="rId1"/>
          <a:stretch/>
        </p:blipFill>
        <p:spPr>
          <a:xfrm>
            <a:off x="2336760" y="1422360"/>
            <a:ext cx="4064040" cy="3048120"/>
          </a:xfrm>
          <a:prstGeom prst="rect">
            <a:avLst/>
          </a:prstGeom>
          <a:ln w="0">
            <a:noFill/>
          </a:ln>
        </p:spPr>
      </p:pic>
      <p:sp>
        <p:nvSpPr>
          <p:cNvPr id="3992" name=""/>
          <p:cNvSpPr/>
          <p:nvPr/>
        </p:nvSpPr>
        <p:spPr>
          <a:xfrm>
            <a:off x="561960" y="4676760"/>
            <a:ext cx="9420120" cy="19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ich sorting algorithm is your favorite? Why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View animations of different sorting algorithms here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ttp://commons.wikimedia.org/wiki/Category:Animations_of_sort_algorithm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ff"/>
                </a:solidFill>
                <a:latin typeface="Arial"/>
              </a:rPr>
              <a:t>Mudd</a:t>
            </a: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y City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4" name="PlaceHolder 2"/>
          <p:cNvSpPr>
            <a:spLocks noGrp="1"/>
          </p:cNvSpPr>
          <p:nvPr>
            <p:ph/>
          </p:nvPr>
        </p:nvSpPr>
        <p:spPr>
          <a:xfrm>
            <a:off x="252360" y="1112760"/>
            <a:ext cx="799776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Muddy City Activity from CS Unplugg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5" name="" descr=""/>
          <p:cNvPicPr/>
          <p:nvPr/>
        </p:nvPicPr>
        <p:blipFill>
          <a:blip r:embed="rId1"/>
          <a:stretch/>
        </p:blipFill>
        <p:spPr>
          <a:xfrm>
            <a:off x="914400" y="1930320"/>
            <a:ext cx="8174160" cy="49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6" name="PlaceHolder 1"/>
          <p:cNvSpPr>
            <a:spLocks noGrp="1"/>
          </p:cNvSpPr>
          <p:nvPr>
            <p:ph/>
          </p:nvPr>
        </p:nvSpPr>
        <p:spPr>
          <a:xfrm>
            <a:off x="254160" y="1123560"/>
            <a:ext cx="8400960" cy="6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Muddy City Activity from CS Unplugg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7" name="" descr=""/>
          <p:cNvPicPr/>
          <p:nvPr/>
        </p:nvPicPr>
        <p:blipFill>
          <a:blip r:embed="rId1"/>
          <a:stretch/>
        </p:blipFill>
        <p:spPr>
          <a:xfrm>
            <a:off x="5472000" y="4761000"/>
            <a:ext cx="3575160" cy="2611440"/>
          </a:xfrm>
          <a:prstGeom prst="rect">
            <a:avLst/>
          </a:prstGeom>
          <a:ln w="0">
            <a:noFill/>
          </a:ln>
        </p:spPr>
      </p:pic>
      <p:sp>
        <p:nvSpPr>
          <p:cNvPr id="3998" name=""/>
          <p:cNvSpPr/>
          <p:nvPr/>
        </p:nvSpPr>
        <p:spPr>
          <a:xfrm>
            <a:off x="654120" y="1828800"/>
            <a:ext cx="9280440" cy="27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1) Complete page one of the activity, then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2) with your elbow partner, discuss the following points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at strategies did you use to solve the problem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escribe the algorithm (process) that you used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ould your strategy work for another city?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Why or why not?)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r any city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9" name="PlaceHolder 2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55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ff"/>
                </a:solidFill>
                <a:latin typeface="Arial"/>
              </a:rPr>
              <a:t>Mudd</a:t>
            </a: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y City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560"/>
            <a:ext cx="966456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roblem solving </a:t>
            </a:r>
            <a:r>
              <a:rPr b="0" i="1" lang="en-US" sz="43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6807240"/>
            <a:ext cx="370512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at is the </a:t>
            </a: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path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03040" y="1625760"/>
            <a:ext cx="5118120" cy="48895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327640" y="1574640"/>
            <a:ext cx="4603680" cy="55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1) experiment / understan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to start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what's the goal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y a strategy... and/or an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y smaller pie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2) describe a pl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st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xt step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9900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ff"/>
                </a:solidFill>
                <a:latin typeface="Arial"/>
              </a:rPr>
              <a:t>are there choices?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so, how do you handle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3) test your plan (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execute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t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 through the steps in your 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4) reflect / evalua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es it work in this cas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uld it always work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274e13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74e13"/>
                </a:solidFill>
                <a:latin typeface="Arial"/>
              </a:rPr>
              <a:t>what are hard or easy case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274e13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74e13"/>
                </a:solidFill>
                <a:latin typeface="Arial"/>
              </a:rPr>
              <a:t>what are the applications of thi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0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Graph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1" name="PlaceHolder 2"/>
          <p:cNvSpPr>
            <a:spLocks noGrp="1"/>
          </p:cNvSpPr>
          <p:nvPr>
            <p:ph/>
          </p:nvPr>
        </p:nvSpPr>
        <p:spPr>
          <a:xfrm>
            <a:off x="146160" y="1015560"/>
            <a:ext cx="9664560" cy="54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s we saw, we can also represent the city as a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graph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, like this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2" name=""/>
          <p:cNvSpPr/>
          <p:nvPr/>
        </p:nvSpPr>
        <p:spPr>
          <a:xfrm>
            <a:off x="154080" y="6197760"/>
            <a:ext cx="956448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dots are called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vertice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(singular- vertex) and the lines are called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edge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03" name="" descr=""/>
          <p:cNvPicPr/>
          <p:nvPr/>
        </p:nvPicPr>
        <p:blipFill>
          <a:blip r:embed="rId1"/>
          <a:stretch/>
        </p:blipFill>
        <p:spPr>
          <a:xfrm>
            <a:off x="1522440" y="1503360"/>
            <a:ext cx="679932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hat is your solution?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5" name="PlaceHolder 2"/>
          <p:cNvSpPr>
            <a:spLocks noGrp="1"/>
          </p:cNvSpPr>
          <p:nvPr>
            <p:ph/>
          </p:nvPr>
        </p:nvSpPr>
        <p:spPr>
          <a:xfrm>
            <a:off x="146160" y="6603840"/>
            <a:ext cx="9564480" cy="8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n the board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06" name="" descr=""/>
          <p:cNvPicPr/>
          <p:nvPr/>
        </p:nvPicPr>
        <p:blipFill>
          <a:blip r:embed="rId1"/>
          <a:stretch/>
        </p:blipFill>
        <p:spPr>
          <a:xfrm>
            <a:off x="1522440" y="1503360"/>
            <a:ext cx="679932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Graph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8" name="PlaceHolder 2"/>
          <p:cNvSpPr>
            <a:spLocks noGrp="1"/>
          </p:cNvSpPr>
          <p:nvPr>
            <p:ph/>
          </p:nvPr>
        </p:nvSpPr>
        <p:spPr>
          <a:xfrm>
            <a:off x="155520" y="1103400"/>
            <a:ext cx="977760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ce the edges have numbers associated with them, this is called a weighted graph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9" name=""/>
          <p:cNvSpPr/>
          <p:nvPr/>
        </p:nvSpPr>
        <p:spPr>
          <a:xfrm>
            <a:off x="146160" y="2133720"/>
            <a:ext cx="5194080" cy="50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solution to the muddy city problem is called a </a:t>
            </a:r>
            <a:r>
              <a:rPr b="0" lang="en-US" sz="2700" spc="-1" strike="noStrike">
                <a:solidFill>
                  <a:srgbClr val="674ea7"/>
                </a:solidFill>
                <a:latin typeface="Arial"/>
              </a:rPr>
              <a:t>minimum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spanning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38761d"/>
                </a:solidFill>
                <a:latin typeface="Arial"/>
              </a:rPr>
              <a:t>tre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1" lang="en-US" sz="2700" spc="-1" strike="noStrike">
                <a:solidFill>
                  <a:srgbClr val="0000ff"/>
                </a:solidFill>
                <a:latin typeface="Arial"/>
              </a:rPr>
              <a:t>spanning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because it includes all of the vertic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t is a </a:t>
            </a:r>
            <a:r>
              <a:rPr b="1" lang="en-US" sz="2700" spc="-1" strike="noStrike">
                <a:solidFill>
                  <a:srgbClr val="38761d"/>
                </a:solidFill>
                <a:latin typeface="Arial"/>
              </a:rPr>
              <a:t>tree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because there is a unique path connecting every pair of vertic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1" lang="en-US" sz="2700" spc="-1" strike="noStrike">
                <a:solidFill>
                  <a:srgbClr val="674ea7"/>
                </a:solidFill>
                <a:latin typeface="Arial"/>
              </a:rPr>
              <a:t>minimum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because no other </a:t>
            </a: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spanning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6aa84f"/>
                </a:solidFill>
                <a:latin typeface="Arial"/>
              </a:rPr>
              <a:t>tree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"costs" les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0" name=""/>
          <p:cNvSpPr/>
          <p:nvPr/>
        </p:nvSpPr>
        <p:spPr>
          <a:xfrm>
            <a:off x="5632560" y="5689440"/>
            <a:ext cx="431460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Is this minimum spanning tree uniqu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11" name="" descr=""/>
          <p:cNvPicPr/>
          <p:nvPr/>
        </p:nvPicPr>
        <p:blipFill>
          <a:blip r:embed="rId1"/>
          <a:stretch/>
        </p:blipFill>
        <p:spPr>
          <a:xfrm>
            <a:off x="5689440" y="2438280"/>
            <a:ext cx="396720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2" name="PlaceHolder 1"/>
          <p:cNvSpPr>
            <a:spLocks noGrp="1"/>
          </p:cNvSpPr>
          <p:nvPr>
            <p:ph type="title"/>
          </p:nvPr>
        </p:nvSpPr>
        <p:spPr>
          <a:xfrm>
            <a:off x="236520" y="293760"/>
            <a:ext cx="96566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hy are there multiple solutions? 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3" name=""/>
          <p:cNvSpPr/>
          <p:nvPr/>
        </p:nvSpPr>
        <p:spPr>
          <a:xfrm flipV="1">
            <a:off x="5477040" y="3733200"/>
            <a:ext cx="819000" cy="817560"/>
          </a:xfrm>
          <a:custGeom>
            <a:avLst/>
            <a:gdLst/>
            <a:ahLst/>
            <a:rect l="l" t="t" r="r" b="b"/>
            <a:pathLst>
              <a:path w="21600" h="21610">
                <a:moveTo>
                  <a:pt x="0" y="13297"/>
                </a:moveTo>
                <a:lnTo>
                  <a:pt x="8352" y="4944"/>
                </a:lnTo>
                <a:cubicBezTo>
                  <a:pt x="8352" y="4944"/>
                  <a:pt x="4221" y="838"/>
                  <a:pt x="4196" y="789"/>
                </a:cubicBezTo>
                <a:cubicBezTo>
                  <a:pt x="3405" y="0"/>
                  <a:pt x="4992" y="10"/>
                  <a:pt x="4992" y="10"/>
                </a:cubicBezTo>
                <a:lnTo>
                  <a:pt x="21460" y="151"/>
                </a:lnTo>
                <a:cubicBezTo>
                  <a:pt x="21460" y="151"/>
                  <a:pt x="21582" y="16594"/>
                  <a:pt x="21600" y="16611"/>
                </a:cubicBezTo>
                <a:cubicBezTo>
                  <a:pt x="21501" y="18354"/>
                  <a:pt x="20821" y="17412"/>
                  <a:pt x="20821" y="17412"/>
                </a:cubicBezTo>
                <a:lnTo>
                  <a:pt x="16665" y="13257"/>
                </a:lnTo>
                <a:lnTo>
                  <a:pt x="8312" y="21610"/>
                </a:lnTo>
                <a:lnTo>
                  <a:pt x="0" y="1329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4" name=""/>
          <p:cNvSpPr/>
          <p:nvPr/>
        </p:nvSpPr>
        <p:spPr>
          <a:xfrm flipH="1" flipV="1">
            <a:off x="3456720" y="3660120"/>
            <a:ext cx="870120" cy="871560"/>
          </a:xfrm>
          <a:custGeom>
            <a:avLst/>
            <a:gdLst/>
            <a:ahLst/>
            <a:rect l="l" t="t" r="r" b="b"/>
            <a:pathLst>
              <a:path w="21600" h="21610">
                <a:moveTo>
                  <a:pt x="0" y="13297"/>
                </a:moveTo>
                <a:lnTo>
                  <a:pt x="8352" y="4944"/>
                </a:lnTo>
                <a:cubicBezTo>
                  <a:pt x="8352" y="4944"/>
                  <a:pt x="4221" y="838"/>
                  <a:pt x="4196" y="789"/>
                </a:cubicBezTo>
                <a:cubicBezTo>
                  <a:pt x="3405" y="0"/>
                  <a:pt x="4992" y="10"/>
                  <a:pt x="4992" y="10"/>
                </a:cubicBezTo>
                <a:lnTo>
                  <a:pt x="21460" y="151"/>
                </a:lnTo>
                <a:cubicBezTo>
                  <a:pt x="21460" y="151"/>
                  <a:pt x="21582" y="16594"/>
                  <a:pt x="21600" y="16611"/>
                </a:cubicBezTo>
                <a:cubicBezTo>
                  <a:pt x="21501" y="18354"/>
                  <a:pt x="20821" y="17412"/>
                  <a:pt x="20821" y="17412"/>
                </a:cubicBezTo>
                <a:lnTo>
                  <a:pt x="16665" y="13257"/>
                </a:lnTo>
                <a:lnTo>
                  <a:pt x="8312" y="21610"/>
                </a:lnTo>
                <a:lnTo>
                  <a:pt x="0" y="1329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15" name="" descr=""/>
          <p:cNvPicPr/>
          <p:nvPr/>
        </p:nvPicPr>
        <p:blipFill>
          <a:blip r:embed="rId1"/>
          <a:stretch/>
        </p:blipFill>
        <p:spPr>
          <a:xfrm>
            <a:off x="2946240" y="914400"/>
            <a:ext cx="3943440" cy="2838600"/>
          </a:xfrm>
          <a:prstGeom prst="rect">
            <a:avLst/>
          </a:prstGeom>
          <a:ln w="0">
            <a:noFill/>
          </a:ln>
        </p:spPr>
      </p:pic>
      <p:pic>
        <p:nvPicPr>
          <p:cNvPr id="4016" name="" descr=""/>
          <p:cNvPicPr/>
          <p:nvPr/>
        </p:nvPicPr>
        <p:blipFill>
          <a:blip r:embed="rId2"/>
          <a:stretch/>
        </p:blipFill>
        <p:spPr>
          <a:xfrm>
            <a:off x="203040" y="4572000"/>
            <a:ext cx="3967200" cy="2824200"/>
          </a:xfrm>
          <a:prstGeom prst="rect">
            <a:avLst/>
          </a:prstGeom>
          <a:ln w="0">
            <a:noFill/>
          </a:ln>
        </p:spPr>
      </p:pic>
      <p:pic>
        <p:nvPicPr>
          <p:cNvPr id="4017" name="" descr=""/>
          <p:cNvPicPr/>
          <p:nvPr/>
        </p:nvPicPr>
        <p:blipFill>
          <a:blip r:embed="rId3"/>
          <a:stretch/>
        </p:blipFill>
        <p:spPr>
          <a:xfrm>
            <a:off x="5892840" y="4572000"/>
            <a:ext cx="397980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Other problems in graph theory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9" name="PlaceHolder 2"/>
          <p:cNvSpPr>
            <a:spLocks noGrp="1"/>
          </p:cNvSpPr>
          <p:nvPr>
            <p:ph/>
          </p:nvPr>
        </p:nvSpPr>
        <p:spPr>
          <a:xfrm>
            <a:off x="247680" y="1320840"/>
            <a:ext cx="9664560" cy="54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uler's Bridges of 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Königsberg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Can you go for a walk and cross every bridge only once and end up where you started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0" name="" descr=""/>
          <p:cNvPicPr/>
          <p:nvPr/>
        </p:nvPicPr>
        <p:blipFill>
          <a:blip r:embed="rId1"/>
          <a:stretch/>
        </p:blipFill>
        <p:spPr>
          <a:xfrm>
            <a:off x="914400" y="2743200"/>
            <a:ext cx="4119480" cy="3084480"/>
          </a:xfrm>
          <a:prstGeom prst="rect">
            <a:avLst/>
          </a:prstGeom>
          <a:ln w="0">
            <a:noFill/>
          </a:ln>
        </p:spPr>
      </p:pic>
      <p:pic>
        <p:nvPicPr>
          <p:cNvPr id="4021" name="" descr=""/>
          <p:cNvPicPr/>
          <p:nvPr/>
        </p:nvPicPr>
        <p:blipFill>
          <a:blip r:embed="rId2"/>
          <a:stretch/>
        </p:blipFill>
        <p:spPr>
          <a:xfrm>
            <a:off x="5791320" y="2844720"/>
            <a:ext cx="3665520" cy="3041640"/>
          </a:xfrm>
          <a:prstGeom prst="rect">
            <a:avLst/>
          </a:prstGeom>
          <a:ln w="0">
            <a:noFill/>
          </a:ln>
        </p:spPr>
      </p:pic>
      <p:sp>
        <p:nvSpPr>
          <p:cNvPr id="4022" name=""/>
          <p:cNvSpPr/>
          <p:nvPr/>
        </p:nvSpPr>
        <p:spPr>
          <a:xfrm>
            <a:off x="5429160" y="4165560"/>
            <a:ext cx="40320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3" name=""/>
          <p:cNvSpPr/>
          <p:nvPr/>
        </p:nvSpPr>
        <p:spPr>
          <a:xfrm>
            <a:off x="9391680" y="4165560"/>
            <a:ext cx="40320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4" name=""/>
          <p:cNvSpPr/>
          <p:nvPr/>
        </p:nvSpPr>
        <p:spPr>
          <a:xfrm>
            <a:off x="7461360" y="2438280"/>
            <a:ext cx="40320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5" name=""/>
          <p:cNvSpPr/>
          <p:nvPr/>
        </p:nvSpPr>
        <p:spPr>
          <a:xfrm>
            <a:off x="7461360" y="5994360"/>
            <a:ext cx="40320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6" name=""/>
          <p:cNvSpPr/>
          <p:nvPr/>
        </p:nvSpPr>
        <p:spPr>
          <a:xfrm>
            <a:off x="5734080" y="6603840"/>
            <a:ext cx="390528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raph Represent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7" name=""/>
          <p:cNvSpPr/>
          <p:nvPr/>
        </p:nvSpPr>
        <p:spPr>
          <a:xfrm>
            <a:off x="1060560" y="6603840"/>
            <a:ext cx="390528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p Represent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Other problems in graph theory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9" name="PlaceHolder 2"/>
          <p:cNvSpPr>
            <a:spLocks noGrp="1"/>
          </p:cNvSpPr>
          <p:nvPr>
            <p:ph/>
          </p:nvPr>
        </p:nvSpPr>
        <p:spPr>
          <a:xfrm>
            <a:off x="247680" y="1320840"/>
            <a:ext cx="9664560" cy="54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Utilities Problem: Can you connect all three utilities to each of the three houses without any lines crossing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0" name="" descr=""/>
          <p:cNvPicPr/>
          <p:nvPr/>
        </p:nvPicPr>
        <p:blipFill>
          <a:blip r:embed="rId1"/>
          <a:stretch/>
        </p:blipFill>
        <p:spPr>
          <a:xfrm>
            <a:off x="2438280" y="2844720"/>
            <a:ext cx="4240440" cy="41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inal Unit 2 Project   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2" name="PlaceHolder 2"/>
          <p:cNvSpPr>
            <a:spLocks noGrp="1"/>
          </p:cNvSpPr>
          <p:nvPr>
            <p:ph/>
          </p:nvPr>
        </p:nvSpPr>
        <p:spPr>
          <a:xfrm>
            <a:off x="654120" y="1414440"/>
            <a:ext cx="8934480" cy="13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udents collect data about places they visit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udents find the best carpooling route: starting here (the school), visiting their locations, and returning.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e you tomorrow!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4" name="PlaceHolder 2"/>
          <p:cNvSpPr>
            <a:spLocks noGrp="1"/>
          </p:cNvSpPr>
          <p:nvPr>
            <p:ph/>
          </p:nvPr>
        </p:nvSpPr>
        <p:spPr>
          <a:xfrm>
            <a:off x="247320" y="1117440"/>
            <a:ext cx="9658440" cy="638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Unit 1: Human Computer Interac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Unit 2: Problem Solv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nit 3: Web Desig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100" spc="-1" strike="noStrike">
                <a:solidFill>
                  <a:srgbClr val="0b5394"/>
                </a:solidFill>
                <a:latin typeface="Arial"/>
              </a:rPr>
              <a:t>   </a:t>
            </a:r>
            <a:r>
              <a:rPr b="0" lang="en-US" sz="2100" spc="-1" strike="noStrike">
                <a:solidFill>
                  <a:srgbClr val="0b5394"/>
                </a:solidFill>
                <a:latin typeface="Arial"/>
              </a:rPr>
              <a:t>Days 1-2: Web &amp; Societ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b5394"/>
                </a:solidFill>
                <a:latin typeface="Arial"/>
              </a:rPr>
              <a:t>    </a:t>
            </a:r>
            <a:r>
              <a:rPr b="0" lang="en-US" sz="2100" spc="-1" strike="noStrike">
                <a:solidFill>
                  <a:srgbClr val="0b5394"/>
                </a:solidFill>
                <a:latin typeface="Arial"/>
              </a:rPr>
              <a:t>Days 3-4: Basic HTM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b5394"/>
                </a:solidFill>
                <a:latin typeface="Arial"/>
              </a:rPr>
              <a:t>    </a:t>
            </a:r>
            <a:r>
              <a:rPr b="0" lang="en-US" sz="2100" spc="-1" strike="noStrike">
                <a:solidFill>
                  <a:srgbClr val="0b5394"/>
                </a:solidFill>
                <a:latin typeface="Arial"/>
              </a:rPr>
              <a:t>Day 5: HTML Formatt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b5394"/>
                </a:solidFill>
                <a:latin typeface="Arial"/>
              </a:rPr>
              <a:t>    </a:t>
            </a:r>
            <a:r>
              <a:rPr b="0" lang="en-US" sz="2100" spc="-1" strike="noStrike">
                <a:solidFill>
                  <a:srgbClr val="999999"/>
                </a:solidFill>
                <a:latin typeface="Arial"/>
              </a:rPr>
              <a:t>Days 6-7: Image editing for the web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b5394"/>
                </a:solidFill>
                <a:latin typeface="Arial"/>
              </a:rPr>
              <a:t>    </a:t>
            </a:r>
            <a:r>
              <a:rPr b="0" lang="en-US" sz="2100" spc="-1" strike="noStrike">
                <a:solidFill>
                  <a:srgbClr val="0b5394"/>
                </a:solidFill>
                <a:latin typeface="Arial"/>
              </a:rPr>
              <a:t>Days 8-10: Basic CS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b5394"/>
                </a:solidFill>
                <a:latin typeface="Arial"/>
              </a:rPr>
              <a:t>    </a:t>
            </a:r>
            <a:r>
              <a:rPr b="0" lang="en-US" sz="2100" spc="-1" strike="noStrike">
                <a:solidFill>
                  <a:srgbClr val="0b5394"/>
                </a:solidFill>
                <a:latin typeface="Arial"/>
              </a:rPr>
              <a:t>Days 11-13: Style vs structure: HTML &amp; CS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b5394"/>
                </a:solidFill>
                <a:latin typeface="Arial"/>
              </a:rPr>
              <a:t>    </a:t>
            </a:r>
            <a:r>
              <a:rPr b="0" lang="en-US" sz="2100" spc="-1" strike="noStrike">
                <a:solidFill>
                  <a:srgbClr val="0b5394"/>
                </a:solidFill>
                <a:latin typeface="Arial"/>
              </a:rPr>
              <a:t>Day 14: Linking websi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b5394"/>
                </a:solidFill>
                <a:latin typeface="Arial"/>
              </a:rPr>
              <a:t>    </a:t>
            </a:r>
            <a:r>
              <a:rPr b="0" lang="en-US" sz="2100" spc="-1" strike="noStrike">
                <a:solidFill>
                  <a:srgbClr val="0b5394"/>
                </a:solidFill>
                <a:latin typeface="Arial"/>
              </a:rPr>
              <a:t>Days15-16: Page layout styl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b5394"/>
                </a:solidFill>
                <a:latin typeface="Arial"/>
              </a:rPr>
              <a:t>    </a:t>
            </a:r>
            <a:r>
              <a:rPr b="0" lang="en-US" sz="2100" spc="-1" strike="noStrike">
                <a:solidFill>
                  <a:srgbClr val="0b5394"/>
                </a:solidFill>
                <a:latin typeface="Arial"/>
              </a:rPr>
              <a:t>Days 17-19: Practice using design element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b5394"/>
                </a:solidFill>
                <a:latin typeface="Arial"/>
              </a:rPr>
              <a:t>    </a:t>
            </a:r>
            <a:r>
              <a:rPr b="0" lang="en-US" sz="2100" spc="-1" strike="noStrike">
                <a:solidFill>
                  <a:srgbClr val="0b5394"/>
                </a:solidFill>
                <a:latin typeface="Arial"/>
              </a:rPr>
              <a:t>Days 20-21: Enhancements for web desig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b5394"/>
                </a:solidFill>
                <a:latin typeface="Arial"/>
              </a:rPr>
              <a:t>    </a:t>
            </a:r>
            <a:r>
              <a:rPr b="0" lang="en-US" sz="2100" spc="-1" strike="noStrike">
                <a:solidFill>
                  <a:srgbClr val="0b5394"/>
                </a:solidFill>
                <a:latin typeface="Arial"/>
              </a:rPr>
              <a:t>Days 22-25: Final unit project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Unit 4: Introduction to Programm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999999"/>
                </a:solidFill>
                <a:latin typeface="Arial"/>
              </a:rPr>
              <a:t>Unit 5: Computing Applicat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999999"/>
                </a:solidFill>
                <a:latin typeface="Arial"/>
              </a:rPr>
              <a:t>Unit 6: Robotic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560"/>
            <a:ext cx="966456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roblem solving </a:t>
            </a:r>
            <a:r>
              <a:rPr b="1" i="1" lang="en-US" sz="4300" spc="-1" strike="noStrike">
                <a:solidFill>
                  <a:srgbClr val="351c75"/>
                </a:solidFill>
                <a:latin typeface="Arial"/>
              </a:rPr>
              <a:t>proces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701880" y="1422360"/>
            <a:ext cx="28004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rick-breaking!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482920" y="6502320"/>
            <a:ext cx="552276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Q:  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ow many breaks are needed to fully separate the piece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22360" y="2844720"/>
            <a:ext cx="7445520" cy="30304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701880" y="1930320"/>
            <a:ext cx="280044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of chocolate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